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F60E-8348-446A-BBEF-166E369F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0E39-17B0-46E6-A7A5-4C685029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0B47-106A-405F-9564-141915E2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1BDB-8E71-44B4-9F88-43BC0B5F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3224-065B-400A-B7EF-DBFEE357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718E-983E-40B5-9321-B54F79C6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0D79-6B4A-4EA2-969B-DC45B6CB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952E-F969-4D22-8D72-61A4E5AE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11B5-D585-40DB-B789-8C205E19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E621-DAC9-4B72-9934-7C84CA5D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186C-9F1B-4D64-9F09-657F35EF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FC9F-719A-41D6-9D60-CE6CFA45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BD18-AEC0-4A09-B9E4-D4D2F9479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798" t="5801" r="12441" b="38583"/>
          <a:stretch/>
        </p:blipFill>
        <p:spPr>
          <a:xfrm>
            <a:off x="0" y="0"/>
            <a:ext cx="7524720" cy="6796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4120" y="4106880"/>
            <a:ext cx="258840" cy="260280"/>
          </a:xfrm>
          <a:custGeom>
            <a:avLst/>
            <a:gdLst/>
            <a:ahLst/>
            <a:rect l="l" t="t" r="r" b="b"/>
            <a:pathLst>
              <a:path w="720" h="720">
                <a:moveTo>
                  <a:pt x="1091" y="11658"/>
                </a:moveTo>
                <a:cubicBezTo>
                  <a:pt x="1091" y="11666"/>
                  <a:pt x="1091" y="11675"/>
                  <a:pt x="1091" y="11683"/>
                </a:cubicBezTo>
                <a:cubicBezTo>
                  <a:pt x="1051" y="11669"/>
                  <a:pt x="1061" y="11643"/>
                  <a:pt x="1091" y="11609"/>
                </a:cubicBezTo>
                <a:cubicBezTo>
                  <a:pt x="1151" y="11541"/>
                  <a:pt x="1215" y="11552"/>
                  <a:pt x="1290" y="11584"/>
                </a:cubicBezTo>
                <a:cubicBezTo>
                  <a:pt x="1378" y="11622"/>
                  <a:pt x="1390" y="11696"/>
                  <a:pt x="1315" y="11757"/>
                </a:cubicBezTo>
                <a:cubicBezTo>
                  <a:pt x="1247" y="11812"/>
                  <a:pt x="1172" y="11807"/>
                  <a:pt x="1091" y="11807"/>
                </a:cubicBezTo>
              </a:path>
              <a:path w="720" h="720">
                <a:moveTo>
                  <a:pt x="1439" y="11435"/>
                </a:moveTo>
                <a:cubicBezTo>
                  <a:pt x="1538" y="11415"/>
                  <a:pt x="1553" y="11407"/>
                  <a:pt x="1612" y="11410"/>
                </a:cubicBezTo>
                <a:cubicBezTo>
                  <a:pt x="1612" y="11486"/>
                  <a:pt x="1576" y="11516"/>
                  <a:pt x="1538" y="11584"/>
                </a:cubicBezTo>
                <a:cubicBezTo>
                  <a:pt x="1468" y="11711"/>
                  <a:pt x="1389" y="11828"/>
                  <a:pt x="1315" y="11956"/>
                </a:cubicBezTo>
                <a:cubicBezTo>
                  <a:pt x="1310" y="11964"/>
                  <a:pt x="1201" y="12099"/>
                  <a:pt x="1240" y="12129"/>
                </a:cubicBezTo>
                <a:cubicBezTo>
                  <a:pt x="1248" y="12129"/>
                  <a:pt x="1257" y="12129"/>
                  <a:pt x="1265" y="12129"/>
                </a:cubicBezTo>
              </a:path>
              <a:path w="720" h="720">
                <a:moveTo>
                  <a:pt x="1588" y="12005"/>
                </a:moveTo>
                <a:cubicBezTo>
                  <a:pt x="1595" y="11985"/>
                  <a:pt x="1609" y="11951"/>
                  <a:pt x="1637" y="11931"/>
                </a:cubicBezTo>
                <a:cubicBezTo>
                  <a:pt x="1692" y="11893"/>
                  <a:pt x="1726" y="11902"/>
                  <a:pt x="1761" y="11956"/>
                </a:cubicBezTo>
                <a:cubicBezTo>
                  <a:pt x="1781" y="11996"/>
                  <a:pt x="1790" y="12002"/>
                  <a:pt x="1786" y="12030"/>
                </a:cubicBezTo>
                <a:cubicBezTo>
                  <a:pt x="1716" y="12070"/>
                  <a:pt x="1695" y="12080"/>
                  <a:pt x="1612" y="12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1800" y="4214880"/>
            <a:ext cx="81000" cy="90360"/>
          </a:xfrm>
          <a:custGeom>
            <a:avLst/>
            <a:gdLst/>
            <a:ahLst/>
            <a:rect l="l" t="t" r="r" b="b"/>
            <a:pathLst>
              <a:path w="225" h="249">
                <a:moveTo>
                  <a:pt x="2704" y="11708"/>
                </a:moveTo>
                <a:cubicBezTo>
                  <a:pt x="2712" y="11708"/>
                  <a:pt x="2721" y="11708"/>
                  <a:pt x="2729" y="11708"/>
                </a:cubicBezTo>
                <a:cubicBezTo>
                  <a:pt x="2715" y="11751"/>
                  <a:pt x="2658" y="11753"/>
                  <a:pt x="2604" y="11757"/>
                </a:cubicBezTo>
                <a:cubicBezTo>
                  <a:pt x="2556" y="11761"/>
                  <a:pt x="2544" y="11759"/>
                  <a:pt x="2505" y="11782"/>
                </a:cubicBezTo>
              </a:path>
              <a:path w="225" h="249">
                <a:moveTo>
                  <a:pt x="2704" y="11881"/>
                </a:moveTo>
                <a:cubicBezTo>
                  <a:pt x="2727" y="11904"/>
                  <a:pt x="2735" y="11908"/>
                  <a:pt x="2729" y="11931"/>
                </a:cubicBezTo>
                <a:cubicBezTo>
                  <a:pt x="2664" y="11931"/>
                  <a:pt x="2618" y="11948"/>
                  <a:pt x="2555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51000" y="3946680"/>
            <a:ext cx="874800" cy="590400"/>
          </a:xfrm>
          <a:custGeom>
            <a:avLst/>
            <a:gdLst/>
            <a:ahLst/>
            <a:rect l="l" t="t" r="r" b="b"/>
            <a:pathLst>
              <a:path w="2432" h="1638">
                <a:moveTo>
                  <a:pt x="3746" y="11361"/>
                </a:moveTo>
                <a:cubicBezTo>
                  <a:pt x="3774" y="11332"/>
                  <a:pt x="3786" y="11322"/>
                  <a:pt x="3795" y="11286"/>
                </a:cubicBezTo>
                <a:cubicBezTo>
                  <a:pt x="3733" y="11286"/>
                  <a:pt x="3676" y="11277"/>
                  <a:pt x="3621" y="11311"/>
                </a:cubicBezTo>
                <a:cubicBezTo>
                  <a:pt x="3567" y="11344"/>
                  <a:pt x="3507" y="11417"/>
                  <a:pt x="3522" y="11485"/>
                </a:cubicBezTo>
                <a:cubicBezTo>
                  <a:pt x="3545" y="11588"/>
                  <a:pt x="3603" y="11605"/>
                  <a:pt x="3696" y="11609"/>
                </a:cubicBezTo>
                <a:cubicBezTo>
                  <a:pt x="3755" y="11609"/>
                  <a:pt x="3781" y="11606"/>
                  <a:pt x="3820" y="11584"/>
                </a:cubicBezTo>
              </a:path>
              <a:path w="2432" h="1638">
                <a:moveTo>
                  <a:pt x="4093" y="11112"/>
                </a:moveTo>
                <a:cubicBezTo>
                  <a:pt x="4110" y="11057"/>
                  <a:pt x="4111" y="11006"/>
                  <a:pt x="4142" y="10964"/>
                </a:cubicBezTo>
                <a:cubicBezTo>
                  <a:pt x="4119" y="10972"/>
                  <a:pt x="4098" y="11025"/>
                  <a:pt x="4093" y="11063"/>
                </a:cubicBezTo>
                <a:cubicBezTo>
                  <a:pt x="4078" y="11171"/>
                  <a:pt x="4068" y="11274"/>
                  <a:pt x="4068" y="11385"/>
                </a:cubicBezTo>
                <a:cubicBezTo>
                  <a:pt x="4068" y="11440"/>
                  <a:pt x="4047" y="11519"/>
                  <a:pt x="4093" y="11534"/>
                </a:cubicBezTo>
                <a:cubicBezTo>
                  <a:pt x="4126" y="11468"/>
                  <a:pt x="4159" y="11402"/>
                  <a:pt x="4192" y="11336"/>
                </a:cubicBezTo>
                <a:cubicBezTo>
                  <a:pt x="4214" y="11292"/>
                  <a:pt x="4217" y="11280"/>
                  <a:pt x="4242" y="11261"/>
                </a:cubicBezTo>
                <a:cubicBezTo>
                  <a:pt x="4297" y="11318"/>
                  <a:pt x="4310" y="11362"/>
                  <a:pt x="4341" y="11435"/>
                </a:cubicBezTo>
                <a:cubicBezTo>
                  <a:pt x="4363" y="11485"/>
                  <a:pt x="4366" y="11505"/>
                  <a:pt x="4366" y="11559"/>
                </a:cubicBezTo>
              </a:path>
              <a:path w="2432" h="1638">
                <a:moveTo>
                  <a:pt x="4589" y="11286"/>
                </a:moveTo>
                <a:cubicBezTo>
                  <a:pt x="4589" y="11261"/>
                  <a:pt x="4589" y="11253"/>
                  <a:pt x="4589" y="11237"/>
                </a:cubicBezTo>
                <a:cubicBezTo>
                  <a:pt x="4532" y="11259"/>
                  <a:pt x="4490" y="11299"/>
                  <a:pt x="4465" y="11361"/>
                </a:cubicBezTo>
                <a:cubicBezTo>
                  <a:pt x="4435" y="11435"/>
                  <a:pt x="4419" y="11499"/>
                  <a:pt x="4490" y="11534"/>
                </a:cubicBezTo>
                <a:cubicBezTo>
                  <a:pt x="4512" y="11523"/>
                  <a:pt x="4574" y="11469"/>
                  <a:pt x="4589" y="11435"/>
                </a:cubicBezTo>
                <a:cubicBezTo>
                  <a:pt x="4589" y="11410"/>
                  <a:pt x="4589" y="11402"/>
                  <a:pt x="4614" y="11410"/>
                </a:cubicBezTo>
                <a:cubicBezTo>
                  <a:pt x="4641" y="11444"/>
                  <a:pt x="4696" y="11495"/>
                  <a:pt x="4713" y="11534"/>
                </a:cubicBezTo>
                <a:cubicBezTo>
                  <a:pt x="4713" y="11542"/>
                  <a:pt x="4713" y="11551"/>
                  <a:pt x="4713" y="11559"/>
                </a:cubicBezTo>
              </a:path>
              <a:path w="2432" h="1638">
                <a:moveTo>
                  <a:pt x="4762" y="11435"/>
                </a:moveTo>
                <a:cubicBezTo>
                  <a:pt x="4790" y="11444"/>
                  <a:pt x="4807" y="11469"/>
                  <a:pt x="4812" y="11509"/>
                </a:cubicBezTo>
                <a:cubicBezTo>
                  <a:pt x="4820" y="11581"/>
                  <a:pt x="4812" y="11436"/>
                  <a:pt x="4812" y="11435"/>
                </a:cubicBezTo>
                <a:cubicBezTo>
                  <a:pt x="4812" y="11387"/>
                  <a:pt x="4836" y="11318"/>
                  <a:pt x="4887" y="11311"/>
                </a:cubicBezTo>
                <a:cubicBezTo>
                  <a:pt x="4946" y="11302"/>
                  <a:pt x="4995" y="11324"/>
                  <a:pt x="5011" y="11385"/>
                </a:cubicBezTo>
                <a:cubicBezTo>
                  <a:pt x="5023" y="11431"/>
                  <a:pt x="5035" y="11484"/>
                  <a:pt x="5035" y="11534"/>
                </a:cubicBezTo>
              </a:path>
              <a:path w="2432" h="1638">
                <a:moveTo>
                  <a:pt x="5283" y="11311"/>
                </a:moveTo>
                <a:cubicBezTo>
                  <a:pt x="5283" y="11270"/>
                  <a:pt x="5283" y="11262"/>
                  <a:pt x="5283" y="11237"/>
                </a:cubicBezTo>
                <a:cubicBezTo>
                  <a:pt x="5240" y="11280"/>
                  <a:pt x="5219" y="11325"/>
                  <a:pt x="5209" y="11385"/>
                </a:cubicBezTo>
                <a:cubicBezTo>
                  <a:pt x="5200" y="11438"/>
                  <a:pt x="5245" y="11506"/>
                  <a:pt x="5308" y="11485"/>
                </a:cubicBezTo>
                <a:cubicBezTo>
                  <a:pt x="5375" y="11462"/>
                  <a:pt x="5414" y="11458"/>
                  <a:pt x="5432" y="11559"/>
                </a:cubicBezTo>
                <a:cubicBezTo>
                  <a:pt x="5451" y="11667"/>
                  <a:pt x="5429" y="11753"/>
                  <a:pt x="5358" y="11832"/>
                </a:cubicBezTo>
                <a:cubicBezTo>
                  <a:pt x="5300" y="11896"/>
                  <a:pt x="5263" y="11881"/>
                  <a:pt x="5184" y="11881"/>
                </a:cubicBezTo>
              </a:path>
              <a:path w="2432" h="1638">
                <a:moveTo>
                  <a:pt x="5308" y="11509"/>
                </a:moveTo>
                <a:cubicBezTo>
                  <a:pt x="5400" y="11474"/>
                  <a:pt x="5547" y="11441"/>
                  <a:pt x="5631" y="11385"/>
                </a:cubicBezTo>
                <a:cubicBezTo>
                  <a:pt x="5672" y="11344"/>
                  <a:pt x="5680" y="11336"/>
                  <a:pt x="5705" y="11311"/>
                </a:cubicBezTo>
                <a:cubicBezTo>
                  <a:pt x="5653" y="11248"/>
                  <a:pt x="5607" y="11230"/>
                  <a:pt x="5556" y="11311"/>
                </a:cubicBezTo>
                <a:cubicBezTo>
                  <a:pt x="5501" y="11399"/>
                  <a:pt x="5550" y="11524"/>
                  <a:pt x="5631" y="11584"/>
                </a:cubicBezTo>
                <a:cubicBezTo>
                  <a:pt x="5728" y="11657"/>
                  <a:pt x="5830" y="11592"/>
                  <a:pt x="5904" y="11534"/>
                </a:cubicBezTo>
              </a:path>
              <a:path w="2432" h="1638">
                <a:moveTo>
                  <a:pt x="5804" y="11881"/>
                </a:moveTo>
                <a:cubicBezTo>
                  <a:pt x="5763" y="11881"/>
                  <a:pt x="5771" y="11881"/>
                  <a:pt x="5730" y="11881"/>
                </a:cubicBezTo>
                <a:cubicBezTo>
                  <a:pt x="5618" y="11881"/>
                  <a:pt x="5512" y="11870"/>
                  <a:pt x="5407" y="11857"/>
                </a:cubicBezTo>
                <a:cubicBezTo>
                  <a:pt x="5292" y="11843"/>
                  <a:pt x="5170" y="11846"/>
                  <a:pt x="5060" y="11832"/>
                </a:cubicBezTo>
                <a:cubicBezTo>
                  <a:pt x="4953" y="11818"/>
                  <a:pt x="4846" y="11793"/>
                  <a:pt x="4738" y="11782"/>
                </a:cubicBezTo>
                <a:cubicBezTo>
                  <a:pt x="4643" y="11772"/>
                  <a:pt x="4556" y="11777"/>
                  <a:pt x="4465" y="11757"/>
                </a:cubicBezTo>
                <a:cubicBezTo>
                  <a:pt x="4356" y="11733"/>
                  <a:pt x="4255" y="11712"/>
                  <a:pt x="4142" y="11708"/>
                </a:cubicBezTo>
                <a:cubicBezTo>
                  <a:pt x="4048" y="11705"/>
                  <a:pt x="3966" y="11683"/>
                  <a:pt x="3870" y="11683"/>
                </a:cubicBezTo>
                <a:cubicBezTo>
                  <a:pt x="3787" y="11683"/>
                  <a:pt x="3722" y="11695"/>
                  <a:pt x="3646" y="11708"/>
                </a:cubicBezTo>
                <a:cubicBezTo>
                  <a:pt x="3598" y="11716"/>
                  <a:pt x="3541" y="11733"/>
                  <a:pt x="3497" y="11757"/>
                </a:cubicBezTo>
                <a:cubicBezTo>
                  <a:pt x="3497" y="11782"/>
                  <a:pt x="3497" y="11790"/>
                  <a:pt x="3473" y="11782"/>
                </a:cubicBezTo>
              </a:path>
              <a:path w="2432" h="1638">
                <a:moveTo>
                  <a:pt x="3944" y="12427"/>
                </a:moveTo>
                <a:cubicBezTo>
                  <a:pt x="3905" y="12376"/>
                  <a:pt x="3925" y="12372"/>
                  <a:pt x="3969" y="12328"/>
                </a:cubicBezTo>
                <a:cubicBezTo>
                  <a:pt x="4020" y="12277"/>
                  <a:pt x="4078" y="12299"/>
                  <a:pt x="4118" y="12353"/>
                </a:cubicBezTo>
                <a:cubicBezTo>
                  <a:pt x="4159" y="12407"/>
                  <a:pt x="4142" y="12487"/>
                  <a:pt x="4142" y="12551"/>
                </a:cubicBezTo>
                <a:cubicBezTo>
                  <a:pt x="4077" y="12551"/>
                  <a:pt x="4044" y="12549"/>
                  <a:pt x="3994" y="12502"/>
                </a:cubicBezTo>
                <a:cubicBezTo>
                  <a:pt x="3977" y="12485"/>
                  <a:pt x="3961" y="12469"/>
                  <a:pt x="3944" y="12452"/>
                </a:cubicBezTo>
              </a:path>
              <a:path w="2432" h="1638">
                <a:moveTo>
                  <a:pt x="4440" y="12154"/>
                </a:moveTo>
                <a:cubicBezTo>
                  <a:pt x="4504" y="12081"/>
                  <a:pt x="4490" y="12062"/>
                  <a:pt x="4490" y="12154"/>
                </a:cubicBezTo>
                <a:cubicBezTo>
                  <a:pt x="4490" y="12244"/>
                  <a:pt x="4465" y="12331"/>
                  <a:pt x="4465" y="12427"/>
                </a:cubicBezTo>
                <a:cubicBezTo>
                  <a:pt x="4465" y="12485"/>
                  <a:pt x="4462" y="12505"/>
                  <a:pt x="4490" y="12551"/>
                </a:cubicBezTo>
              </a:path>
              <a:path w="2432" h="1638">
                <a:moveTo>
                  <a:pt x="4762" y="12427"/>
                </a:moveTo>
                <a:cubicBezTo>
                  <a:pt x="4740" y="12358"/>
                  <a:pt x="4710" y="12447"/>
                  <a:pt x="4688" y="12477"/>
                </a:cubicBezTo>
                <a:cubicBezTo>
                  <a:pt x="4660" y="12505"/>
                  <a:pt x="4651" y="12518"/>
                  <a:pt x="4663" y="12551"/>
                </a:cubicBezTo>
                <a:cubicBezTo>
                  <a:pt x="4767" y="12595"/>
                  <a:pt x="4795" y="12535"/>
                  <a:pt x="4837" y="12427"/>
                </a:cubicBezTo>
                <a:cubicBezTo>
                  <a:pt x="4893" y="12282"/>
                  <a:pt x="4911" y="12159"/>
                  <a:pt x="4911" y="12005"/>
                </a:cubicBezTo>
                <a:cubicBezTo>
                  <a:pt x="4911" y="11997"/>
                  <a:pt x="4911" y="11989"/>
                  <a:pt x="4911" y="11981"/>
                </a:cubicBezTo>
                <a:cubicBezTo>
                  <a:pt x="4866" y="12012"/>
                  <a:pt x="4880" y="12187"/>
                  <a:pt x="4887" y="12254"/>
                </a:cubicBezTo>
                <a:cubicBezTo>
                  <a:pt x="4903" y="12401"/>
                  <a:pt x="4940" y="12493"/>
                  <a:pt x="5035" y="12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16120" y="4197240"/>
            <a:ext cx="98640" cy="98640"/>
          </a:xfrm>
          <a:custGeom>
            <a:avLst/>
            <a:gdLst/>
            <a:ahLst/>
            <a:rect l="l" t="t" r="r" b="b"/>
            <a:pathLst>
              <a:path w="274" h="274">
                <a:moveTo>
                  <a:pt x="7466" y="11658"/>
                </a:moveTo>
                <a:cubicBezTo>
                  <a:pt x="7474" y="11658"/>
                  <a:pt x="7483" y="11658"/>
                  <a:pt x="7491" y="11658"/>
                </a:cubicBezTo>
                <a:cubicBezTo>
                  <a:pt x="7449" y="11658"/>
                  <a:pt x="7426" y="11668"/>
                  <a:pt x="7392" y="11683"/>
                </a:cubicBezTo>
                <a:cubicBezTo>
                  <a:pt x="7382" y="11687"/>
                  <a:pt x="7287" y="11732"/>
                  <a:pt x="7268" y="11708"/>
                </a:cubicBezTo>
                <a:cubicBezTo>
                  <a:pt x="7268" y="11700"/>
                  <a:pt x="7268" y="11691"/>
                  <a:pt x="7268" y="11683"/>
                </a:cubicBezTo>
              </a:path>
              <a:path w="274" h="274">
                <a:moveTo>
                  <a:pt x="7516" y="11881"/>
                </a:moveTo>
                <a:cubicBezTo>
                  <a:pt x="7524" y="11881"/>
                  <a:pt x="7533" y="11881"/>
                  <a:pt x="7541" y="11881"/>
                </a:cubicBezTo>
                <a:cubicBezTo>
                  <a:pt x="7489" y="11881"/>
                  <a:pt x="7412" y="11885"/>
                  <a:pt x="7367" y="11906"/>
                </a:cubicBezTo>
                <a:cubicBezTo>
                  <a:pt x="7359" y="11914"/>
                  <a:pt x="7350" y="11923"/>
                  <a:pt x="7342" y="11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5080" y="3911760"/>
            <a:ext cx="617760" cy="544320"/>
          </a:xfrm>
          <a:custGeom>
            <a:avLst/>
            <a:gdLst/>
            <a:ahLst/>
            <a:rect l="l" t="t" r="r" b="b"/>
            <a:pathLst>
              <a:path w="1712" h="1515">
                <a:moveTo>
                  <a:pt x="9178" y="11237"/>
                </a:moveTo>
                <a:cubicBezTo>
                  <a:pt x="9120" y="11237"/>
                  <a:pt x="9083" y="11237"/>
                  <a:pt x="9029" y="11261"/>
                </a:cubicBezTo>
                <a:cubicBezTo>
                  <a:pt x="8979" y="11283"/>
                  <a:pt x="8947" y="11286"/>
                  <a:pt x="8905" y="11311"/>
                </a:cubicBezTo>
              </a:path>
              <a:path w="1712" h="1515">
                <a:moveTo>
                  <a:pt x="9599" y="10939"/>
                </a:moveTo>
                <a:cubicBezTo>
                  <a:pt x="9599" y="10914"/>
                  <a:pt x="9599" y="10906"/>
                  <a:pt x="9575" y="10914"/>
                </a:cubicBezTo>
                <a:cubicBezTo>
                  <a:pt x="9575" y="11040"/>
                  <a:pt x="9563" y="11175"/>
                  <a:pt x="9599" y="11286"/>
                </a:cubicBezTo>
                <a:cubicBezTo>
                  <a:pt x="9599" y="11294"/>
                  <a:pt x="9599" y="11303"/>
                  <a:pt x="9599" y="11311"/>
                </a:cubicBezTo>
              </a:path>
              <a:path w="1712" h="1515">
                <a:moveTo>
                  <a:pt x="10120" y="10889"/>
                </a:moveTo>
                <a:cubicBezTo>
                  <a:pt x="10102" y="10834"/>
                  <a:pt x="10085" y="10876"/>
                  <a:pt x="10046" y="10889"/>
                </a:cubicBezTo>
                <a:cubicBezTo>
                  <a:pt x="10007" y="10902"/>
                  <a:pt x="10020" y="10929"/>
                  <a:pt x="9996" y="10964"/>
                </a:cubicBezTo>
                <a:cubicBezTo>
                  <a:pt x="9965" y="11009"/>
                  <a:pt x="9952" y="11029"/>
                  <a:pt x="9947" y="11088"/>
                </a:cubicBezTo>
                <a:cubicBezTo>
                  <a:pt x="9943" y="11132"/>
                  <a:pt x="9922" y="11159"/>
                  <a:pt x="9922" y="11212"/>
                </a:cubicBezTo>
                <a:cubicBezTo>
                  <a:pt x="9922" y="11243"/>
                  <a:pt x="9966" y="11297"/>
                  <a:pt x="9996" y="11311"/>
                </a:cubicBezTo>
                <a:cubicBezTo>
                  <a:pt x="10034" y="11328"/>
                  <a:pt x="10095" y="11309"/>
                  <a:pt x="10120" y="11286"/>
                </a:cubicBezTo>
                <a:cubicBezTo>
                  <a:pt x="10149" y="11260"/>
                  <a:pt x="10186" y="11254"/>
                  <a:pt x="10195" y="11212"/>
                </a:cubicBezTo>
                <a:cubicBezTo>
                  <a:pt x="10201" y="11185"/>
                  <a:pt x="10195" y="11142"/>
                  <a:pt x="10195" y="11112"/>
                </a:cubicBezTo>
                <a:cubicBezTo>
                  <a:pt x="10124" y="11112"/>
                  <a:pt x="10168" y="11135"/>
                  <a:pt x="10096" y="11162"/>
                </a:cubicBezTo>
                <a:cubicBezTo>
                  <a:pt x="10068" y="11162"/>
                  <a:pt x="10057" y="11164"/>
                  <a:pt x="10046" y="11187"/>
                </a:cubicBezTo>
              </a:path>
              <a:path w="1712" h="1515">
                <a:moveTo>
                  <a:pt x="10542" y="11584"/>
                </a:moveTo>
                <a:cubicBezTo>
                  <a:pt x="10506" y="11596"/>
                  <a:pt x="10502" y="11609"/>
                  <a:pt x="10443" y="11609"/>
                </a:cubicBezTo>
                <a:cubicBezTo>
                  <a:pt x="10349" y="11609"/>
                  <a:pt x="10268" y="11584"/>
                  <a:pt x="10170" y="11584"/>
                </a:cubicBezTo>
                <a:cubicBezTo>
                  <a:pt x="10085" y="11584"/>
                  <a:pt x="10010" y="11609"/>
                  <a:pt x="9922" y="11609"/>
                </a:cubicBezTo>
                <a:cubicBezTo>
                  <a:pt x="9853" y="11609"/>
                  <a:pt x="9759" y="11621"/>
                  <a:pt x="9699" y="11658"/>
                </a:cubicBezTo>
                <a:cubicBezTo>
                  <a:pt x="9660" y="11682"/>
                  <a:pt x="9609" y="11702"/>
                  <a:pt x="9599" y="11733"/>
                </a:cubicBezTo>
              </a:path>
              <a:path w="1712" h="1515">
                <a:moveTo>
                  <a:pt x="9922" y="11857"/>
                </a:moveTo>
                <a:cubicBezTo>
                  <a:pt x="9960" y="11819"/>
                  <a:pt x="9971" y="11810"/>
                  <a:pt x="9971" y="11757"/>
                </a:cubicBezTo>
                <a:cubicBezTo>
                  <a:pt x="9903" y="11807"/>
                  <a:pt x="9832" y="11897"/>
                  <a:pt x="9798" y="11981"/>
                </a:cubicBezTo>
                <a:cubicBezTo>
                  <a:pt x="9758" y="12080"/>
                  <a:pt x="9754" y="12263"/>
                  <a:pt x="9823" y="12353"/>
                </a:cubicBezTo>
                <a:cubicBezTo>
                  <a:pt x="9859" y="12400"/>
                  <a:pt x="9976" y="12385"/>
                  <a:pt x="9996" y="12328"/>
                </a:cubicBezTo>
                <a:cubicBezTo>
                  <a:pt x="10014" y="12276"/>
                  <a:pt x="9999" y="12191"/>
                  <a:pt x="9947" y="12179"/>
                </a:cubicBezTo>
                <a:cubicBezTo>
                  <a:pt x="9874" y="12163"/>
                  <a:pt x="9859" y="12208"/>
                  <a:pt x="9798" y="12229"/>
                </a:cubicBezTo>
                <a:cubicBezTo>
                  <a:pt x="9790" y="12229"/>
                  <a:pt x="9781" y="12229"/>
                  <a:pt x="9773" y="12229"/>
                </a:cubicBezTo>
              </a:path>
              <a:path w="1712" h="1515">
                <a:moveTo>
                  <a:pt x="10195" y="11981"/>
                </a:moveTo>
                <a:cubicBezTo>
                  <a:pt x="10168" y="11945"/>
                  <a:pt x="10150" y="11899"/>
                  <a:pt x="10195" y="11857"/>
                </a:cubicBezTo>
                <a:cubicBezTo>
                  <a:pt x="10222" y="11832"/>
                  <a:pt x="10362" y="11808"/>
                  <a:pt x="10393" y="11832"/>
                </a:cubicBezTo>
                <a:cubicBezTo>
                  <a:pt x="10441" y="11869"/>
                  <a:pt x="10465" y="12003"/>
                  <a:pt x="10443" y="12055"/>
                </a:cubicBezTo>
                <a:cubicBezTo>
                  <a:pt x="10408" y="12139"/>
                  <a:pt x="10327" y="12220"/>
                  <a:pt x="10294" y="12303"/>
                </a:cubicBezTo>
                <a:cubicBezTo>
                  <a:pt x="10294" y="12311"/>
                  <a:pt x="10294" y="12320"/>
                  <a:pt x="10294" y="12328"/>
                </a:cubicBezTo>
                <a:cubicBezTo>
                  <a:pt x="10350" y="12328"/>
                  <a:pt x="10392" y="12310"/>
                  <a:pt x="10443" y="12303"/>
                </a:cubicBezTo>
                <a:cubicBezTo>
                  <a:pt x="10506" y="12295"/>
                  <a:pt x="10555" y="12286"/>
                  <a:pt x="10616" y="122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89240" y="4106880"/>
            <a:ext cx="71640" cy="7308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11460" y="11410"/>
                </a:moveTo>
                <a:cubicBezTo>
                  <a:pt x="11485" y="11410"/>
                  <a:pt x="11509" y="11410"/>
                  <a:pt x="11534" y="11410"/>
                </a:cubicBezTo>
                <a:cubicBezTo>
                  <a:pt x="11498" y="11410"/>
                  <a:pt x="11462" y="11417"/>
                  <a:pt x="11435" y="11435"/>
                </a:cubicBezTo>
                <a:cubicBezTo>
                  <a:pt x="11403" y="11456"/>
                  <a:pt x="11391" y="11462"/>
                  <a:pt x="11361" y="11485"/>
                </a:cubicBezTo>
              </a:path>
              <a:path w="199" h="200">
                <a:moveTo>
                  <a:pt x="11534" y="11559"/>
                </a:moveTo>
                <a:cubicBezTo>
                  <a:pt x="11542" y="11559"/>
                  <a:pt x="11551" y="11559"/>
                  <a:pt x="11559" y="11559"/>
                </a:cubicBezTo>
                <a:cubicBezTo>
                  <a:pt x="11548" y="11591"/>
                  <a:pt x="11525" y="11599"/>
                  <a:pt x="11485" y="116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45000" y="3803760"/>
            <a:ext cx="1152360" cy="428400"/>
          </a:xfrm>
          <a:custGeom>
            <a:avLst/>
            <a:gdLst/>
            <a:ahLst/>
            <a:rect l="l" t="t" r="r" b="b"/>
            <a:pathLst>
              <a:path w="3200" h="1191">
                <a:moveTo>
                  <a:pt x="12626" y="11187"/>
                </a:moveTo>
                <a:cubicBezTo>
                  <a:pt x="12665" y="11157"/>
                  <a:pt x="12707" y="11144"/>
                  <a:pt x="12750" y="11112"/>
                </a:cubicBezTo>
                <a:cubicBezTo>
                  <a:pt x="12781" y="11089"/>
                  <a:pt x="12856" y="11068"/>
                  <a:pt x="12898" y="11088"/>
                </a:cubicBezTo>
                <a:cubicBezTo>
                  <a:pt x="12975" y="11126"/>
                  <a:pt x="12942" y="11206"/>
                  <a:pt x="12923" y="11261"/>
                </a:cubicBezTo>
                <a:cubicBezTo>
                  <a:pt x="12884" y="11372"/>
                  <a:pt x="12802" y="11437"/>
                  <a:pt x="12750" y="11534"/>
                </a:cubicBezTo>
                <a:cubicBezTo>
                  <a:pt x="12728" y="11574"/>
                  <a:pt x="12709" y="11639"/>
                  <a:pt x="12700" y="11683"/>
                </a:cubicBezTo>
                <a:cubicBezTo>
                  <a:pt x="12761" y="11728"/>
                  <a:pt x="12780" y="11695"/>
                  <a:pt x="12849" y="11683"/>
                </a:cubicBezTo>
                <a:cubicBezTo>
                  <a:pt x="12904" y="11674"/>
                  <a:pt x="12970" y="11662"/>
                  <a:pt x="13022" y="11658"/>
                </a:cubicBezTo>
                <a:cubicBezTo>
                  <a:pt x="13039" y="11658"/>
                  <a:pt x="13055" y="11658"/>
                  <a:pt x="13072" y="11658"/>
                </a:cubicBezTo>
              </a:path>
              <a:path w="3200" h="1191">
                <a:moveTo>
                  <a:pt x="13370" y="11137"/>
                </a:moveTo>
                <a:cubicBezTo>
                  <a:pt x="13411" y="11096"/>
                  <a:pt x="13435" y="11072"/>
                  <a:pt x="13395" y="11112"/>
                </a:cubicBezTo>
                <a:cubicBezTo>
                  <a:pt x="13353" y="11154"/>
                  <a:pt x="13285" y="11200"/>
                  <a:pt x="13271" y="11261"/>
                </a:cubicBezTo>
                <a:cubicBezTo>
                  <a:pt x="13253" y="11339"/>
                  <a:pt x="13335" y="11352"/>
                  <a:pt x="13395" y="11361"/>
                </a:cubicBezTo>
                <a:cubicBezTo>
                  <a:pt x="13466" y="11372"/>
                  <a:pt x="13553" y="11355"/>
                  <a:pt x="13618" y="11385"/>
                </a:cubicBezTo>
                <a:cubicBezTo>
                  <a:pt x="13670" y="11409"/>
                  <a:pt x="13641" y="11480"/>
                  <a:pt x="13618" y="11509"/>
                </a:cubicBezTo>
                <a:cubicBezTo>
                  <a:pt x="13574" y="11563"/>
                  <a:pt x="13507" y="11576"/>
                  <a:pt x="13444" y="11584"/>
                </a:cubicBezTo>
              </a:path>
              <a:path w="3200" h="1191">
                <a:moveTo>
                  <a:pt x="13717" y="11013"/>
                </a:moveTo>
                <a:cubicBezTo>
                  <a:pt x="13717" y="11005"/>
                  <a:pt x="13717" y="10996"/>
                  <a:pt x="13717" y="10988"/>
                </a:cubicBezTo>
                <a:cubicBezTo>
                  <a:pt x="13674" y="10988"/>
                  <a:pt x="13632" y="10999"/>
                  <a:pt x="13593" y="11013"/>
                </a:cubicBezTo>
                <a:cubicBezTo>
                  <a:pt x="13534" y="11034"/>
                  <a:pt x="13506" y="11055"/>
                  <a:pt x="13444" y="11063"/>
                </a:cubicBezTo>
              </a:path>
              <a:path w="3200" h="1191">
                <a:moveTo>
                  <a:pt x="14015" y="11509"/>
                </a:moveTo>
                <a:cubicBezTo>
                  <a:pt x="14007" y="11517"/>
                  <a:pt x="13998" y="11526"/>
                  <a:pt x="13990" y="11534"/>
                </a:cubicBezTo>
              </a:path>
              <a:path w="3200" h="1191">
                <a:moveTo>
                  <a:pt x="14610" y="11038"/>
                </a:moveTo>
                <a:cubicBezTo>
                  <a:pt x="14618" y="11038"/>
                  <a:pt x="14702" y="11038"/>
                  <a:pt x="14635" y="11038"/>
                </a:cubicBezTo>
                <a:cubicBezTo>
                  <a:pt x="14551" y="11038"/>
                  <a:pt x="14511" y="11051"/>
                  <a:pt x="14436" y="11088"/>
                </a:cubicBezTo>
                <a:cubicBezTo>
                  <a:pt x="14385" y="11113"/>
                  <a:pt x="14334" y="11171"/>
                  <a:pt x="14362" y="11237"/>
                </a:cubicBezTo>
                <a:cubicBezTo>
                  <a:pt x="14385" y="11292"/>
                  <a:pt x="14490" y="11290"/>
                  <a:pt x="14536" y="11311"/>
                </a:cubicBezTo>
                <a:cubicBezTo>
                  <a:pt x="14608" y="11343"/>
                  <a:pt x="14666" y="11376"/>
                  <a:pt x="14684" y="11460"/>
                </a:cubicBezTo>
                <a:cubicBezTo>
                  <a:pt x="14702" y="11543"/>
                  <a:pt x="14622" y="11556"/>
                  <a:pt x="14560" y="11559"/>
                </a:cubicBezTo>
                <a:cubicBezTo>
                  <a:pt x="14499" y="11562"/>
                  <a:pt x="14444" y="11560"/>
                  <a:pt x="14436" y="11485"/>
                </a:cubicBezTo>
                <a:cubicBezTo>
                  <a:pt x="14424" y="11363"/>
                  <a:pt x="14532" y="11268"/>
                  <a:pt x="14610" y="11187"/>
                </a:cubicBezTo>
                <a:cubicBezTo>
                  <a:pt x="14658" y="11137"/>
                  <a:pt x="14737" y="11046"/>
                  <a:pt x="14808" y="11038"/>
                </a:cubicBezTo>
                <a:cubicBezTo>
                  <a:pt x="14816" y="11038"/>
                  <a:pt x="14825" y="11038"/>
                  <a:pt x="14833" y="11038"/>
                </a:cubicBezTo>
              </a:path>
              <a:path w="3200" h="1191">
                <a:moveTo>
                  <a:pt x="15156" y="10988"/>
                </a:moveTo>
                <a:cubicBezTo>
                  <a:pt x="15117" y="10938"/>
                  <a:pt x="15136" y="10933"/>
                  <a:pt x="15180" y="10889"/>
                </a:cubicBezTo>
                <a:cubicBezTo>
                  <a:pt x="15210" y="10859"/>
                  <a:pt x="15251" y="10847"/>
                  <a:pt x="15280" y="10889"/>
                </a:cubicBezTo>
                <a:cubicBezTo>
                  <a:pt x="15319" y="10946"/>
                  <a:pt x="15308" y="11040"/>
                  <a:pt x="15255" y="11088"/>
                </a:cubicBezTo>
                <a:cubicBezTo>
                  <a:pt x="15209" y="11130"/>
                  <a:pt x="15123" y="11121"/>
                  <a:pt x="15081" y="11088"/>
                </a:cubicBezTo>
                <a:cubicBezTo>
                  <a:pt x="15073" y="11080"/>
                  <a:pt x="15064" y="11071"/>
                  <a:pt x="15056" y="11063"/>
                </a:cubicBezTo>
              </a:path>
              <a:path w="3200" h="1191">
                <a:moveTo>
                  <a:pt x="15304" y="10666"/>
                </a:moveTo>
                <a:cubicBezTo>
                  <a:pt x="15408" y="10587"/>
                  <a:pt x="15387" y="10565"/>
                  <a:pt x="15478" y="10592"/>
                </a:cubicBezTo>
                <a:cubicBezTo>
                  <a:pt x="15478" y="10734"/>
                  <a:pt x="15489" y="10874"/>
                  <a:pt x="15453" y="11013"/>
                </a:cubicBezTo>
                <a:cubicBezTo>
                  <a:pt x="15405" y="11199"/>
                  <a:pt x="15382" y="11372"/>
                  <a:pt x="15354" y="11559"/>
                </a:cubicBezTo>
                <a:cubicBezTo>
                  <a:pt x="15342" y="11636"/>
                  <a:pt x="15329" y="11681"/>
                  <a:pt x="15329" y="11757"/>
                </a:cubicBezTo>
              </a:path>
              <a:path w="3200" h="1191">
                <a:moveTo>
                  <a:pt x="15528" y="11361"/>
                </a:moveTo>
                <a:cubicBezTo>
                  <a:pt x="15591" y="11361"/>
                  <a:pt x="15737" y="11335"/>
                  <a:pt x="15776" y="11385"/>
                </a:cubicBezTo>
                <a:cubicBezTo>
                  <a:pt x="15823" y="11445"/>
                  <a:pt x="15846" y="11522"/>
                  <a:pt x="15801" y="11584"/>
                </a:cubicBezTo>
                <a:cubicBezTo>
                  <a:pt x="15767" y="11631"/>
                  <a:pt x="15745" y="11603"/>
                  <a:pt x="15701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22920" y="2303640"/>
            <a:ext cx="911160" cy="822240"/>
          </a:xfrm>
          <a:custGeom>
            <a:avLst/>
            <a:gdLst/>
            <a:ahLst/>
            <a:rect l="l" t="t" r="r" b="b"/>
            <a:pathLst>
              <a:path w="2531" h="2283">
                <a:moveTo>
                  <a:pt x="13444" y="7516"/>
                </a:moveTo>
                <a:cubicBezTo>
                  <a:pt x="13386" y="7437"/>
                  <a:pt x="13386" y="7388"/>
                  <a:pt x="13444" y="7293"/>
                </a:cubicBezTo>
                <a:cubicBezTo>
                  <a:pt x="13536" y="7144"/>
                  <a:pt x="13675" y="6974"/>
                  <a:pt x="13816" y="6871"/>
                </a:cubicBezTo>
                <a:cubicBezTo>
                  <a:pt x="13904" y="6826"/>
                  <a:pt x="13925" y="6810"/>
                  <a:pt x="13990" y="6821"/>
                </a:cubicBezTo>
                <a:cubicBezTo>
                  <a:pt x="14087" y="6962"/>
                  <a:pt x="14051" y="7064"/>
                  <a:pt x="13965" y="7218"/>
                </a:cubicBezTo>
                <a:cubicBezTo>
                  <a:pt x="13880" y="7370"/>
                  <a:pt x="13706" y="7478"/>
                  <a:pt x="13643" y="7640"/>
                </a:cubicBezTo>
                <a:cubicBezTo>
                  <a:pt x="13643" y="7656"/>
                  <a:pt x="13643" y="7673"/>
                  <a:pt x="13643" y="7689"/>
                </a:cubicBezTo>
                <a:cubicBezTo>
                  <a:pt x="13764" y="7770"/>
                  <a:pt x="13843" y="7724"/>
                  <a:pt x="13990" y="7714"/>
                </a:cubicBezTo>
                <a:cubicBezTo>
                  <a:pt x="14128" y="7705"/>
                  <a:pt x="14329" y="7733"/>
                  <a:pt x="14387" y="7888"/>
                </a:cubicBezTo>
                <a:cubicBezTo>
                  <a:pt x="14444" y="8040"/>
                  <a:pt x="14303" y="8129"/>
                  <a:pt x="14188" y="8161"/>
                </a:cubicBezTo>
                <a:cubicBezTo>
                  <a:pt x="14063" y="8196"/>
                  <a:pt x="13924" y="8219"/>
                  <a:pt x="13841" y="8136"/>
                </a:cubicBezTo>
              </a:path>
              <a:path w="2531" h="2283">
                <a:moveTo>
                  <a:pt x="14684" y="7293"/>
                </a:moveTo>
                <a:cubicBezTo>
                  <a:pt x="14749" y="7249"/>
                  <a:pt x="14764" y="7238"/>
                  <a:pt x="14808" y="7218"/>
                </a:cubicBezTo>
                <a:cubicBezTo>
                  <a:pt x="14764" y="7212"/>
                  <a:pt x="14707" y="7214"/>
                  <a:pt x="14635" y="7293"/>
                </a:cubicBezTo>
                <a:cubicBezTo>
                  <a:pt x="14554" y="7382"/>
                  <a:pt x="14503" y="7449"/>
                  <a:pt x="14585" y="7541"/>
                </a:cubicBezTo>
                <a:cubicBezTo>
                  <a:pt x="14658" y="7622"/>
                  <a:pt x="14781" y="7585"/>
                  <a:pt x="14883" y="7615"/>
                </a:cubicBezTo>
                <a:cubicBezTo>
                  <a:pt x="14981" y="7644"/>
                  <a:pt x="15027" y="7731"/>
                  <a:pt x="15007" y="7838"/>
                </a:cubicBezTo>
                <a:cubicBezTo>
                  <a:pt x="14986" y="7952"/>
                  <a:pt x="14851" y="7972"/>
                  <a:pt x="14759" y="7962"/>
                </a:cubicBezTo>
                <a:cubicBezTo>
                  <a:pt x="14660" y="7951"/>
                  <a:pt x="14486" y="7891"/>
                  <a:pt x="14486" y="7764"/>
                </a:cubicBezTo>
                <a:cubicBezTo>
                  <a:pt x="14486" y="7578"/>
                  <a:pt x="14684" y="7425"/>
                  <a:pt x="14784" y="7293"/>
                </a:cubicBezTo>
                <a:cubicBezTo>
                  <a:pt x="14940" y="7088"/>
                  <a:pt x="15082" y="6874"/>
                  <a:pt x="15205" y="6648"/>
                </a:cubicBezTo>
                <a:cubicBezTo>
                  <a:pt x="15262" y="6545"/>
                  <a:pt x="15290" y="6469"/>
                  <a:pt x="15205" y="6400"/>
                </a:cubicBezTo>
                <a:cubicBezTo>
                  <a:pt x="15085" y="6565"/>
                  <a:pt x="15025" y="6789"/>
                  <a:pt x="15007" y="6995"/>
                </a:cubicBezTo>
                <a:cubicBezTo>
                  <a:pt x="14980" y="7309"/>
                  <a:pt x="15015" y="7622"/>
                  <a:pt x="15180" y="7888"/>
                </a:cubicBezTo>
                <a:cubicBezTo>
                  <a:pt x="15245" y="7974"/>
                  <a:pt x="15253" y="8007"/>
                  <a:pt x="15329" y="7987"/>
                </a:cubicBezTo>
              </a:path>
              <a:path w="2531" h="2283">
                <a:moveTo>
                  <a:pt x="15503" y="7565"/>
                </a:moveTo>
                <a:cubicBezTo>
                  <a:pt x="15351" y="7365"/>
                  <a:pt x="15300" y="7280"/>
                  <a:pt x="15032" y="7367"/>
                </a:cubicBezTo>
                <a:cubicBezTo>
                  <a:pt x="14932" y="7417"/>
                  <a:pt x="14899" y="7433"/>
                  <a:pt x="14833" y="7466"/>
                </a:cubicBezTo>
              </a:path>
              <a:path w="2531" h="2283">
                <a:moveTo>
                  <a:pt x="15602" y="8161"/>
                </a:moveTo>
                <a:cubicBezTo>
                  <a:pt x="15705" y="8137"/>
                  <a:pt x="15821" y="8111"/>
                  <a:pt x="15925" y="8086"/>
                </a:cubicBezTo>
                <a:cubicBezTo>
                  <a:pt x="15771" y="8120"/>
                  <a:pt x="15610" y="8154"/>
                  <a:pt x="15453" y="8186"/>
                </a:cubicBezTo>
                <a:cubicBezTo>
                  <a:pt x="15132" y="8251"/>
                  <a:pt x="14820" y="8331"/>
                  <a:pt x="14511" y="8434"/>
                </a:cubicBezTo>
                <a:cubicBezTo>
                  <a:pt x="14493" y="8440"/>
                  <a:pt x="14247" y="8555"/>
                  <a:pt x="14288" y="8533"/>
                </a:cubicBezTo>
                <a:cubicBezTo>
                  <a:pt x="14296" y="8525"/>
                  <a:pt x="14304" y="8516"/>
                  <a:pt x="14312" y="8508"/>
                </a:cubicBezTo>
              </a:path>
              <a:path w="2531" h="2283">
                <a:moveTo>
                  <a:pt x="15429" y="8260"/>
                </a:moveTo>
                <a:cubicBezTo>
                  <a:pt x="15545" y="8265"/>
                  <a:pt x="15675" y="8214"/>
                  <a:pt x="15627" y="8310"/>
                </a:cubicBezTo>
                <a:cubicBezTo>
                  <a:pt x="15437" y="8418"/>
                  <a:pt x="15246" y="8459"/>
                  <a:pt x="15032" y="8508"/>
                </a:cubicBezTo>
                <a:cubicBezTo>
                  <a:pt x="14820" y="8557"/>
                  <a:pt x="14619" y="8620"/>
                  <a:pt x="14412" y="86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27200" y="5429160"/>
            <a:ext cx="2009880" cy="1152720"/>
          </a:xfrm>
          <a:custGeom>
            <a:avLst/>
            <a:gdLst/>
            <a:ahLst/>
            <a:rect l="l" t="t" r="r" b="b"/>
            <a:pathLst>
              <a:path w="5582" h="3201">
                <a:moveTo>
                  <a:pt x="7020" y="15949"/>
                </a:moveTo>
                <a:cubicBezTo>
                  <a:pt x="7074" y="15933"/>
                  <a:pt x="7119" y="15950"/>
                  <a:pt x="7169" y="15925"/>
                </a:cubicBezTo>
                <a:cubicBezTo>
                  <a:pt x="7212" y="15903"/>
                  <a:pt x="7250" y="15849"/>
                  <a:pt x="7293" y="15825"/>
                </a:cubicBezTo>
                <a:cubicBezTo>
                  <a:pt x="7386" y="15774"/>
                  <a:pt x="7475" y="15725"/>
                  <a:pt x="7565" y="15677"/>
                </a:cubicBezTo>
                <a:cubicBezTo>
                  <a:pt x="7674" y="15619"/>
                  <a:pt x="7774" y="15597"/>
                  <a:pt x="7888" y="15553"/>
                </a:cubicBezTo>
                <a:cubicBezTo>
                  <a:pt x="8047" y="15492"/>
                  <a:pt x="8198" y="15405"/>
                  <a:pt x="8359" y="15354"/>
                </a:cubicBezTo>
                <a:cubicBezTo>
                  <a:pt x="8543" y="15295"/>
                  <a:pt x="8746" y="15256"/>
                  <a:pt x="8930" y="15205"/>
                </a:cubicBezTo>
                <a:cubicBezTo>
                  <a:pt x="9052" y="15171"/>
                  <a:pt x="9178" y="15129"/>
                  <a:pt x="9302" y="15106"/>
                </a:cubicBezTo>
                <a:cubicBezTo>
                  <a:pt x="9437" y="15080"/>
                  <a:pt x="9561" y="15083"/>
                  <a:pt x="9699" y="15081"/>
                </a:cubicBezTo>
                <a:cubicBezTo>
                  <a:pt x="9882" y="15079"/>
                  <a:pt x="10064" y="15082"/>
                  <a:pt x="10244" y="15106"/>
                </a:cubicBezTo>
                <a:cubicBezTo>
                  <a:pt x="10399" y="15127"/>
                  <a:pt x="10546" y="15177"/>
                  <a:pt x="10691" y="15230"/>
                </a:cubicBezTo>
                <a:cubicBezTo>
                  <a:pt x="10861" y="15292"/>
                  <a:pt x="11028" y="15363"/>
                  <a:pt x="11187" y="15453"/>
                </a:cubicBezTo>
                <a:cubicBezTo>
                  <a:pt x="11313" y="15525"/>
                  <a:pt x="11443" y="15613"/>
                  <a:pt x="11559" y="15701"/>
                </a:cubicBezTo>
                <a:cubicBezTo>
                  <a:pt x="11666" y="15783"/>
                  <a:pt x="11724" y="15872"/>
                  <a:pt x="11807" y="15974"/>
                </a:cubicBezTo>
                <a:cubicBezTo>
                  <a:pt x="11896" y="16084"/>
                  <a:pt x="11949" y="16165"/>
                  <a:pt x="12005" y="16297"/>
                </a:cubicBezTo>
                <a:cubicBezTo>
                  <a:pt x="12089" y="16496"/>
                  <a:pt x="12160" y="16753"/>
                  <a:pt x="12179" y="16966"/>
                </a:cubicBezTo>
                <a:cubicBezTo>
                  <a:pt x="12191" y="17098"/>
                  <a:pt x="12183" y="17237"/>
                  <a:pt x="12154" y="17363"/>
                </a:cubicBezTo>
                <a:cubicBezTo>
                  <a:pt x="12115" y="17535"/>
                  <a:pt x="12033" y="17743"/>
                  <a:pt x="11931" y="17884"/>
                </a:cubicBezTo>
                <a:cubicBezTo>
                  <a:pt x="11872" y="17966"/>
                  <a:pt x="11795" y="18017"/>
                  <a:pt x="11708" y="18058"/>
                </a:cubicBezTo>
                <a:cubicBezTo>
                  <a:pt x="11525" y="18143"/>
                  <a:pt x="11308" y="18182"/>
                  <a:pt x="11112" y="18207"/>
                </a:cubicBezTo>
                <a:cubicBezTo>
                  <a:pt x="10977" y="18225"/>
                  <a:pt x="10826" y="18249"/>
                  <a:pt x="10691" y="18256"/>
                </a:cubicBezTo>
                <a:cubicBezTo>
                  <a:pt x="10513" y="18266"/>
                  <a:pt x="10321" y="18285"/>
                  <a:pt x="10145" y="18281"/>
                </a:cubicBezTo>
                <a:cubicBezTo>
                  <a:pt x="9978" y="18277"/>
                  <a:pt x="9817" y="18258"/>
                  <a:pt x="9649" y="18256"/>
                </a:cubicBezTo>
                <a:cubicBezTo>
                  <a:pt x="9505" y="18254"/>
                  <a:pt x="9369" y="18246"/>
                  <a:pt x="9227" y="18231"/>
                </a:cubicBezTo>
                <a:cubicBezTo>
                  <a:pt x="9071" y="18214"/>
                  <a:pt x="8911" y="18204"/>
                  <a:pt x="8756" y="18182"/>
                </a:cubicBezTo>
                <a:cubicBezTo>
                  <a:pt x="8623" y="18163"/>
                  <a:pt x="8462" y="18165"/>
                  <a:pt x="8334" y="18132"/>
                </a:cubicBezTo>
                <a:cubicBezTo>
                  <a:pt x="8196" y="18096"/>
                  <a:pt x="8039" y="18025"/>
                  <a:pt x="7913" y="17959"/>
                </a:cubicBezTo>
                <a:cubicBezTo>
                  <a:pt x="7830" y="17916"/>
                  <a:pt x="7759" y="17851"/>
                  <a:pt x="7689" y="17785"/>
                </a:cubicBezTo>
                <a:cubicBezTo>
                  <a:pt x="7591" y="17692"/>
                  <a:pt x="7492" y="17596"/>
                  <a:pt x="7417" y="17487"/>
                </a:cubicBezTo>
                <a:cubicBezTo>
                  <a:pt x="7366" y="17413"/>
                  <a:pt x="7326" y="17326"/>
                  <a:pt x="7293" y="17239"/>
                </a:cubicBezTo>
                <a:cubicBezTo>
                  <a:pt x="7267" y="17170"/>
                  <a:pt x="7237" y="17111"/>
                  <a:pt x="7218" y="17041"/>
                </a:cubicBezTo>
                <a:cubicBezTo>
                  <a:pt x="7203" y="16987"/>
                  <a:pt x="7177" y="16925"/>
                  <a:pt x="7169" y="16867"/>
                </a:cubicBezTo>
                <a:cubicBezTo>
                  <a:pt x="7152" y="16743"/>
                  <a:pt x="7174" y="16606"/>
                  <a:pt x="7193" y="16495"/>
                </a:cubicBezTo>
                <a:cubicBezTo>
                  <a:pt x="7202" y="16444"/>
                  <a:pt x="7209" y="16416"/>
                  <a:pt x="7218" y="16371"/>
                </a:cubicBezTo>
                <a:cubicBezTo>
                  <a:pt x="7227" y="16324"/>
                  <a:pt x="7230" y="16293"/>
                  <a:pt x="7243" y="16247"/>
                </a:cubicBezTo>
                <a:cubicBezTo>
                  <a:pt x="7257" y="16196"/>
                  <a:pt x="7271" y="16148"/>
                  <a:pt x="7293" y="16098"/>
                </a:cubicBezTo>
                <a:cubicBezTo>
                  <a:pt x="7372" y="15917"/>
                  <a:pt x="7482" y="15794"/>
                  <a:pt x="7615" y="15652"/>
                </a:cubicBezTo>
              </a:path>
              <a:path w="5582" h="3201">
                <a:moveTo>
                  <a:pt x="12129" y="15280"/>
                </a:moveTo>
                <a:cubicBezTo>
                  <a:pt x="12137" y="15263"/>
                  <a:pt x="12146" y="15247"/>
                  <a:pt x="12154" y="15230"/>
                </a:cubicBezTo>
                <a:cubicBezTo>
                  <a:pt x="12154" y="15368"/>
                  <a:pt x="12131" y="15525"/>
                  <a:pt x="12179" y="15652"/>
                </a:cubicBezTo>
              </a:path>
              <a:path w="5582" h="3201">
                <a:moveTo>
                  <a:pt x="12402" y="15205"/>
                </a:moveTo>
                <a:cubicBezTo>
                  <a:pt x="12419" y="15197"/>
                  <a:pt x="12435" y="15188"/>
                  <a:pt x="12452" y="15180"/>
                </a:cubicBezTo>
                <a:cubicBezTo>
                  <a:pt x="12432" y="15220"/>
                  <a:pt x="12369" y="15264"/>
                  <a:pt x="12328" y="15304"/>
                </a:cubicBezTo>
                <a:cubicBezTo>
                  <a:pt x="12289" y="15343"/>
                  <a:pt x="12269" y="15390"/>
                  <a:pt x="12229" y="15429"/>
                </a:cubicBezTo>
                <a:cubicBezTo>
                  <a:pt x="12206" y="15451"/>
                  <a:pt x="12198" y="15456"/>
                  <a:pt x="12204" y="15478"/>
                </a:cubicBezTo>
                <a:cubicBezTo>
                  <a:pt x="12262" y="15490"/>
                  <a:pt x="12320" y="15518"/>
                  <a:pt x="12378" y="15528"/>
                </a:cubicBezTo>
                <a:cubicBezTo>
                  <a:pt x="12437" y="15538"/>
                  <a:pt x="12492" y="15573"/>
                  <a:pt x="12551" y="15577"/>
                </a:cubicBezTo>
                <a:cubicBezTo>
                  <a:pt x="12568" y="15577"/>
                  <a:pt x="12584" y="15577"/>
                  <a:pt x="12601" y="15577"/>
                </a:cubicBezTo>
              </a:path>
              <a:path w="5582" h="3201">
                <a:moveTo>
                  <a:pt x="7863" y="16396"/>
                </a:moveTo>
                <a:cubicBezTo>
                  <a:pt x="7863" y="16324"/>
                  <a:pt x="7858" y="16264"/>
                  <a:pt x="7888" y="16197"/>
                </a:cubicBezTo>
                <a:cubicBezTo>
                  <a:pt x="7916" y="16135"/>
                  <a:pt x="7962" y="16042"/>
                  <a:pt x="8012" y="15999"/>
                </a:cubicBezTo>
                <a:cubicBezTo>
                  <a:pt x="8067" y="15951"/>
                  <a:pt x="8168" y="15925"/>
                  <a:pt x="8235" y="15900"/>
                </a:cubicBezTo>
                <a:cubicBezTo>
                  <a:pt x="8330" y="15864"/>
                  <a:pt x="8406" y="15829"/>
                  <a:pt x="8508" y="15825"/>
                </a:cubicBezTo>
                <a:cubicBezTo>
                  <a:pt x="8608" y="15821"/>
                  <a:pt x="8664" y="15840"/>
                  <a:pt x="8756" y="15875"/>
                </a:cubicBezTo>
                <a:cubicBezTo>
                  <a:pt x="8840" y="15907"/>
                  <a:pt x="8933" y="15948"/>
                  <a:pt x="9004" y="15999"/>
                </a:cubicBezTo>
                <a:cubicBezTo>
                  <a:pt x="9122" y="16084"/>
                  <a:pt x="9199" y="16211"/>
                  <a:pt x="9277" y="16321"/>
                </a:cubicBezTo>
                <a:cubicBezTo>
                  <a:pt x="9333" y="16400"/>
                  <a:pt x="9386" y="16492"/>
                  <a:pt x="9401" y="16594"/>
                </a:cubicBezTo>
                <a:cubicBezTo>
                  <a:pt x="9416" y="16693"/>
                  <a:pt x="9412" y="16825"/>
                  <a:pt x="9376" y="16917"/>
                </a:cubicBezTo>
                <a:cubicBezTo>
                  <a:pt x="9347" y="16991"/>
                  <a:pt x="9309" y="17067"/>
                  <a:pt x="9277" y="17140"/>
                </a:cubicBezTo>
                <a:cubicBezTo>
                  <a:pt x="9250" y="17202"/>
                  <a:pt x="9183" y="17274"/>
                  <a:pt x="9128" y="17314"/>
                </a:cubicBezTo>
                <a:cubicBezTo>
                  <a:pt x="9055" y="17368"/>
                  <a:pt x="8983" y="17365"/>
                  <a:pt x="8905" y="17388"/>
                </a:cubicBezTo>
                <a:cubicBezTo>
                  <a:pt x="8820" y="17413"/>
                  <a:pt x="8750" y="17413"/>
                  <a:pt x="8657" y="17413"/>
                </a:cubicBezTo>
                <a:cubicBezTo>
                  <a:pt x="8547" y="17413"/>
                  <a:pt x="8462" y="17406"/>
                  <a:pt x="8359" y="17363"/>
                </a:cubicBezTo>
                <a:cubicBezTo>
                  <a:pt x="8240" y="17314"/>
                  <a:pt x="8192" y="17227"/>
                  <a:pt x="8111" y="17140"/>
                </a:cubicBezTo>
                <a:cubicBezTo>
                  <a:pt x="8054" y="17079"/>
                  <a:pt x="8007" y="17012"/>
                  <a:pt x="7962" y="16942"/>
                </a:cubicBezTo>
                <a:cubicBezTo>
                  <a:pt x="7919" y="16876"/>
                  <a:pt x="7871" y="16819"/>
                  <a:pt x="7863" y="16743"/>
                </a:cubicBezTo>
                <a:cubicBezTo>
                  <a:pt x="7850" y="16624"/>
                  <a:pt x="7870" y="16507"/>
                  <a:pt x="7888" y="16396"/>
                </a:cubicBezTo>
                <a:cubicBezTo>
                  <a:pt x="7901" y="16314"/>
                  <a:pt x="7916" y="16293"/>
                  <a:pt x="7987" y="16247"/>
                </a:cubicBezTo>
                <a:cubicBezTo>
                  <a:pt x="8004" y="16239"/>
                  <a:pt x="8020" y="16230"/>
                  <a:pt x="8037" y="16222"/>
                </a:cubicBezTo>
              </a:path>
              <a:path w="5582" h="3201">
                <a:moveTo>
                  <a:pt x="8756" y="15677"/>
                </a:moveTo>
                <a:cubicBezTo>
                  <a:pt x="8756" y="15743"/>
                  <a:pt x="8753" y="15635"/>
                  <a:pt x="8756" y="15627"/>
                </a:cubicBezTo>
                <a:cubicBezTo>
                  <a:pt x="8778" y="15565"/>
                  <a:pt x="8795" y="15485"/>
                  <a:pt x="8806" y="15429"/>
                </a:cubicBezTo>
                <a:cubicBezTo>
                  <a:pt x="8806" y="15384"/>
                  <a:pt x="8802" y="15371"/>
                  <a:pt x="8830" y="15354"/>
                </a:cubicBezTo>
                <a:cubicBezTo>
                  <a:pt x="8884" y="15368"/>
                  <a:pt x="8900" y="15423"/>
                  <a:pt x="8930" y="15478"/>
                </a:cubicBezTo>
                <a:cubicBezTo>
                  <a:pt x="8969" y="15551"/>
                  <a:pt x="8980" y="15629"/>
                  <a:pt x="9004" y="15701"/>
                </a:cubicBezTo>
                <a:cubicBezTo>
                  <a:pt x="9026" y="15745"/>
                  <a:pt x="9029" y="15757"/>
                  <a:pt x="9054" y="15776"/>
                </a:cubicBezTo>
              </a:path>
              <a:path w="5582" h="3201">
                <a:moveTo>
                  <a:pt x="9054" y="15726"/>
                </a:moveTo>
                <a:cubicBezTo>
                  <a:pt x="9002" y="15704"/>
                  <a:pt x="8984" y="15701"/>
                  <a:pt x="8930" y="15701"/>
                </a:cubicBezTo>
                <a:cubicBezTo>
                  <a:pt x="8870" y="15701"/>
                  <a:pt x="8873" y="15694"/>
                  <a:pt x="8830" y="15726"/>
                </a:cubicBezTo>
              </a:path>
              <a:path w="5582" h="3201">
                <a:moveTo>
                  <a:pt x="10021" y="16371"/>
                </a:moveTo>
                <a:cubicBezTo>
                  <a:pt x="10029" y="16356"/>
                  <a:pt x="10034" y="16333"/>
                  <a:pt x="10046" y="16297"/>
                </a:cubicBezTo>
                <a:cubicBezTo>
                  <a:pt x="10058" y="16259"/>
                  <a:pt x="10081" y="16216"/>
                  <a:pt x="10096" y="16173"/>
                </a:cubicBezTo>
                <a:cubicBezTo>
                  <a:pt x="10119" y="16105"/>
                  <a:pt x="10159" y="16064"/>
                  <a:pt x="10195" y="15999"/>
                </a:cubicBezTo>
                <a:cubicBezTo>
                  <a:pt x="10242" y="15915"/>
                  <a:pt x="10275" y="15892"/>
                  <a:pt x="10344" y="15825"/>
                </a:cubicBezTo>
                <a:cubicBezTo>
                  <a:pt x="10405" y="15766"/>
                  <a:pt x="10474" y="15709"/>
                  <a:pt x="10542" y="15652"/>
                </a:cubicBezTo>
                <a:cubicBezTo>
                  <a:pt x="10623" y="15584"/>
                  <a:pt x="10665" y="15578"/>
                  <a:pt x="10765" y="15553"/>
                </a:cubicBezTo>
                <a:cubicBezTo>
                  <a:pt x="10841" y="15534"/>
                  <a:pt x="10932" y="15518"/>
                  <a:pt x="11013" y="15528"/>
                </a:cubicBezTo>
                <a:cubicBezTo>
                  <a:pt x="11080" y="15536"/>
                  <a:pt x="11155" y="15559"/>
                  <a:pt x="11212" y="15602"/>
                </a:cubicBezTo>
                <a:cubicBezTo>
                  <a:pt x="11271" y="15647"/>
                  <a:pt x="11333" y="15714"/>
                  <a:pt x="11385" y="15751"/>
                </a:cubicBezTo>
                <a:cubicBezTo>
                  <a:pt x="11447" y="15795"/>
                  <a:pt x="11469" y="15833"/>
                  <a:pt x="11509" y="15900"/>
                </a:cubicBezTo>
                <a:cubicBezTo>
                  <a:pt x="11548" y="15965"/>
                  <a:pt x="11590" y="16050"/>
                  <a:pt x="11609" y="16123"/>
                </a:cubicBezTo>
                <a:cubicBezTo>
                  <a:pt x="11626" y="16188"/>
                  <a:pt x="11651" y="16281"/>
                  <a:pt x="11658" y="16346"/>
                </a:cubicBezTo>
                <a:cubicBezTo>
                  <a:pt x="11671" y="16457"/>
                  <a:pt x="11656" y="16566"/>
                  <a:pt x="11633" y="16669"/>
                </a:cubicBezTo>
                <a:cubicBezTo>
                  <a:pt x="11617" y="16738"/>
                  <a:pt x="11611" y="16801"/>
                  <a:pt x="11584" y="16867"/>
                </a:cubicBezTo>
                <a:cubicBezTo>
                  <a:pt x="11561" y="16924"/>
                  <a:pt x="11523" y="16993"/>
                  <a:pt x="11485" y="17041"/>
                </a:cubicBezTo>
                <a:cubicBezTo>
                  <a:pt x="11442" y="17096"/>
                  <a:pt x="11374" y="17161"/>
                  <a:pt x="11311" y="17190"/>
                </a:cubicBezTo>
                <a:cubicBezTo>
                  <a:pt x="11225" y="17229"/>
                  <a:pt x="11151" y="17290"/>
                  <a:pt x="11063" y="17314"/>
                </a:cubicBezTo>
                <a:cubicBezTo>
                  <a:pt x="10974" y="17339"/>
                  <a:pt x="10885" y="17359"/>
                  <a:pt x="10790" y="17363"/>
                </a:cubicBezTo>
                <a:cubicBezTo>
                  <a:pt x="10683" y="17367"/>
                  <a:pt x="10569" y="17376"/>
                  <a:pt x="10468" y="17338"/>
                </a:cubicBezTo>
                <a:cubicBezTo>
                  <a:pt x="10392" y="17309"/>
                  <a:pt x="10327" y="17289"/>
                  <a:pt x="10269" y="17239"/>
                </a:cubicBezTo>
                <a:cubicBezTo>
                  <a:pt x="10228" y="17204"/>
                  <a:pt x="10200" y="17158"/>
                  <a:pt x="10170" y="17115"/>
                </a:cubicBezTo>
                <a:cubicBezTo>
                  <a:pt x="10129" y="17056"/>
                  <a:pt x="10089" y="17016"/>
                  <a:pt x="10046" y="16966"/>
                </a:cubicBezTo>
                <a:cubicBezTo>
                  <a:pt x="10008" y="16923"/>
                  <a:pt x="9956" y="16866"/>
                  <a:pt x="9922" y="16818"/>
                </a:cubicBezTo>
                <a:cubicBezTo>
                  <a:pt x="9894" y="16779"/>
                  <a:pt x="9863" y="16733"/>
                  <a:pt x="9847" y="16694"/>
                </a:cubicBezTo>
                <a:cubicBezTo>
                  <a:pt x="9826" y="16643"/>
                  <a:pt x="9816" y="16598"/>
                  <a:pt x="9798" y="16545"/>
                </a:cubicBezTo>
                <a:cubicBezTo>
                  <a:pt x="9782" y="16498"/>
                  <a:pt x="9762" y="16456"/>
                  <a:pt x="9773" y="16396"/>
                </a:cubicBezTo>
                <a:cubicBezTo>
                  <a:pt x="9789" y="16311"/>
                  <a:pt x="9853" y="16221"/>
                  <a:pt x="9897" y="16148"/>
                </a:cubicBezTo>
                <a:cubicBezTo>
                  <a:pt x="9957" y="16049"/>
                  <a:pt x="9995" y="15940"/>
                  <a:pt x="10071" y="15850"/>
                </a:cubicBezTo>
                <a:cubicBezTo>
                  <a:pt x="10096" y="15825"/>
                  <a:pt x="10120" y="15801"/>
                  <a:pt x="10145" y="15776"/>
                </a:cubicBezTo>
              </a:path>
              <a:path w="5582" h="3201">
                <a:moveTo>
                  <a:pt x="9996" y="15304"/>
                </a:moveTo>
                <a:cubicBezTo>
                  <a:pt x="9996" y="15288"/>
                  <a:pt x="9996" y="15271"/>
                  <a:pt x="9996" y="15255"/>
                </a:cubicBezTo>
                <a:cubicBezTo>
                  <a:pt x="9996" y="15367"/>
                  <a:pt x="9991" y="15480"/>
                  <a:pt x="10021" y="15577"/>
                </a:cubicBezTo>
                <a:cubicBezTo>
                  <a:pt x="10021" y="15585"/>
                  <a:pt x="10021" y="15594"/>
                  <a:pt x="10021" y="15602"/>
                </a:cubicBezTo>
              </a:path>
              <a:path w="5582" h="3201">
                <a:moveTo>
                  <a:pt x="9971" y="15379"/>
                </a:moveTo>
                <a:cubicBezTo>
                  <a:pt x="9971" y="15322"/>
                  <a:pt x="9981" y="15301"/>
                  <a:pt x="9996" y="15255"/>
                </a:cubicBezTo>
                <a:cubicBezTo>
                  <a:pt x="10017" y="15191"/>
                  <a:pt x="10035" y="15168"/>
                  <a:pt x="10096" y="15131"/>
                </a:cubicBezTo>
                <a:cubicBezTo>
                  <a:pt x="10129" y="15111"/>
                  <a:pt x="10195" y="15080"/>
                  <a:pt x="10220" y="15131"/>
                </a:cubicBezTo>
                <a:cubicBezTo>
                  <a:pt x="10249" y="15188"/>
                  <a:pt x="10195" y="15239"/>
                  <a:pt x="10170" y="15280"/>
                </a:cubicBezTo>
                <a:cubicBezTo>
                  <a:pt x="10130" y="15346"/>
                  <a:pt x="10077" y="15378"/>
                  <a:pt x="10071" y="15453"/>
                </a:cubicBezTo>
                <a:cubicBezTo>
                  <a:pt x="10071" y="15461"/>
                  <a:pt x="10071" y="15470"/>
                  <a:pt x="10071" y="15478"/>
                </a:cubicBezTo>
                <a:cubicBezTo>
                  <a:pt x="10122" y="15478"/>
                  <a:pt x="10215" y="15455"/>
                  <a:pt x="10244" y="15503"/>
                </a:cubicBezTo>
                <a:cubicBezTo>
                  <a:pt x="10268" y="15543"/>
                  <a:pt x="10277" y="15564"/>
                  <a:pt x="10244" y="15602"/>
                </a:cubicBezTo>
                <a:cubicBezTo>
                  <a:pt x="10197" y="15656"/>
                  <a:pt x="10165" y="15668"/>
                  <a:pt x="10096" y="156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661000" y="5187960"/>
            <a:ext cx="1108080" cy="857160"/>
          </a:xfrm>
          <a:custGeom>
            <a:avLst/>
            <a:gdLst/>
            <a:ahLst/>
            <a:rect l="l" t="t" r="r" b="b"/>
            <a:pathLst>
              <a:path w="3077" h="2382">
                <a:moveTo>
                  <a:pt x="15776" y="15553"/>
                </a:moveTo>
                <a:cubicBezTo>
                  <a:pt x="15755" y="15546"/>
                  <a:pt x="15711" y="15582"/>
                  <a:pt x="15726" y="15503"/>
                </a:cubicBezTo>
                <a:cubicBezTo>
                  <a:pt x="15751" y="15370"/>
                  <a:pt x="15906" y="15237"/>
                  <a:pt x="15999" y="15156"/>
                </a:cubicBezTo>
                <a:cubicBezTo>
                  <a:pt x="16178" y="14998"/>
                  <a:pt x="16419" y="14862"/>
                  <a:pt x="16669" y="14908"/>
                </a:cubicBezTo>
                <a:cubicBezTo>
                  <a:pt x="16820" y="14935"/>
                  <a:pt x="17083" y="15042"/>
                  <a:pt x="17190" y="15156"/>
                </a:cubicBezTo>
                <a:cubicBezTo>
                  <a:pt x="17322" y="15296"/>
                  <a:pt x="17385" y="15594"/>
                  <a:pt x="17363" y="15776"/>
                </a:cubicBezTo>
                <a:cubicBezTo>
                  <a:pt x="17336" y="15995"/>
                  <a:pt x="17240" y="16230"/>
                  <a:pt x="17066" y="16371"/>
                </a:cubicBezTo>
                <a:cubicBezTo>
                  <a:pt x="16883" y="16519"/>
                  <a:pt x="16665" y="16522"/>
                  <a:pt x="16446" y="16495"/>
                </a:cubicBezTo>
                <a:cubicBezTo>
                  <a:pt x="16236" y="16469"/>
                  <a:pt x="16053" y="16383"/>
                  <a:pt x="15949" y="16197"/>
                </a:cubicBezTo>
                <a:cubicBezTo>
                  <a:pt x="15824" y="15972"/>
                  <a:pt x="15870" y="15701"/>
                  <a:pt x="15974" y="15478"/>
                </a:cubicBezTo>
                <a:cubicBezTo>
                  <a:pt x="16064" y="15320"/>
                  <a:pt x="16087" y="15278"/>
                  <a:pt x="16148" y="15180"/>
                </a:cubicBezTo>
              </a:path>
              <a:path w="3077" h="2382">
                <a:moveTo>
                  <a:pt x="17041" y="15652"/>
                </a:moveTo>
                <a:cubicBezTo>
                  <a:pt x="17041" y="15584"/>
                  <a:pt x="17041" y="15535"/>
                  <a:pt x="17066" y="15478"/>
                </a:cubicBezTo>
                <a:cubicBezTo>
                  <a:pt x="17101" y="15398"/>
                  <a:pt x="17129" y="15357"/>
                  <a:pt x="17190" y="15304"/>
                </a:cubicBezTo>
                <a:cubicBezTo>
                  <a:pt x="17256" y="15246"/>
                  <a:pt x="17320" y="15150"/>
                  <a:pt x="17413" y="15131"/>
                </a:cubicBezTo>
                <a:cubicBezTo>
                  <a:pt x="17500" y="15113"/>
                  <a:pt x="17577" y="15096"/>
                  <a:pt x="17661" y="15131"/>
                </a:cubicBezTo>
                <a:cubicBezTo>
                  <a:pt x="17741" y="15165"/>
                  <a:pt x="17805" y="15211"/>
                  <a:pt x="17859" y="15280"/>
                </a:cubicBezTo>
                <a:cubicBezTo>
                  <a:pt x="17916" y="15353"/>
                  <a:pt x="17973" y="15483"/>
                  <a:pt x="17983" y="15577"/>
                </a:cubicBezTo>
                <a:cubicBezTo>
                  <a:pt x="17999" y="15725"/>
                  <a:pt x="17983" y="15909"/>
                  <a:pt x="17934" y="16049"/>
                </a:cubicBezTo>
                <a:cubicBezTo>
                  <a:pt x="17886" y="16185"/>
                  <a:pt x="17810" y="16297"/>
                  <a:pt x="17686" y="16371"/>
                </a:cubicBezTo>
                <a:cubicBezTo>
                  <a:pt x="17552" y="16451"/>
                  <a:pt x="17462" y="16454"/>
                  <a:pt x="17314" y="16421"/>
                </a:cubicBezTo>
                <a:cubicBezTo>
                  <a:pt x="17131" y="16380"/>
                  <a:pt x="17084" y="16234"/>
                  <a:pt x="17016" y="16073"/>
                </a:cubicBezTo>
                <a:cubicBezTo>
                  <a:pt x="16938" y="15889"/>
                  <a:pt x="16917" y="15739"/>
                  <a:pt x="16991" y="15553"/>
                </a:cubicBezTo>
                <a:cubicBezTo>
                  <a:pt x="17036" y="15440"/>
                  <a:pt x="17094" y="15418"/>
                  <a:pt x="17190" y="15354"/>
                </a:cubicBezTo>
              </a:path>
              <a:path w="3077" h="2382">
                <a:moveTo>
                  <a:pt x="17115" y="15652"/>
                </a:moveTo>
                <a:cubicBezTo>
                  <a:pt x="17115" y="15621"/>
                  <a:pt x="17123" y="15585"/>
                  <a:pt x="17140" y="15577"/>
                </a:cubicBezTo>
                <a:cubicBezTo>
                  <a:pt x="17166" y="15564"/>
                  <a:pt x="17226" y="15576"/>
                  <a:pt x="17239" y="15602"/>
                </a:cubicBezTo>
                <a:cubicBezTo>
                  <a:pt x="17269" y="15662"/>
                  <a:pt x="17264" y="15733"/>
                  <a:pt x="17264" y="15801"/>
                </a:cubicBezTo>
                <a:cubicBezTo>
                  <a:pt x="17264" y="15863"/>
                  <a:pt x="17243" y="15875"/>
                  <a:pt x="17190" y="15875"/>
                </a:cubicBezTo>
                <a:cubicBezTo>
                  <a:pt x="17125" y="15875"/>
                  <a:pt x="17067" y="15839"/>
                  <a:pt x="17041" y="15776"/>
                </a:cubicBezTo>
                <a:cubicBezTo>
                  <a:pt x="17022" y="15731"/>
                  <a:pt x="17056" y="15684"/>
                  <a:pt x="17066" y="15652"/>
                </a:cubicBezTo>
                <a:cubicBezTo>
                  <a:pt x="17081" y="15603"/>
                  <a:pt x="17087" y="15602"/>
                  <a:pt x="17140" y="15602"/>
                </a:cubicBezTo>
              </a:path>
              <a:path w="3077" h="2382">
                <a:moveTo>
                  <a:pt x="17264" y="15553"/>
                </a:moveTo>
                <a:cubicBezTo>
                  <a:pt x="17284" y="15506"/>
                  <a:pt x="17287" y="15489"/>
                  <a:pt x="17314" y="15453"/>
                </a:cubicBezTo>
                <a:cubicBezTo>
                  <a:pt x="17237" y="15484"/>
                  <a:pt x="17189" y="15557"/>
                  <a:pt x="17140" y="15627"/>
                </a:cubicBezTo>
                <a:cubicBezTo>
                  <a:pt x="17084" y="15708"/>
                  <a:pt x="17012" y="15802"/>
                  <a:pt x="16991" y="15900"/>
                </a:cubicBezTo>
                <a:cubicBezTo>
                  <a:pt x="16991" y="15916"/>
                  <a:pt x="16991" y="15933"/>
                  <a:pt x="16991" y="15949"/>
                </a:cubicBezTo>
              </a:path>
              <a:path w="3077" h="2382">
                <a:moveTo>
                  <a:pt x="18703" y="14412"/>
                </a:moveTo>
                <a:cubicBezTo>
                  <a:pt x="18764" y="14412"/>
                  <a:pt x="18779" y="14403"/>
                  <a:pt x="18802" y="14436"/>
                </a:cubicBezTo>
                <a:cubicBezTo>
                  <a:pt x="18719" y="14468"/>
                  <a:pt x="18614" y="14508"/>
                  <a:pt x="18529" y="14560"/>
                </a:cubicBezTo>
                <a:cubicBezTo>
                  <a:pt x="18283" y="14710"/>
                  <a:pt x="18047" y="14869"/>
                  <a:pt x="17810" y="15032"/>
                </a:cubicBezTo>
                <a:cubicBezTo>
                  <a:pt x="17438" y="15288"/>
                  <a:pt x="17045" y="15516"/>
                  <a:pt x="16694" y="15801"/>
                </a:cubicBezTo>
                <a:cubicBezTo>
                  <a:pt x="16463" y="15989"/>
                  <a:pt x="16278" y="16213"/>
                  <a:pt x="16098" y="16446"/>
                </a:cubicBezTo>
                <a:cubicBezTo>
                  <a:pt x="16008" y="16562"/>
                  <a:pt x="15916" y="16678"/>
                  <a:pt x="15825" y="16793"/>
                </a:cubicBezTo>
              </a:path>
              <a:path w="3077" h="2382">
                <a:moveTo>
                  <a:pt x="18455" y="16694"/>
                </a:moveTo>
                <a:cubicBezTo>
                  <a:pt x="18496" y="16694"/>
                  <a:pt x="18504" y="16694"/>
                  <a:pt x="18529" y="16694"/>
                </a:cubicBezTo>
                <a:cubicBezTo>
                  <a:pt x="18519" y="16642"/>
                  <a:pt x="18539" y="16615"/>
                  <a:pt x="18504" y="16570"/>
                </a:cubicBezTo>
                <a:cubicBezTo>
                  <a:pt x="18407" y="16446"/>
                  <a:pt x="18254" y="16342"/>
                  <a:pt x="18132" y="16247"/>
                </a:cubicBezTo>
                <a:cubicBezTo>
                  <a:pt x="17798" y="15988"/>
                  <a:pt x="17467" y="15713"/>
                  <a:pt x="17115" y="15478"/>
                </a:cubicBezTo>
                <a:cubicBezTo>
                  <a:pt x="16763" y="15243"/>
                  <a:pt x="16419" y="15003"/>
                  <a:pt x="16073" y="14759"/>
                </a:cubicBezTo>
                <a:cubicBezTo>
                  <a:pt x="15945" y="14669"/>
                  <a:pt x="15888" y="14636"/>
                  <a:pt x="15825" y="145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rcRect l="10190" t="65960" r="8272" b="7376"/>
          <a:stretch/>
        </p:blipFill>
        <p:spPr>
          <a:xfrm>
            <a:off x="0" y="0"/>
            <a:ext cx="914400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rcRect l="4025" t="3769" r="11417" b="48704"/>
          <a:stretch/>
        </p:blipFill>
        <p:spPr>
          <a:xfrm rot="185400">
            <a:off x="109080" y="286920"/>
            <a:ext cx="7977240" cy="61722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776840" y="374184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13271" y="10418"/>
                </a:moveTo>
                <a:cubicBezTo>
                  <a:pt x="13271" y="10410"/>
                  <a:pt x="13271" y="10401"/>
                  <a:pt x="13271" y="103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10080" y="1224000"/>
            <a:ext cx="463680" cy="1874880"/>
          </a:xfrm>
          <a:custGeom>
            <a:avLst/>
            <a:gdLst/>
            <a:ahLst/>
            <a:rect l="l" t="t" r="r" b="b"/>
            <a:pathLst>
              <a:path w="1291" h="5210">
                <a:moveTo>
                  <a:pt x="12576" y="8062"/>
                </a:moveTo>
                <a:cubicBezTo>
                  <a:pt x="12544" y="8051"/>
                  <a:pt x="12547" y="8006"/>
                  <a:pt x="12576" y="7987"/>
                </a:cubicBezTo>
                <a:cubicBezTo>
                  <a:pt x="12597" y="7973"/>
                  <a:pt x="12667" y="7986"/>
                  <a:pt x="12675" y="8012"/>
                </a:cubicBezTo>
                <a:cubicBezTo>
                  <a:pt x="12690" y="8062"/>
                  <a:pt x="12672" y="8099"/>
                  <a:pt x="12650" y="8136"/>
                </a:cubicBezTo>
                <a:cubicBezTo>
                  <a:pt x="12604" y="8136"/>
                  <a:pt x="12579" y="8128"/>
                  <a:pt x="12551" y="8086"/>
                </a:cubicBezTo>
                <a:cubicBezTo>
                  <a:pt x="12506" y="8017"/>
                  <a:pt x="12525" y="7951"/>
                  <a:pt x="12601" y="7913"/>
                </a:cubicBezTo>
                <a:cubicBezTo>
                  <a:pt x="12672" y="7878"/>
                  <a:pt x="12716" y="7933"/>
                  <a:pt x="12725" y="7987"/>
                </a:cubicBezTo>
                <a:cubicBezTo>
                  <a:pt x="12734" y="8042"/>
                  <a:pt x="12664" y="8054"/>
                  <a:pt x="12626" y="8062"/>
                </a:cubicBezTo>
              </a:path>
              <a:path w="1291" h="5210">
                <a:moveTo>
                  <a:pt x="13469" y="8037"/>
                </a:moveTo>
                <a:cubicBezTo>
                  <a:pt x="13493" y="8005"/>
                  <a:pt x="13495" y="7994"/>
                  <a:pt x="13519" y="7962"/>
                </a:cubicBezTo>
                <a:cubicBezTo>
                  <a:pt x="13519" y="8052"/>
                  <a:pt x="13509" y="8147"/>
                  <a:pt x="13494" y="8235"/>
                </a:cubicBezTo>
                <a:cubicBezTo>
                  <a:pt x="13478" y="8330"/>
                  <a:pt x="13456" y="8416"/>
                  <a:pt x="13444" y="8508"/>
                </a:cubicBezTo>
              </a:path>
              <a:path w="1291" h="5210">
                <a:moveTo>
                  <a:pt x="13717" y="8012"/>
                </a:moveTo>
                <a:cubicBezTo>
                  <a:pt x="13753" y="7976"/>
                  <a:pt x="13791" y="7903"/>
                  <a:pt x="13791" y="7938"/>
                </a:cubicBezTo>
                <a:cubicBezTo>
                  <a:pt x="13791" y="8032"/>
                  <a:pt x="13775" y="8120"/>
                  <a:pt x="13767" y="8210"/>
                </a:cubicBezTo>
                <a:cubicBezTo>
                  <a:pt x="13756" y="8331"/>
                  <a:pt x="13774" y="8445"/>
                  <a:pt x="13791" y="8558"/>
                </a:cubicBezTo>
                <a:cubicBezTo>
                  <a:pt x="13791" y="8599"/>
                  <a:pt x="13783" y="8615"/>
                  <a:pt x="13816" y="8607"/>
                </a:cubicBezTo>
              </a:path>
              <a:path w="1291" h="5210">
                <a:moveTo>
                  <a:pt x="13816" y="8310"/>
                </a:moveTo>
                <a:cubicBezTo>
                  <a:pt x="13763" y="8297"/>
                  <a:pt x="13731" y="8285"/>
                  <a:pt x="13667" y="8285"/>
                </a:cubicBezTo>
                <a:cubicBezTo>
                  <a:pt x="13609" y="8285"/>
                  <a:pt x="13552" y="8285"/>
                  <a:pt x="13494" y="8285"/>
                </a:cubicBezTo>
              </a:path>
              <a:path w="1291" h="5210">
                <a:moveTo>
                  <a:pt x="12626" y="8012"/>
                </a:moveTo>
                <a:cubicBezTo>
                  <a:pt x="12626" y="7951"/>
                  <a:pt x="12646" y="7885"/>
                  <a:pt x="12650" y="7838"/>
                </a:cubicBezTo>
                <a:cubicBezTo>
                  <a:pt x="12655" y="7773"/>
                  <a:pt x="12671" y="7699"/>
                  <a:pt x="12675" y="7640"/>
                </a:cubicBezTo>
                <a:cubicBezTo>
                  <a:pt x="12685" y="7506"/>
                  <a:pt x="12685" y="7374"/>
                  <a:pt x="12700" y="7243"/>
                </a:cubicBezTo>
                <a:cubicBezTo>
                  <a:pt x="12713" y="7127"/>
                  <a:pt x="12739" y="7013"/>
                  <a:pt x="12750" y="6896"/>
                </a:cubicBezTo>
                <a:cubicBezTo>
                  <a:pt x="12761" y="6779"/>
                  <a:pt x="12774" y="6667"/>
                  <a:pt x="12774" y="6548"/>
                </a:cubicBezTo>
                <a:cubicBezTo>
                  <a:pt x="12774" y="6395"/>
                  <a:pt x="12786" y="6251"/>
                  <a:pt x="12799" y="6102"/>
                </a:cubicBezTo>
                <a:cubicBezTo>
                  <a:pt x="12821" y="5847"/>
                  <a:pt x="12801" y="5585"/>
                  <a:pt x="12824" y="5333"/>
                </a:cubicBezTo>
                <a:cubicBezTo>
                  <a:pt x="12835" y="5211"/>
                  <a:pt x="12840" y="5080"/>
                  <a:pt x="12849" y="4961"/>
                </a:cubicBezTo>
                <a:cubicBezTo>
                  <a:pt x="12857" y="4852"/>
                  <a:pt x="12864" y="4744"/>
                  <a:pt x="12874" y="4638"/>
                </a:cubicBezTo>
                <a:cubicBezTo>
                  <a:pt x="12880" y="4570"/>
                  <a:pt x="12883" y="4529"/>
                  <a:pt x="12898" y="4465"/>
                </a:cubicBezTo>
                <a:cubicBezTo>
                  <a:pt x="12908" y="4424"/>
                  <a:pt x="12912" y="4386"/>
                  <a:pt x="12923" y="4341"/>
                </a:cubicBezTo>
                <a:cubicBezTo>
                  <a:pt x="12930" y="4315"/>
                  <a:pt x="12943" y="4287"/>
                  <a:pt x="12948" y="4266"/>
                </a:cubicBezTo>
                <a:cubicBezTo>
                  <a:pt x="12932" y="4289"/>
                  <a:pt x="12883" y="4353"/>
                  <a:pt x="12849" y="4390"/>
                </a:cubicBezTo>
                <a:cubicBezTo>
                  <a:pt x="12795" y="4449"/>
                  <a:pt x="12743" y="4489"/>
                  <a:pt x="12675" y="4539"/>
                </a:cubicBezTo>
                <a:cubicBezTo>
                  <a:pt x="12638" y="4566"/>
                  <a:pt x="12583" y="4591"/>
                  <a:pt x="12551" y="4614"/>
                </a:cubicBezTo>
                <a:cubicBezTo>
                  <a:pt x="12551" y="4638"/>
                  <a:pt x="12551" y="4646"/>
                  <a:pt x="12526" y="4638"/>
                </a:cubicBezTo>
                <a:cubicBezTo>
                  <a:pt x="12535" y="4588"/>
                  <a:pt x="12522" y="4583"/>
                  <a:pt x="12551" y="4539"/>
                </a:cubicBezTo>
                <a:cubicBezTo>
                  <a:pt x="12582" y="4492"/>
                  <a:pt x="12594" y="4507"/>
                  <a:pt x="12626" y="4465"/>
                </a:cubicBezTo>
                <a:cubicBezTo>
                  <a:pt x="12668" y="4411"/>
                  <a:pt x="12702" y="4367"/>
                  <a:pt x="12750" y="4316"/>
                </a:cubicBezTo>
                <a:cubicBezTo>
                  <a:pt x="12780" y="4284"/>
                  <a:pt x="12806" y="4232"/>
                  <a:pt x="12874" y="4266"/>
                </a:cubicBezTo>
                <a:cubicBezTo>
                  <a:pt x="12942" y="4300"/>
                  <a:pt x="12998" y="4388"/>
                  <a:pt x="13047" y="4440"/>
                </a:cubicBezTo>
                <a:cubicBezTo>
                  <a:pt x="13084" y="4480"/>
                  <a:pt x="13138" y="4512"/>
                  <a:pt x="13171" y="4564"/>
                </a:cubicBezTo>
                <a:cubicBezTo>
                  <a:pt x="13171" y="4572"/>
                  <a:pt x="13171" y="4581"/>
                  <a:pt x="13171" y="4589"/>
                </a:cubicBezTo>
              </a:path>
              <a:path w="1291" h="5210">
                <a:moveTo>
                  <a:pt x="12824" y="3870"/>
                </a:moveTo>
                <a:cubicBezTo>
                  <a:pt x="12843" y="3919"/>
                  <a:pt x="12869" y="3971"/>
                  <a:pt x="12874" y="4018"/>
                </a:cubicBezTo>
                <a:cubicBezTo>
                  <a:pt x="12874" y="4026"/>
                  <a:pt x="12874" y="4035"/>
                  <a:pt x="12874" y="4043"/>
                </a:cubicBezTo>
                <a:cubicBezTo>
                  <a:pt x="12917" y="4028"/>
                  <a:pt x="12898" y="3971"/>
                  <a:pt x="12898" y="3919"/>
                </a:cubicBezTo>
                <a:cubicBezTo>
                  <a:pt x="12898" y="3886"/>
                  <a:pt x="12877" y="3784"/>
                  <a:pt x="12923" y="3770"/>
                </a:cubicBezTo>
                <a:cubicBezTo>
                  <a:pt x="12971" y="3755"/>
                  <a:pt x="13081" y="3857"/>
                  <a:pt x="13122" y="3894"/>
                </a:cubicBezTo>
                <a:cubicBezTo>
                  <a:pt x="13160" y="3933"/>
                  <a:pt x="13162" y="3950"/>
                  <a:pt x="13196" y="3944"/>
                </a:cubicBezTo>
                <a:cubicBezTo>
                  <a:pt x="13253" y="3906"/>
                  <a:pt x="13204" y="3840"/>
                  <a:pt x="13196" y="3770"/>
                </a:cubicBezTo>
                <a:cubicBezTo>
                  <a:pt x="13184" y="3669"/>
                  <a:pt x="13203" y="3587"/>
                  <a:pt x="13246" y="3497"/>
                </a:cubicBezTo>
                <a:cubicBezTo>
                  <a:pt x="13270" y="3449"/>
                  <a:pt x="13279" y="3435"/>
                  <a:pt x="13271" y="3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19240" y="1697040"/>
            <a:ext cx="2778120" cy="758880"/>
          </a:xfrm>
          <a:custGeom>
            <a:avLst/>
            <a:gdLst/>
            <a:ahLst/>
            <a:rect l="l" t="t" r="r" b="b"/>
            <a:pathLst>
              <a:path w="7715" h="2109">
                <a:moveTo>
                  <a:pt x="12824" y="4713"/>
                </a:moveTo>
                <a:cubicBezTo>
                  <a:pt x="12799" y="4713"/>
                  <a:pt x="12791" y="4713"/>
                  <a:pt x="12774" y="4713"/>
                </a:cubicBezTo>
                <a:cubicBezTo>
                  <a:pt x="12762" y="4751"/>
                  <a:pt x="12745" y="4738"/>
                  <a:pt x="12700" y="4738"/>
                </a:cubicBezTo>
                <a:cubicBezTo>
                  <a:pt x="12667" y="4738"/>
                  <a:pt x="12634" y="4738"/>
                  <a:pt x="12601" y="4738"/>
                </a:cubicBezTo>
              </a:path>
              <a:path w="7715" h="2109">
                <a:moveTo>
                  <a:pt x="12502" y="4738"/>
                </a:moveTo>
                <a:cubicBezTo>
                  <a:pt x="12428" y="4738"/>
                  <a:pt x="12362" y="4756"/>
                  <a:pt x="12303" y="4762"/>
                </a:cubicBezTo>
                <a:cubicBezTo>
                  <a:pt x="12205" y="4772"/>
                  <a:pt x="12091" y="4777"/>
                  <a:pt x="12005" y="4787"/>
                </a:cubicBezTo>
                <a:cubicBezTo>
                  <a:pt x="11879" y="4801"/>
                  <a:pt x="11744" y="4774"/>
                  <a:pt x="11633" y="4762"/>
                </a:cubicBezTo>
                <a:cubicBezTo>
                  <a:pt x="11391" y="4735"/>
                  <a:pt x="11115" y="4766"/>
                  <a:pt x="10889" y="4787"/>
                </a:cubicBezTo>
                <a:cubicBezTo>
                  <a:pt x="10822" y="4793"/>
                  <a:pt x="10772" y="4795"/>
                  <a:pt x="10716" y="4812"/>
                </a:cubicBezTo>
                <a:cubicBezTo>
                  <a:pt x="10678" y="4823"/>
                  <a:pt x="10658" y="4831"/>
                  <a:pt x="10616" y="4837"/>
                </a:cubicBezTo>
                <a:cubicBezTo>
                  <a:pt x="10547" y="4847"/>
                  <a:pt x="10450" y="4856"/>
                  <a:pt x="10393" y="4862"/>
                </a:cubicBezTo>
                <a:cubicBezTo>
                  <a:pt x="10237" y="4878"/>
                  <a:pt x="10072" y="4871"/>
                  <a:pt x="9922" y="4887"/>
                </a:cubicBezTo>
                <a:cubicBezTo>
                  <a:pt x="9571" y="4925"/>
                  <a:pt x="9202" y="4875"/>
                  <a:pt x="8855" y="4911"/>
                </a:cubicBezTo>
                <a:cubicBezTo>
                  <a:pt x="8766" y="4920"/>
                  <a:pt x="8658" y="4929"/>
                  <a:pt x="8582" y="4936"/>
                </a:cubicBezTo>
                <a:cubicBezTo>
                  <a:pt x="8428" y="4951"/>
                  <a:pt x="8266" y="4936"/>
                  <a:pt x="8111" y="4936"/>
                </a:cubicBezTo>
              </a:path>
              <a:path w="7715" h="2109">
                <a:moveTo>
                  <a:pt x="13395" y="5854"/>
                </a:moveTo>
                <a:cubicBezTo>
                  <a:pt x="13384" y="5821"/>
                  <a:pt x="13366" y="5823"/>
                  <a:pt x="13395" y="5779"/>
                </a:cubicBezTo>
                <a:cubicBezTo>
                  <a:pt x="13411" y="5754"/>
                  <a:pt x="13513" y="5720"/>
                  <a:pt x="13543" y="5730"/>
                </a:cubicBezTo>
                <a:cubicBezTo>
                  <a:pt x="13598" y="5748"/>
                  <a:pt x="13615" y="5859"/>
                  <a:pt x="13618" y="5904"/>
                </a:cubicBezTo>
                <a:cubicBezTo>
                  <a:pt x="13623" y="5992"/>
                  <a:pt x="13577" y="6028"/>
                  <a:pt x="13519" y="6077"/>
                </a:cubicBezTo>
                <a:cubicBezTo>
                  <a:pt x="13479" y="6110"/>
                  <a:pt x="13476" y="6102"/>
                  <a:pt x="13419" y="6102"/>
                </a:cubicBezTo>
              </a:path>
              <a:path w="7715" h="2109">
                <a:moveTo>
                  <a:pt x="13742" y="5705"/>
                </a:moveTo>
                <a:cubicBezTo>
                  <a:pt x="13846" y="5632"/>
                  <a:pt x="13843" y="5604"/>
                  <a:pt x="13791" y="5705"/>
                </a:cubicBezTo>
                <a:cubicBezTo>
                  <a:pt x="13760" y="5764"/>
                  <a:pt x="13750" y="5862"/>
                  <a:pt x="13767" y="5928"/>
                </a:cubicBezTo>
                <a:cubicBezTo>
                  <a:pt x="13792" y="6027"/>
                  <a:pt x="13857" y="6028"/>
                  <a:pt x="13940" y="6028"/>
                </a:cubicBezTo>
                <a:cubicBezTo>
                  <a:pt x="14003" y="6028"/>
                  <a:pt x="14031" y="6021"/>
                  <a:pt x="14064" y="5978"/>
                </a:cubicBezTo>
              </a:path>
              <a:path w="7715" h="2109">
                <a:moveTo>
                  <a:pt x="14908" y="6300"/>
                </a:moveTo>
                <a:cubicBezTo>
                  <a:pt x="14954" y="6274"/>
                  <a:pt x="15001" y="6256"/>
                  <a:pt x="15007" y="6201"/>
                </a:cubicBezTo>
                <a:cubicBezTo>
                  <a:pt x="15007" y="6193"/>
                  <a:pt x="15007" y="6184"/>
                  <a:pt x="15007" y="6176"/>
                </a:cubicBezTo>
                <a:cubicBezTo>
                  <a:pt x="14924" y="6176"/>
                  <a:pt x="14884" y="6206"/>
                  <a:pt x="14833" y="6276"/>
                </a:cubicBezTo>
                <a:cubicBezTo>
                  <a:pt x="14795" y="6328"/>
                  <a:pt x="14808" y="6389"/>
                  <a:pt x="14808" y="6449"/>
                </a:cubicBezTo>
                <a:cubicBezTo>
                  <a:pt x="14841" y="6416"/>
                  <a:pt x="14875" y="6384"/>
                  <a:pt x="14908" y="6350"/>
                </a:cubicBezTo>
                <a:cubicBezTo>
                  <a:pt x="14949" y="6308"/>
                  <a:pt x="14972" y="6365"/>
                  <a:pt x="15007" y="6400"/>
                </a:cubicBezTo>
              </a:path>
              <a:path w="7715" h="2109">
                <a:moveTo>
                  <a:pt x="15131" y="6350"/>
                </a:moveTo>
                <a:cubicBezTo>
                  <a:pt x="15169" y="6292"/>
                  <a:pt x="15146" y="6300"/>
                  <a:pt x="15205" y="6300"/>
                </a:cubicBezTo>
                <a:cubicBezTo>
                  <a:pt x="15173" y="6343"/>
                  <a:pt x="15180" y="6340"/>
                  <a:pt x="15180" y="6400"/>
                </a:cubicBezTo>
                <a:cubicBezTo>
                  <a:pt x="15250" y="6365"/>
                  <a:pt x="15252" y="6281"/>
                  <a:pt x="15255" y="6201"/>
                </a:cubicBezTo>
                <a:cubicBezTo>
                  <a:pt x="15258" y="6105"/>
                  <a:pt x="15280" y="6024"/>
                  <a:pt x="15280" y="5928"/>
                </a:cubicBezTo>
                <a:cubicBezTo>
                  <a:pt x="15280" y="5904"/>
                  <a:pt x="15280" y="5896"/>
                  <a:pt x="15280" y="5928"/>
                </a:cubicBezTo>
                <a:cubicBezTo>
                  <a:pt x="15280" y="6027"/>
                  <a:pt x="15303" y="6106"/>
                  <a:pt x="15329" y="6201"/>
                </a:cubicBezTo>
                <a:cubicBezTo>
                  <a:pt x="15357" y="6302"/>
                  <a:pt x="15369" y="6410"/>
                  <a:pt x="15429" y="6499"/>
                </a:cubicBezTo>
                <a:cubicBezTo>
                  <a:pt x="15451" y="6522"/>
                  <a:pt x="15456" y="6530"/>
                  <a:pt x="15478" y="6524"/>
                </a:cubicBezTo>
              </a:path>
              <a:path w="7715" h="2109">
                <a:moveTo>
                  <a:pt x="15627" y="6375"/>
                </a:moveTo>
                <a:cubicBezTo>
                  <a:pt x="15714" y="6418"/>
                  <a:pt x="15758" y="6454"/>
                  <a:pt x="15801" y="6548"/>
                </a:cubicBezTo>
                <a:cubicBezTo>
                  <a:pt x="15834" y="6621"/>
                  <a:pt x="15844" y="6726"/>
                  <a:pt x="15801" y="6796"/>
                </a:cubicBezTo>
                <a:cubicBezTo>
                  <a:pt x="15773" y="6824"/>
                  <a:pt x="15759" y="6833"/>
                  <a:pt x="15726" y="6821"/>
                </a:cubicBezTo>
              </a:path>
              <a:path w="7715" h="2109">
                <a:moveTo>
                  <a:pt x="15652" y="6300"/>
                </a:moveTo>
                <a:cubicBezTo>
                  <a:pt x="15690" y="6220"/>
                  <a:pt x="15728" y="6124"/>
                  <a:pt x="15776" y="60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19640" y="1330200"/>
            <a:ext cx="358560" cy="233640"/>
          </a:xfrm>
          <a:custGeom>
            <a:avLst/>
            <a:gdLst/>
            <a:ahLst/>
            <a:rect l="l" t="t" r="r" b="b"/>
            <a:pathLst>
              <a:path w="993" h="646">
                <a:moveTo>
                  <a:pt x="9575" y="3919"/>
                </a:moveTo>
                <a:cubicBezTo>
                  <a:pt x="9547" y="3882"/>
                  <a:pt x="9536" y="3877"/>
                  <a:pt x="9525" y="3845"/>
                </a:cubicBezTo>
                <a:cubicBezTo>
                  <a:pt x="9559" y="3811"/>
                  <a:pt x="9592" y="3771"/>
                  <a:pt x="9649" y="3795"/>
                </a:cubicBezTo>
                <a:cubicBezTo>
                  <a:pt x="9706" y="3819"/>
                  <a:pt x="9720" y="3893"/>
                  <a:pt x="9723" y="3944"/>
                </a:cubicBezTo>
                <a:cubicBezTo>
                  <a:pt x="9728" y="4038"/>
                  <a:pt x="9685" y="4063"/>
                  <a:pt x="9599" y="4068"/>
                </a:cubicBezTo>
                <a:cubicBezTo>
                  <a:pt x="9529" y="4072"/>
                  <a:pt x="9533" y="4050"/>
                  <a:pt x="9500" y="3994"/>
                </a:cubicBezTo>
              </a:path>
              <a:path w="993" h="646">
                <a:moveTo>
                  <a:pt x="9847" y="3770"/>
                </a:moveTo>
                <a:cubicBezTo>
                  <a:pt x="9931" y="3807"/>
                  <a:pt x="9943" y="3819"/>
                  <a:pt x="9947" y="3919"/>
                </a:cubicBezTo>
                <a:cubicBezTo>
                  <a:pt x="9952" y="4027"/>
                  <a:pt x="9922" y="4132"/>
                  <a:pt x="9922" y="4242"/>
                </a:cubicBezTo>
                <a:cubicBezTo>
                  <a:pt x="9922" y="4300"/>
                  <a:pt x="9922" y="4308"/>
                  <a:pt x="9922" y="4341"/>
                </a:cubicBezTo>
              </a:path>
              <a:path w="993" h="646">
                <a:moveTo>
                  <a:pt x="9947" y="3820"/>
                </a:moveTo>
                <a:cubicBezTo>
                  <a:pt x="9979" y="3755"/>
                  <a:pt x="9990" y="3702"/>
                  <a:pt x="10071" y="3696"/>
                </a:cubicBezTo>
                <a:cubicBezTo>
                  <a:pt x="10128" y="3692"/>
                  <a:pt x="10130" y="3691"/>
                  <a:pt x="10170" y="3721"/>
                </a:cubicBezTo>
                <a:cubicBezTo>
                  <a:pt x="10160" y="3769"/>
                  <a:pt x="10141" y="3816"/>
                  <a:pt x="10096" y="3845"/>
                </a:cubicBezTo>
                <a:cubicBezTo>
                  <a:pt x="10079" y="3853"/>
                  <a:pt x="10063" y="3862"/>
                  <a:pt x="10046" y="3870"/>
                </a:cubicBezTo>
              </a:path>
              <a:path w="993" h="646">
                <a:moveTo>
                  <a:pt x="10195" y="3746"/>
                </a:moveTo>
                <a:cubicBezTo>
                  <a:pt x="10293" y="3760"/>
                  <a:pt x="10269" y="3797"/>
                  <a:pt x="10269" y="3894"/>
                </a:cubicBezTo>
                <a:cubicBezTo>
                  <a:pt x="10269" y="4026"/>
                  <a:pt x="10269" y="4159"/>
                  <a:pt x="10269" y="4291"/>
                </a:cubicBezTo>
              </a:path>
              <a:path w="993" h="646">
                <a:moveTo>
                  <a:pt x="10244" y="3795"/>
                </a:moveTo>
                <a:cubicBezTo>
                  <a:pt x="10285" y="3722"/>
                  <a:pt x="10298" y="3702"/>
                  <a:pt x="10393" y="3696"/>
                </a:cubicBezTo>
                <a:cubicBezTo>
                  <a:pt x="10422" y="3694"/>
                  <a:pt x="10515" y="3717"/>
                  <a:pt x="10492" y="3770"/>
                </a:cubicBezTo>
                <a:cubicBezTo>
                  <a:pt x="10468" y="3795"/>
                  <a:pt x="10460" y="3804"/>
                  <a:pt x="10443" y="38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06880" y="2160720"/>
            <a:ext cx="509400" cy="492120"/>
          </a:xfrm>
          <a:custGeom>
            <a:avLst/>
            <a:gdLst/>
            <a:ahLst/>
            <a:rect l="l" t="t" r="r" b="b"/>
            <a:pathLst>
              <a:path w="1415" h="1365">
                <a:moveTo>
                  <a:pt x="12824" y="6846"/>
                </a:moveTo>
                <a:cubicBezTo>
                  <a:pt x="12782" y="6821"/>
                  <a:pt x="12776" y="6824"/>
                  <a:pt x="12725" y="6821"/>
                </a:cubicBezTo>
                <a:cubicBezTo>
                  <a:pt x="12620" y="6815"/>
                  <a:pt x="12519" y="6815"/>
                  <a:pt x="12427" y="6796"/>
                </a:cubicBezTo>
                <a:cubicBezTo>
                  <a:pt x="12322" y="6775"/>
                  <a:pt x="12194" y="6804"/>
                  <a:pt x="12105" y="6821"/>
                </a:cubicBezTo>
                <a:cubicBezTo>
                  <a:pt x="12055" y="6830"/>
                  <a:pt x="12049" y="6822"/>
                  <a:pt x="12005" y="6846"/>
                </a:cubicBezTo>
                <a:cubicBezTo>
                  <a:pt x="11973" y="6863"/>
                  <a:pt x="11940" y="6859"/>
                  <a:pt x="11906" y="6871"/>
                </a:cubicBezTo>
                <a:cubicBezTo>
                  <a:pt x="11869" y="6884"/>
                  <a:pt x="11849" y="6890"/>
                  <a:pt x="11807" y="6896"/>
                </a:cubicBezTo>
                <a:cubicBezTo>
                  <a:pt x="11787" y="6916"/>
                  <a:pt x="11769" y="6925"/>
                  <a:pt x="11733" y="6945"/>
                </a:cubicBezTo>
                <a:cubicBezTo>
                  <a:pt x="11720" y="6958"/>
                  <a:pt x="11692" y="7005"/>
                  <a:pt x="11658" y="7020"/>
                </a:cubicBezTo>
                <a:cubicBezTo>
                  <a:pt x="11650" y="7020"/>
                  <a:pt x="11641" y="7020"/>
                  <a:pt x="11633" y="7020"/>
                </a:cubicBezTo>
                <a:cubicBezTo>
                  <a:pt x="11620" y="7033"/>
                  <a:pt x="11578" y="7065"/>
                  <a:pt x="11559" y="7094"/>
                </a:cubicBezTo>
                <a:cubicBezTo>
                  <a:pt x="11547" y="7112"/>
                  <a:pt x="11544" y="7149"/>
                  <a:pt x="11534" y="7169"/>
                </a:cubicBezTo>
                <a:cubicBezTo>
                  <a:pt x="11524" y="7185"/>
                  <a:pt x="11524" y="7212"/>
                  <a:pt x="11509" y="7243"/>
                </a:cubicBezTo>
                <a:cubicBezTo>
                  <a:pt x="11491" y="7280"/>
                  <a:pt x="11472" y="7303"/>
                  <a:pt x="11460" y="7342"/>
                </a:cubicBezTo>
                <a:cubicBezTo>
                  <a:pt x="11460" y="7350"/>
                  <a:pt x="11460" y="7359"/>
                  <a:pt x="11460" y="7367"/>
                </a:cubicBezTo>
              </a:path>
              <a:path w="1415" h="1365">
                <a:moveTo>
                  <a:pt x="11460" y="6201"/>
                </a:moveTo>
                <a:cubicBezTo>
                  <a:pt x="11468" y="6171"/>
                  <a:pt x="11477" y="6157"/>
                  <a:pt x="11485" y="6127"/>
                </a:cubicBezTo>
                <a:cubicBezTo>
                  <a:pt x="11477" y="6184"/>
                  <a:pt x="11454" y="6244"/>
                  <a:pt x="11435" y="6300"/>
                </a:cubicBezTo>
                <a:cubicBezTo>
                  <a:pt x="11419" y="6347"/>
                  <a:pt x="11380" y="6411"/>
                  <a:pt x="11435" y="6449"/>
                </a:cubicBezTo>
                <a:cubicBezTo>
                  <a:pt x="11489" y="6486"/>
                  <a:pt x="11547" y="6474"/>
                  <a:pt x="11609" y="6474"/>
                </a:cubicBezTo>
                <a:cubicBezTo>
                  <a:pt x="11673" y="6474"/>
                  <a:pt x="11732" y="6461"/>
                  <a:pt x="11782" y="6499"/>
                </a:cubicBezTo>
              </a:path>
              <a:path w="1415" h="1365">
                <a:moveTo>
                  <a:pt x="11633" y="6350"/>
                </a:moveTo>
                <a:cubicBezTo>
                  <a:pt x="11625" y="6342"/>
                  <a:pt x="11617" y="6333"/>
                  <a:pt x="11609" y="6325"/>
                </a:cubicBezTo>
                <a:cubicBezTo>
                  <a:pt x="11609" y="6405"/>
                  <a:pt x="11622" y="6470"/>
                  <a:pt x="11633" y="6548"/>
                </a:cubicBezTo>
                <a:cubicBezTo>
                  <a:pt x="11633" y="6590"/>
                  <a:pt x="11633" y="6598"/>
                  <a:pt x="11633" y="6623"/>
                </a:cubicBezTo>
              </a:path>
              <a:path w="1415" h="1365">
                <a:moveTo>
                  <a:pt x="12030" y="6226"/>
                </a:moveTo>
                <a:cubicBezTo>
                  <a:pt x="12080" y="6193"/>
                  <a:pt x="12068" y="6188"/>
                  <a:pt x="12105" y="6176"/>
                </a:cubicBezTo>
                <a:cubicBezTo>
                  <a:pt x="12085" y="6119"/>
                  <a:pt x="12045" y="6177"/>
                  <a:pt x="12005" y="6201"/>
                </a:cubicBezTo>
                <a:cubicBezTo>
                  <a:pt x="11956" y="6230"/>
                  <a:pt x="11885" y="6264"/>
                  <a:pt x="11881" y="6325"/>
                </a:cubicBezTo>
                <a:cubicBezTo>
                  <a:pt x="11877" y="6377"/>
                  <a:pt x="11907" y="6414"/>
                  <a:pt x="11956" y="6424"/>
                </a:cubicBezTo>
                <a:cubicBezTo>
                  <a:pt x="12006" y="6434"/>
                  <a:pt x="12052" y="6412"/>
                  <a:pt x="12080" y="6474"/>
                </a:cubicBezTo>
                <a:cubicBezTo>
                  <a:pt x="12080" y="6499"/>
                  <a:pt x="12080" y="6507"/>
                  <a:pt x="12080" y="6524"/>
                </a:cubicBezTo>
                <a:cubicBezTo>
                  <a:pt x="12027" y="6524"/>
                  <a:pt x="12000" y="6543"/>
                  <a:pt x="11956" y="6548"/>
                </a:cubicBezTo>
                <a:cubicBezTo>
                  <a:pt x="11948" y="6548"/>
                  <a:pt x="11939" y="6548"/>
                  <a:pt x="11931" y="6548"/>
                </a:cubicBezTo>
                <a:cubicBezTo>
                  <a:pt x="11931" y="6495"/>
                  <a:pt x="11932" y="6475"/>
                  <a:pt x="11956" y="6424"/>
                </a:cubicBezTo>
                <a:cubicBezTo>
                  <a:pt x="11984" y="6365"/>
                  <a:pt x="12008" y="6321"/>
                  <a:pt x="12055" y="6276"/>
                </a:cubicBezTo>
              </a:path>
              <a:path w="1415" h="1365">
                <a:moveTo>
                  <a:pt x="12378" y="6102"/>
                </a:moveTo>
                <a:cubicBezTo>
                  <a:pt x="12378" y="6069"/>
                  <a:pt x="12378" y="6036"/>
                  <a:pt x="12378" y="6003"/>
                </a:cubicBezTo>
                <a:cubicBezTo>
                  <a:pt x="12407" y="6003"/>
                  <a:pt x="12465" y="5989"/>
                  <a:pt x="12477" y="6028"/>
                </a:cubicBezTo>
                <a:cubicBezTo>
                  <a:pt x="12488" y="6065"/>
                  <a:pt x="12486" y="6156"/>
                  <a:pt x="12452" y="6176"/>
                </a:cubicBezTo>
                <a:cubicBezTo>
                  <a:pt x="12408" y="6203"/>
                  <a:pt x="12360" y="6162"/>
                  <a:pt x="12328" y="6152"/>
                </a:cubicBezTo>
                <a:cubicBezTo>
                  <a:pt x="12320" y="6152"/>
                  <a:pt x="12311" y="6152"/>
                  <a:pt x="12303" y="61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81200" y="1393920"/>
            <a:ext cx="2892600" cy="2071440"/>
          </a:xfrm>
          <a:custGeom>
            <a:avLst/>
            <a:gdLst/>
            <a:ahLst/>
            <a:rect l="l" t="t" r="r" b="b"/>
            <a:pathLst>
              <a:path w="8037" h="5755">
                <a:moveTo>
                  <a:pt x="12675" y="7169"/>
                </a:moveTo>
                <a:cubicBezTo>
                  <a:pt x="12708" y="7166"/>
                  <a:pt x="12717" y="7149"/>
                  <a:pt x="12750" y="7144"/>
                </a:cubicBezTo>
                <a:cubicBezTo>
                  <a:pt x="12893" y="7124"/>
                  <a:pt x="13062" y="7140"/>
                  <a:pt x="13196" y="7169"/>
                </a:cubicBezTo>
                <a:cubicBezTo>
                  <a:pt x="13260" y="7183"/>
                  <a:pt x="13314" y="7190"/>
                  <a:pt x="13370" y="7218"/>
                </a:cubicBezTo>
                <a:cubicBezTo>
                  <a:pt x="13422" y="7244"/>
                  <a:pt x="13475" y="7279"/>
                  <a:pt x="13519" y="7317"/>
                </a:cubicBezTo>
                <a:cubicBezTo>
                  <a:pt x="13559" y="7352"/>
                  <a:pt x="13614" y="7416"/>
                  <a:pt x="13643" y="7466"/>
                </a:cubicBezTo>
                <a:cubicBezTo>
                  <a:pt x="13666" y="7504"/>
                  <a:pt x="13697" y="7548"/>
                  <a:pt x="13717" y="7590"/>
                </a:cubicBezTo>
                <a:cubicBezTo>
                  <a:pt x="13738" y="7634"/>
                  <a:pt x="13773" y="7691"/>
                  <a:pt x="13791" y="7739"/>
                </a:cubicBezTo>
                <a:cubicBezTo>
                  <a:pt x="13811" y="7793"/>
                  <a:pt x="13804" y="7856"/>
                  <a:pt x="13816" y="7913"/>
                </a:cubicBezTo>
                <a:cubicBezTo>
                  <a:pt x="13830" y="7977"/>
                  <a:pt x="13839" y="8015"/>
                  <a:pt x="13841" y="8086"/>
                </a:cubicBezTo>
                <a:cubicBezTo>
                  <a:pt x="13844" y="8185"/>
                  <a:pt x="13841" y="8267"/>
                  <a:pt x="13816" y="8359"/>
                </a:cubicBezTo>
                <a:cubicBezTo>
                  <a:pt x="13800" y="8420"/>
                  <a:pt x="13766" y="8473"/>
                  <a:pt x="13742" y="8533"/>
                </a:cubicBezTo>
                <a:cubicBezTo>
                  <a:pt x="13712" y="8609"/>
                  <a:pt x="13676" y="8645"/>
                  <a:pt x="13618" y="8706"/>
                </a:cubicBezTo>
                <a:cubicBezTo>
                  <a:pt x="13580" y="8746"/>
                  <a:pt x="13554" y="8789"/>
                  <a:pt x="13519" y="8830"/>
                </a:cubicBezTo>
                <a:cubicBezTo>
                  <a:pt x="13477" y="8879"/>
                  <a:pt x="13448" y="8874"/>
                  <a:pt x="13395" y="8905"/>
                </a:cubicBezTo>
                <a:cubicBezTo>
                  <a:pt x="13344" y="8934"/>
                  <a:pt x="13302" y="8958"/>
                  <a:pt x="13246" y="8979"/>
                </a:cubicBezTo>
                <a:cubicBezTo>
                  <a:pt x="13185" y="9002"/>
                  <a:pt x="13133" y="9013"/>
                  <a:pt x="13072" y="9029"/>
                </a:cubicBezTo>
                <a:cubicBezTo>
                  <a:pt x="13002" y="9047"/>
                  <a:pt x="12946" y="9043"/>
                  <a:pt x="12874" y="9054"/>
                </a:cubicBezTo>
                <a:cubicBezTo>
                  <a:pt x="12791" y="9066"/>
                  <a:pt x="12716" y="9079"/>
                  <a:pt x="12626" y="9079"/>
                </a:cubicBezTo>
                <a:cubicBezTo>
                  <a:pt x="12442" y="9079"/>
                  <a:pt x="12258" y="9091"/>
                  <a:pt x="12080" y="9054"/>
                </a:cubicBezTo>
                <a:cubicBezTo>
                  <a:pt x="11947" y="9027"/>
                  <a:pt x="11866" y="8984"/>
                  <a:pt x="11757" y="8905"/>
                </a:cubicBezTo>
                <a:cubicBezTo>
                  <a:pt x="11680" y="8849"/>
                  <a:pt x="11654" y="8815"/>
                  <a:pt x="11609" y="8731"/>
                </a:cubicBezTo>
                <a:cubicBezTo>
                  <a:pt x="11569" y="8655"/>
                  <a:pt x="11531" y="8579"/>
                  <a:pt x="11485" y="8508"/>
                </a:cubicBezTo>
                <a:cubicBezTo>
                  <a:pt x="11450" y="8454"/>
                  <a:pt x="11440" y="8414"/>
                  <a:pt x="11410" y="8359"/>
                </a:cubicBezTo>
                <a:cubicBezTo>
                  <a:pt x="11380" y="8305"/>
                  <a:pt x="11355" y="8261"/>
                  <a:pt x="11336" y="8210"/>
                </a:cubicBezTo>
                <a:cubicBezTo>
                  <a:pt x="11319" y="8163"/>
                  <a:pt x="11302" y="8128"/>
                  <a:pt x="11286" y="8086"/>
                </a:cubicBezTo>
                <a:cubicBezTo>
                  <a:pt x="11271" y="8045"/>
                  <a:pt x="11266" y="8007"/>
                  <a:pt x="11261" y="7962"/>
                </a:cubicBezTo>
                <a:cubicBezTo>
                  <a:pt x="11254" y="7898"/>
                  <a:pt x="11261" y="7829"/>
                  <a:pt x="11261" y="7764"/>
                </a:cubicBezTo>
                <a:cubicBezTo>
                  <a:pt x="11229" y="7787"/>
                  <a:pt x="11182" y="7819"/>
                  <a:pt x="11162" y="7838"/>
                </a:cubicBezTo>
                <a:cubicBezTo>
                  <a:pt x="11129" y="7869"/>
                  <a:pt x="11092" y="7892"/>
                  <a:pt x="11063" y="7913"/>
                </a:cubicBezTo>
                <a:cubicBezTo>
                  <a:pt x="11083" y="7888"/>
                  <a:pt x="11114" y="7861"/>
                  <a:pt x="11137" y="7813"/>
                </a:cubicBezTo>
                <a:cubicBezTo>
                  <a:pt x="11177" y="7730"/>
                  <a:pt x="11212" y="7664"/>
                  <a:pt x="11261" y="7590"/>
                </a:cubicBezTo>
                <a:cubicBezTo>
                  <a:pt x="11288" y="7626"/>
                  <a:pt x="11329" y="7653"/>
                  <a:pt x="11361" y="7689"/>
                </a:cubicBezTo>
                <a:cubicBezTo>
                  <a:pt x="11412" y="7746"/>
                  <a:pt x="11457" y="7811"/>
                  <a:pt x="11509" y="7863"/>
                </a:cubicBezTo>
                <a:cubicBezTo>
                  <a:pt x="11517" y="7871"/>
                  <a:pt x="11526" y="7880"/>
                  <a:pt x="11534" y="7888"/>
                </a:cubicBezTo>
              </a:path>
              <a:path w="8037" h="5755">
                <a:moveTo>
                  <a:pt x="12551" y="7987"/>
                </a:moveTo>
                <a:cubicBezTo>
                  <a:pt x="12540" y="7982"/>
                  <a:pt x="12487" y="7951"/>
                  <a:pt x="12452" y="7938"/>
                </a:cubicBezTo>
                <a:cubicBezTo>
                  <a:pt x="12403" y="7919"/>
                  <a:pt x="12352" y="7912"/>
                  <a:pt x="12303" y="7888"/>
                </a:cubicBezTo>
                <a:cubicBezTo>
                  <a:pt x="12245" y="7860"/>
                  <a:pt x="12184" y="7823"/>
                  <a:pt x="12129" y="7789"/>
                </a:cubicBezTo>
                <a:cubicBezTo>
                  <a:pt x="12062" y="7747"/>
                  <a:pt x="11999" y="7703"/>
                  <a:pt x="11931" y="7665"/>
                </a:cubicBezTo>
                <a:cubicBezTo>
                  <a:pt x="11844" y="7616"/>
                  <a:pt x="11763" y="7573"/>
                  <a:pt x="11683" y="7516"/>
                </a:cubicBezTo>
                <a:cubicBezTo>
                  <a:pt x="11620" y="7471"/>
                  <a:pt x="11548" y="7438"/>
                  <a:pt x="11485" y="7392"/>
                </a:cubicBezTo>
                <a:cubicBezTo>
                  <a:pt x="11424" y="7348"/>
                  <a:pt x="11375" y="7308"/>
                  <a:pt x="11311" y="7268"/>
                </a:cubicBezTo>
                <a:cubicBezTo>
                  <a:pt x="11229" y="7217"/>
                  <a:pt x="11152" y="7187"/>
                  <a:pt x="11063" y="7144"/>
                </a:cubicBezTo>
                <a:cubicBezTo>
                  <a:pt x="10976" y="7102"/>
                  <a:pt x="10859" y="7060"/>
                  <a:pt x="10790" y="7020"/>
                </a:cubicBezTo>
                <a:cubicBezTo>
                  <a:pt x="10709" y="6973"/>
                  <a:pt x="10641" y="6903"/>
                  <a:pt x="10567" y="6846"/>
                </a:cubicBezTo>
                <a:cubicBezTo>
                  <a:pt x="10505" y="6798"/>
                  <a:pt x="10432" y="6767"/>
                  <a:pt x="10368" y="6722"/>
                </a:cubicBezTo>
                <a:cubicBezTo>
                  <a:pt x="10280" y="6659"/>
                  <a:pt x="10179" y="6617"/>
                  <a:pt x="10096" y="6548"/>
                </a:cubicBezTo>
                <a:cubicBezTo>
                  <a:pt x="10020" y="6484"/>
                  <a:pt x="9953" y="6407"/>
                  <a:pt x="9872" y="6350"/>
                </a:cubicBezTo>
                <a:cubicBezTo>
                  <a:pt x="9797" y="6297"/>
                  <a:pt x="9719" y="6261"/>
                  <a:pt x="9649" y="6201"/>
                </a:cubicBezTo>
                <a:cubicBezTo>
                  <a:pt x="9556" y="6121"/>
                  <a:pt x="9466" y="6036"/>
                  <a:pt x="9376" y="5953"/>
                </a:cubicBezTo>
                <a:cubicBezTo>
                  <a:pt x="9283" y="5868"/>
                  <a:pt x="9183" y="5771"/>
                  <a:pt x="9103" y="5680"/>
                </a:cubicBezTo>
                <a:cubicBezTo>
                  <a:pt x="9028" y="5595"/>
                  <a:pt x="8958" y="5512"/>
                  <a:pt x="8880" y="5432"/>
                </a:cubicBezTo>
                <a:cubicBezTo>
                  <a:pt x="8764" y="5313"/>
                  <a:pt x="8651" y="5198"/>
                  <a:pt x="8533" y="5085"/>
                </a:cubicBezTo>
                <a:cubicBezTo>
                  <a:pt x="8436" y="4993"/>
                  <a:pt x="8326" y="4908"/>
                  <a:pt x="8235" y="4812"/>
                </a:cubicBezTo>
                <a:cubicBezTo>
                  <a:pt x="8152" y="4725"/>
                  <a:pt x="8075" y="4643"/>
                  <a:pt x="7987" y="4564"/>
                </a:cubicBezTo>
                <a:cubicBezTo>
                  <a:pt x="7961" y="4541"/>
                  <a:pt x="7940" y="4512"/>
                  <a:pt x="7913" y="4490"/>
                </a:cubicBezTo>
              </a:path>
              <a:path w="8037" h="5755">
                <a:moveTo>
                  <a:pt x="7392" y="3944"/>
                </a:moveTo>
                <a:cubicBezTo>
                  <a:pt x="7449" y="3934"/>
                  <a:pt x="7451" y="3930"/>
                  <a:pt x="7466" y="3870"/>
                </a:cubicBezTo>
                <a:cubicBezTo>
                  <a:pt x="7394" y="3870"/>
                  <a:pt x="7357" y="3887"/>
                  <a:pt x="7293" y="3919"/>
                </a:cubicBezTo>
                <a:cubicBezTo>
                  <a:pt x="7234" y="3948"/>
                  <a:pt x="7165" y="3960"/>
                  <a:pt x="7193" y="4043"/>
                </a:cubicBezTo>
                <a:cubicBezTo>
                  <a:pt x="7222" y="4130"/>
                  <a:pt x="7265" y="4153"/>
                  <a:pt x="7342" y="4192"/>
                </a:cubicBezTo>
                <a:cubicBezTo>
                  <a:pt x="7388" y="4215"/>
                  <a:pt x="7462" y="4250"/>
                  <a:pt x="7441" y="4316"/>
                </a:cubicBezTo>
                <a:cubicBezTo>
                  <a:pt x="7423" y="4371"/>
                  <a:pt x="7311" y="4384"/>
                  <a:pt x="7268" y="4390"/>
                </a:cubicBezTo>
                <a:cubicBezTo>
                  <a:pt x="7216" y="4390"/>
                  <a:pt x="7198" y="4389"/>
                  <a:pt x="7169" y="4366"/>
                </a:cubicBezTo>
              </a:path>
              <a:path w="8037" h="5755">
                <a:moveTo>
                  <a:pt x="13717" y="9277"/>
                </a:moveTo>
                <a:cubicBezTo>
                  <a:pt x="13717" y="9323"/>
                  <a:pt x="13727" y="9253"/>
                  <a:pt x="13742" y="9227"/>
                </a:cubicBezTo>
                <a:cubicBezTo>
                  <a:pt x="13767" y="9183"/>
                  <a:pt x="13828" y="9107"/>
                  <a:pt x="13891" y="9128"/>
                </a:cubicBezTo>
                <a:cubicBezTo>
                  <a:pt x="13930" y="9141"/>
                  <a:pt x="13963" y="9217"/>
                  <a:pt x="13940" y="9252"/>
                </a:cubicBezTo>
                <a:cubicBezTo>
                  <a:pt x="13897" y="9318"/>
                  <a:pt x="13846" y="9350"/>
                  <a:pt x="13791" y="9401"/>
                </a:cubicBezTo>
                <a:cubicBezTo>
                  <a:pt x="13769" y="9424"/>
                  <a:pt x="13761" y="9429"/>
                  <a:pt x="13767" y="9451"/>
                </a:cubicBezTo>
                <a:cubicBezTo>
                  <a:pt x="13819" y="9489"/>
                  <a:pt x="13858" y="9453"/>
                  <a:pt x="13915" y="9475"/>
                </a:cubicBezTo>
                <a:cubicBezTo>
                  <a:pt x="13942" y="9486"/>
                  <a:pt x="13986" y="9512"/>
                  <a:pt x="13965" y="9550"/>
                </a:cubicBezTo>
                <a:cubicBezTo>
                  <a:pt x="13940" y="9596"/>
                  <a:pt x="13836" y="9616"/>
                  <a:pt x="13791" y="9624"/>
                </a:cubicBezTo>
                <a:cubicBezTo>
                  <a:pt x="13762" y="9629"/>
                  <a:pt x="13723" y="9624"/>
                  <a:pt x="13692" y="9624"/>
                </a:cubicBezTo>
              </a:path>
              <a:path w="8037" h="5755">
                <a:moveTo>
                  <a:pt x="14188" y="9203"/>
                </a:moveTo>
                <a:cubicBezTo>
                  <a:pt x="14242" y="9161"/>
                  <a:pt x="14251" y="9140"/>
                  <a:pt x="14288" y="9128"/>
                </a:cubicBezTo>
                <a:cubicBezTo>
                  <a:pt x="14288" y="9207"/>
                  <a:pt x="14272" y="9275"/>
                  <a:pt x="14263" y="9351"/>
                </a:cubicBezTo>
                <a:cubicBezTo>
                  <a:pt x="14257" y="9406"/>
                  <a:pt x="14263" y="9469"/>
                  <a:pt x="14263" y="9525"/>
                </a:cubicBezTo>
              </a:path>
              <a:path w="8037" h="5755">
                <a:moveTo>
                  <a:pt x="14486" y="9178"/>
                </a:moveTo>
                <a:cubicBezTo>
                  <a:pt x="14486" y="9109"/>
                  <a:pt x="14502" y="9153"/>
                  <a:pt x="14536" y="9103"/>
                </a:cubicBezTo>
                <a:cubicBezTo>
                  <a:pt x="14558" y="9071"/>
                  <a:pt x="14631" y="9008"/>
                  <a:pt x="14684" y="9029"/>
                </a:cubicBezTo>
                <a:cubicBezTo>
                  <a:pt x="14757" y="9058"/>
                  <a:pt x="14732" y="9126"/>
                  <a:pt x="14709" y="9178"/>
                </a:cubicBezTo>
                <a:cubicBezTo>
                  <a:pt x="14666" y="9274"/>
                  <a:pt x="14590" y="9338"/>
                  <a:pt x="14536" y="9426"/>
                </a:cubicBezTo>
                <a:cubicBezTo>
                  <a:pt x="14506" y="9474"/>
                  <a:pt x="14486" y="9496"/>
                  <a:pt x="14486" y="9550"/>
                </a:cubicBezTo>
                <a:cubicBezTo>
                  <a:pt x="14553" y="9550"/>
                  <a:pt x="14598" y="9553"/>
                  <a:pt x="14660" y="9525"/>
                </a:cubicBezTo>
                <a:cubicBezTo>
                  <a:pt x="14709" y="9503"/>
                  <a:pt x="14771" y="9484"/>
                  <a:pt x="14808" y="9451"/>
                </a:cubicBezTo>
                <a:cubicBezTo>
                  <a:pt x="14831" y="9428"/>
                  <a:pt x="14835" y="9420"/>
                  <a:pt x="14858" y="9426"/>
                </a:cubicBezTo>
              </a:path>
              <a:path w="8037" h="5755">
                <a:moveTo>
                  <a:pt x="15056" y="9029"/>
                </a:moveTo>
                <a:cubicBezTo>
                  <a:pt x="15004" y="9011"/>
                  <a:pt x="15043" y="8993"/>
                  <a:pt x="15056" y="8954"/>
                </a:cubicBezTo>
                <a:cubicBezTo>
                  <a:pt x="15077" y="8888"/>
                  <a:pt x="15126" y="8946"/>
                  <a:pt x="15156" y="8979"/>
                </a:cubicBezTo>
                <a:cubicBezTo>
                  <a:pt x="15201" y="9029"/>
                  <a:pt x="15221" y="9062"/>
                  <a:pt x="15156" y="9103"/>
                </a:cubicBezTo>
                <a:cubicBezTo>
                  <a:pt x="15092" y="9144"/>
                  <a:pt x="14996" y="9142"/>
                  <a:pt x="14932" y="9103"/>
                </a:cubicBezTo>
                <a:cubicBezTo>
                  <a:pt x="14910" y="9081"/>
                  <a:pt x="14902" y="9076"/>
                  <a:pt x="14908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608200" y="2224080"/>
            <a:ext cx="687600" cy="196920"/>
          </a:xfrm>
          <a:custGeom>
            <a:avLst/>
            <a:gdLst/>
            <a:ahLst/>
            <a:rect l="l" t="t" r="r" b="b"/>
            <a:pathLst>
              <a:path w="1911" h="547">
                <a:moveTo>
                  <a:pt x="7317" y="6325"/>
                </a:moveTo>
                <a:cubicBezTo>
                  <a:pt x="7282" y="6316"/>
                  <a:pt x="7272" y="6304"/>
                  <a:pt x="7243" y="6276"/>
                </a:cubicBezTo>
                <a:cubicBezTo>
                  <a:pt x="7289" y="6230"/>
                  <a:pt x="7301" y="6205"/>
                  <a:pt x="7367" y="6201"/>
                </a:cubicBezTo>
                <a:cubicBezTo>
                  <a:pt x="7407" y="6199"/>
                  <a:pt x="7451" y="6201"/>
                  <a:pt x="7491" y="6201"/>
                </a:cubicBezTo>
                <a:cubicBezTo>
                  <a:pt x="7491" y="6258"/>
                  <a:pt x="7499" y="6300"/>
                  <a:pt x="7466" y="6350"/>
                </a:cubicBezTo>
                <a:cubicBezTo>
                  <a:pt x="7435" y="6397"/>
                  <a:pt x="7373" y="6417"/>
                  <a:pt x="7367" y="6474"/>
                </a:cubicBezTo>
                <a:cubicBezTo>
                  <a:pt x="7359" y="6546"/>
                  <a:pt x="7448" y="6537"/>
                  <a:pt x="7491" y="6548"/>
                </a:cubicBezTo>
                <a:cubicBezTo>
                  <a:pt x="7543" y="6562"/>
                  <a:pt x="7639" y="6564"/>
                  <a:pt x="7665" y="6623"/>
                </a:cubicBezTo>
                <a:cubicBezTo>
                  <a:pt x="7665" y="6631"/>
                  <a:pt x="7665" y="6640"/>
                  <a:pt x="7665" y="6648"/>
                </a:cubicBezTo>
                <a:cubicBezTo>
                  <a:pt x="7614" y="6660"/>
                  <a:pt x="7571" y="6710"/>
                  <a:pt x="7516" y="6722"/>
                </a:cubicBezTo>
                <a:cubicBezTo>
                  <a:pt x="7466" y="6722"/>
                  <a:pt x="7450" y="6722"/>
                  <a:pt x="7417" y="6722"/>
                </a:cubicBezTo>
              </a:path>
              <a:path w="1911" h="547">
                <a:moveTo>
                  <a:pt x="7863" y="6623"/>
                </a:moveTo>
                <a:cubicBezTo>
                  <a:pt x="7905" y="6623"/>
                  <a:pt x="7913" y="6623"/>
                  <a:pt x="7938" y="6623"/>
                </a:cubicBezTo>
              </a:path>
              <a:path w="1911" h="547">
                <a:moveTo>
                  <a:pt x="8086" y="6350"/>
                </a:moveTo>
                <a:cubicBezTo>
                  <a:pt x="8134" y="6302"/>
                  <a:pt x="8074" y="6379"/>
                  <a:pt x="8062" y="6400"/>
                </a:cubicBezTo>
                <a:cubicBezTo>
                  <a:pt x="8037" y="6445"/>
                  <a:pt x="8029" y="6462"/>
                  <a:pt x="8086" y="6499"/>
                </a:cubicBezTo>
                <a:cubicBezTo>
                  <a:pt x="8132" y="6529"/>
                  <a:pt x="8209" y="6537"/>
                  <a:pt x="8260" y="6548"/>
                </a:cubicBezTo>
                <a:cubicBezTo>
                  <a:pt x="8284" y="6553"/>
                  <a:pt x="8304" y="6589"/>
                  <a:pt x="8285" y="6623"/>
                </a:cubicBezTo>
                <a:cubicBezTo>
                  <a:pt x="8248" y="6690"/>
                  <a:pt x="8147" y="6672"/>
                  <a:pt x="8086" y="6672"/>
                </a:cubicBezTo>
              </a:path>
              <a:path w="1911" h="547">
                <a:moveTo>
                  <a:pt x="8310" y="6300"/>
                </a:moveTo>
                <a:cubicBezTo>
                  <a:pt x="8318" y="6284"/>
                  <a:pt x="8326" y="6267"/>
                  <a:pt x="8334" y="6251"/>
                </a:cubicBezTo>
                <a:cubicBezTo>
                  <a:pt x="8270" y="6264"/>
                  <a:pt x="8199" y="6276"/>
                  <a:pt x="8136" y="6300"/>
                </a:cubicBezTo>
                <a:cubicBezTo>
                  <a:pt x="8119" y="6308"/>
                  <a:pt x="8103" y="6317"/>
                  <a:pt x="8086" y="6325"/>
                </a:cubicBezTo>
              </a:path>
              <a:path w="1911" h="547">
                <a:moveTo>
                  <a:pt x="8508" y="6176"/>
                </a:moveTo>
                <a:cubicBezTo>
                  <a:pt x="8533" y="6176"/>
                  <a:pt x="8541" y="6176"/>
                  <a:pt x="8558" y="6176"/>
                </a:cubicBezTo>
                <a:cubicBezTo>
                  <a:pt x="8558" y="6308"/>
                  <a:pt x="8558" y="6441"/>
                  <a:pt x="8558" y="6573"/>
                </a:cubicBezTo>
              </a:path>
              <a:path w="1911" h="547">
                <a:moveTo>
                  <a:pt x="8657" y="6474"/>
                </a:moveTo>
                <a:cubicBezTo>
                  <a:pt x="8665" y="6466"/>
                  <a:pt x="8674" y="6457"/>
                  <a:pt x="8682" y="6449"/>
                </a:cubicBezTo>
                <a:cubicBezTo>
                  <a:pt x="8668" y="6504"/>
                  <a:pt x="8622" y="6536"/>
                  <a:pt x="8607" y="6598"/>
                </a:cubicBezTo>
                <a:cubicBezTo>
                  <a:pt x="8607" y="6606"/>
                  <a:pt x="8607" y="6615"/>
                  <a:pt x="8607" y="6623"/>
                </a:cubicBezTo>
                <a:cubicBezTo>
                  <a:pt x="8666" y="6623"/>
                  <a:pt x="8685" y="6613"/>
                  <a:pt x="8731" y="6598"/>
                </a:cubicBezTo>
                <a:cubicBezTo>
                  <a:pt x="8739" y="6598"/>
                  <a:pt x="8748" y="6598"/>
                  <a:pt x="8756" y="6598"/>
                </a:cubicBezTo>
              </a:path>
              <a:path w="1911" h="547">
                <a:moveTo>
                  <a:pt x="8855" y="6524"/>
                </a:moveTo>
                <a:cubicBezTo>
                  <a:pt x="8884" y="6561"/>
                  <a:pt x="8880" y="6575"/>
                  <a:pt x="8880" y="6623"/>
                </a:cubicBezTo>
                <a:cubicBezTo>
                  <a:pt x="8880" y="6631"/>
                  <a:pt x="8880" y="6640"/>
                  <a:pt x="8880" y="6648"/>
                </a:cubicBezTo>
                <a:cubicBezTo>
                  <a:pt x="8940" y="6633"/>
                  <a:pt x="8908" y="6597"/>
                  <a:pt x="8954" y="6573"/>
                </a:cubicBezTo>
                <a:cubicBezTo>
                  <a:pt x="8991" y="6554"/>
                  <a:pt x="9022" y="6594"/>
                  <a:pt x="9054" y="6598"/>
                </a:cubicBezTo>
                <a:cubicBezTo>
                  <a:pt x="9101" y="6603"/>
                  <a:pt x="9114" y="6599"/>
                  <a:pt x="9153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63840" y="2562120"/>
            <a:ext cx="322200" cy="403200"/>
          </a:xfrm>
          <a:custGeom>
            <a:avLst/>
            <a:gdLst/>
            <a:ahLst/>
            <a:rect l="l" t="t" r="r" b="b"/>
            <a:pathLst>
              <a:path w="894" h="1117">
                <a:moveTo>
                  <a:pt x="6921" y="7342"/>
                </a:moveTo>
                <a:cubicBezTo>
                  <a:pt x="6921" y="7276"/>
                  <a:pt x="6921" y="7210"/>
                  <a:pt x="6921" y="7144"/>
                </a:cubicBezTo>
                <a:cubicBezTo>
                  <a:pt x="6921" y="7058"/>
                  <a:pt x="6880" y="7257"/>
                  <a:pt x="6871" y="7342"/>
                </a:cubicBezTo>
                <a:cubicBezTo>
                  <a:pt x="6856" y="7483"/>
                  <a:pt x="6846" y="7622"/>
                  <a:pt x="6846" y="7764"/>
                </a:cubicBezTo>
                <a:cubicBezTo>
                  <a:pt x="6846" y="7789"/>
                  <a:pt x="6846" y="7797"/>
                  <a:pt x="6846" y="7813"/>
                </a:cubicBezTo>
                <a:cubicBezTo>
                  <a:pt x="6871" y="7797"/>
                  <a:pt x="6897" y="7735"/>
                  <a:pt x="6921" y="7689"/>
                </a:cubicBezTo>
                <a:cubicBezTo>
                  <a:pt x="6952" y="7630"/>
                  <a:pt x="6989" y="7589"/>
                  <a:pt x="7045" y="7640"/>
                </a:cubicBezTo>
                <a:cubicBezTo>
                  <a:pt x="7077" y="7669"/>
                  <a:pt x="7114" y="7723"/>
                  <a:pt x="7119" y="7764"/>
                </a:cubicBezTo>
                <a:cubicBezTo>
                  <a:pt x="7119" y="7772"/>
                  <a:pt x="7119" y="7781"/>
                  <a:pt x="7119" y="7789"/>
                </a:cubicBezTo>
              </a:path>
              <a:path w="894" h="1117">
                <a:moveTo>
                  <a:pt x="7144" y="7714"/>
                </a:moveTo>
                <a:cubicBezTo>
                  <a:pt x="7144" y="7653"/>
                  <a:pt x="7135" y="7637"/>
                  <a:pt x="7169" y="7615"/>
                </a:cubicBezTo>
                <a:cubicBezTo>
                  <a:pt x="7194" y="7659"/>
                  <a:pt x="7241" y="7747"/>
                  <a:pt x="7293" y="7764"/>
                </a:cubicBezTo>
                <a:cubicBezTo>
                  <a:pt x="7362" y="7787"/>
                  <a:pt x="7396" y="7741"/>
                  <a:pt x="7417" y="7689"/>
                </a:cubicBezTo>
                <a:cubicBezTo>
                  <a:pt x="7482" y="7706"/>
                  <a:pt x="7508" y="7797"/>
                  <a:pt x="7516" y="7863"/>
                </a:cubicBezTo>
                <a:cubicBezTo>
                  <a:pt x="7530" y="7972"/>
                  <a:pt x="7535" y="8088"/>
                  <a:pt x="7441" y="8161"/>
                </a:cubicBezTo>
                <a:cubicBezTo>
                  <a:pt x="7364" y="8220"/>
                  <a:pt x="7280" y="8185"/>
                  <a:pt x="7218" y="8136"/>
                </a:cubicBezTo>
                <a:cubicBezTo>
                  <a:pt x="7165" y="8094"/>
                  <a:pt x="7158" y="8070"/>
                  <a:pt x="7144" y="8012"/>
                </a:cubicBezTo>
              </a:path>
              <a:path w="894" h="1117">
                <a:moveTo>
                  <a:pt x="7466" y="7888"/>
                </a:moveTo>
                <a:cubicBezTo>
                  <a:pt x="7527" y="7980"/>
                  <a:pt x="7630" y="8098"/>
                  <a:pt x="7665" y="8210"/>
                </a:cubicBezTo>
                <a:cubicBezTo>
                  <a:pt x="7665" y="8218"/>
                  <a:pt x="7665" y="8227"/>
                  <a:pt x="7665" y="8235"/>
                </a:cubicBezTo>
                <a:cubicBezTo>
                  <a:pt x="7665" y="8152"/>
                  <a:pt x="7635" y="8092"/>
                  <a:pt x="7615" y="8012"/>
                </a:cubicBezTo>
                <a:cubicBezTo>
                  <a:pt x="7581" y="7872"/>
                  <a:pt x="7573" y="7723"/>
                  <a:pt x="7640" y="7590"/>
                </a:cubicBezTo>
                <a:cubicBezTo>
                  <a:pt x="7648" y="7582"/>
                  <a:pt x="7657" y="7573"/>
                  <a:pt x="7665" y="7565"/>
                </a:cubicBezTo>
                <a:cubicBezTo>
                  <a:pt x="7718" y="7574"/>
                  <a:pt x="7756" y="7612"/>
                  <a:pt x="7739" y="7689"/>
                </a:cubicBezTo>
                <a:cubicBezTo>
                  <a:pt x="7712" y="7743"/>
                  <a:pt x="7700" y="7763"/>
                  <a:pt x="7665" y="77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0160" y="3438360"/>
            <a:ext cx="1090800" cy="241560"/>
          </a:xfrm>
          <a:custGeom>
            <a:avLst/>
            <a:gdLst/>
            <a:ahLst/>
            <a:rect l="l" t="t" r="r" b="b"/>
            <a:pathLst>
              <a:path w="3027" h="671">
                <a:moveTo>
                  <a:pt x="2406" y="9897"/>
                </a:moveTo>
                <a:cubicBezTo>
                  <a:pt x="2415" y="9891"/>
                  <a:pt x="2510" y="9829"/>
                  <a:pt x="2480" y="9798"/>
                </a:cubicBezTo>
                <a:cubicBezTo>
                  <a:pt x="2472" y="9798"/>
                  <a:pt x="2464" y="9798"/>
                  <a:pt x="2456" y="9798"/>
                </a:cubicBezTo>
                <a:cubicBezTo>
                  <a:pt x="2411" y="9798"/>
                  <a:pt x="2355" y="9834"/>
                  <a:pt x="2332" y="9872"/>
                </a:cubicBezTo>
                <a:cubicBezTo>
                  <a:pt x="2290" y="9943"/>
                  <a:pt x="2304" y="10082"/>
                  <a:pt x="2356" y="10145"/>
                </a:cubicBezTo>
                <a:cubicBezTo>
                  <a:pt x="2407" y="10207"/>
                  <a:pt x="2504" y="10174"/>
                  <a:pt x="2530" y="10120"/>
                </a:cubicBezTo>
                <a:cubicBezTo>
                  <a:pt x="2538" y="10095"/>
                  <a:pt x="2547" y="10071"/>
                  <a:pt x="2555" y="10046"/>
                </a:cubicBezTo>
              </a:path>
              <a:path w="3027" h="671">
                <a:moveTo>
                  <a:pt x="2555" y="10046"/>
                </a:moveTo>
                <a:cubicBezTo>
                  <a:pt x="2598" y="9964"/>
                  <a:pt x="2664" y="9806"/>
                  <a:pt x="2729" y="9872"/>
                </a:cubicBezTo>
                <a:cubicBezTo>
                  <a:pt x="2760" y="9903"/>
                  <a:pt x="2797" y="10000"/>
                  <a:pt x="2778" y="10046"/>
                </a:cubicBezTo>
                <a:cubicBezTo>
                  <a:pt x="2750" y="10114"/>
                  <a:pt x="2698" y="10094"/>
                  <a:pt x="2654" y="10071"/>
                </a:cubicBezTo>
                <a:cubicBezTo>
                  <a:pt x="2637" y="10063"/>
                  <a:pt x="2621" y="10054"/>
                  <a:pt x="2604" y="10046"/>
                </a:cubicBezTo>
              </a:path>
              <a:path w="3027" h="671">
                <a:moveTo>
                  <a:pt x="2828" y="9773"/>
                </a:moveTo>
                <a:cubicBezTo>
                  <a:pt x="2922" y="9729"/>
                  <a:pt x="2904" y="9723"/>
                  <a:pt x="2977" y="9723"/>
                </a:cubicBezTo>
                <a:cubicBezTo>
                  <a:pt x="2939" y="9761"/>
                  <a:pt x="2909" y="9786"/>
                  <a:pt x="2927" y="9847"/>
                </a:cubicBezTo>
                <a:cubicBezTo>
                  <a:pt x="2945" y="9907"/>
                  <a:pt x="3008" y="9929"/>
                  <a:pt x="3051" y="9971"/>
                </a:cubicBezTo>
                <a:cubicBezTo>
                  <a:pt x="3104" y="10023"/>
                  <a:pt x="3061" y="10071"/>
                  <a:pt x="3001" y="10096"/>
                </a:cubicBezTo>
                <a:cubicBezTo>
                  <a:pt x="2968" y="10096"/>
                  <a:pt x="2952" y="10096"/>
                  <a:pt x="2927" y="10096"/>
                </a:cubicBezTo>
              </a:path>
              <a:path w="3027" h="671">
                <a:moveTo>
                  <a:pt x="3621" y="9624"/>
                </a:moveTo>
                <a:cubicBezTo>
                  <a:pt x="3644" y="9601"/>
                  <a:pt x="3648" y="9593"/>
                  <a:pt x="3671" y="9599"/>
                </a:cubicBezTo>
                <a:cubicBezTo>
                  <a:pt x="3671" y="9689"/>
                  <a:pt x="3650" y="9738"/>
                  <a:pt x="3621" y="9823"/>
                </a:cubicBezTo>
                <a:cubicBezTo>
                  <a:pt x="3602" y="9880"/>
                  <a:pt x="3563" y="10001"/>
                  <a:pt x="3621" y="10046"/>
                </a:cubicBezTo>
                <a:cubicBezTo>
                  <a:pt x="3693" y="10102"/>
                  <a:pt x="3753" y="10055"/>
                  <a:pt x="3820" y="10021"/>
                </a:cubicBezTo>
                <a:cubicBezTo>
                  <a:pt x="3880" y="9991"/>
                  <a:pt x="3928" y="9996"/>
                  <a:pt x="3994" y="9996"/>
                </a:cubicBezTo>
                <a:cubicBezTo>
                  <a:pt x="4026" y="9996"/>
                  <a:pt x="4070" y="9998"/>
                  <a:pt x="4043" y="10046"/>
                </a:cubicBezTo>
                <a:cubicBezTo>
                  <a:pt x="4035" y="10054"/>
                  <a:pt x="4026" y="10063"/>
                  <a:pt x="4018" y="10071"/>
                </a:cubicBezTo>
              </a:path>
              <a:path w="3027" h="671">
                <a:moveTo>
                  <a:pt x="3845" y="9897"/>
                </a:moveTo>
                <a:cubicBezTo>
                  <a:pt x="3837" y="9880"/>
                  <a:pt x="3828" y="9864"/>
                  <a:pt x="3820" y="9847"/>
                </a:cubicBezTo>
                <a:cubicBezTo>
                  <a:pt x="3820" y="9972"/>
                  <a:pt x="3802" y="10105"/>
                  <a:pt x="3845" y="10220"/>
                </a:cubicBezTo>
              </a:path>
              <a:path w="3027" h="671">
                <a:moveTo>
                  <a:pt x="4291" y="9649"/>
                </a:moveTo>
                <a:cubicBezTo>
                  <a:pt x="4338" y="9626"/>
                  <a:pt x="4395" y="9589"/>
                  <a:pt x="4440" y="9575"/>
                </a:cubicBezTo>
                <a:cubicBezTo>
                  <a:pt x="4448" y="9575"/>
                  <a:pt x="4457" y="9575"/>
                  <a:pt x="4465" y="9575"/>
                </a:cubicBezTo>
                <a:cubicBezTo>
                  <a:pt x="4413" y="9536"/>
                  <a:pt x="4398" y="9563"/>
                  <a:pt x="4341" y="9599"/>
                </a:cubicBezTo>
                <a:cubicBezTo>
                  <a:pt x="4273" y="9642"/>
                  <a:pt x="4166" y="9714"/>
                  <a:pt x="4142" y="9798"/>
                </a:cubicBezTo>
                <a:cubicBezTo>
                  <a:pt x="4125" y="9858"/>
                  <a:pt x="4218" y="9902"/>
                  <a:pt x="4266" y="9922"/>
                </a:cubicBezTo>
                <a:cubicBezTo>
                  <a:pt x="4347" y="9955"/>
                  <a:pt x="4408" y="9926"/>
                  <a:pt x="4440" y="10021"/>
                </a:cubicBezTo>
                <a:cubicBezTo>
                  <a:pt x="4454" y="10062"/>
                  <a:pt x="4371" y="10115"/>
                  <a:pt x="4341" y="10120"/>
                </a:cubicBezTo>
                <a:cubicBezTo>
                  <a:pt x="4258" y="10135"/>
                  <a:pt x="4170" y="10093"/>
                  <a:pt x="4192" y="9996"/>
                </a:cubicBezTo>
                <a:cubicBezTo>
                  <a:pt x="4217" y="9887"/>
                  <a:pt x="4331" y="9807"/>
                  <a:pt x="4415" y="9748"/>
                </a:cubicBezTo>
                <a:cubicBezTo>
                  <a:pt x="4480" y="9703"/>
                  <a:pt x="4546" y="9662"/>
                  <a:pt x="4614" y="9624"/>
                </a:cubicBezTo>
              </a:path>
              <a:path w="3027" h="671">
                <a:moveTo>
                  <a:pt x="5333" y="9922"/>
                </a:moveTo>
                <a:cubicBezTo>
                  <a:pt x="5316" y="9896"/>
                  <a:pt x="5259" y="9880"/>
                  <a:pt x="5209" y="9897"/>
                </a:cubicBezTo>
                <a:cubicBezTo>
                  <a:pt x="5192" y="9905"/>
                  <a:pt x="5176" y="9914"/>
                  <a:pt x="5159" y="9922"/>
                </a:cubicBezTo>
              </a:path>
              <a:path w="3027" h="671">
                <a:moveTo>
                  <a:pt x="5259" y="10046"/>
                </a:moveTo>
                <a:cubicBezTo>
                  <a:pt x="5353" y="10046"/>
                  <a:pt x="5332" y="10046"/>
                  <a:pt x="5259" y="100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51080" y="3384720"/>
            <a:ext cx="561960" cy="544320"/>
          </a:xfrm>
          <a:custGeom>
            <a:avLst/>
            <a:gdLst/>
            <a:ahLst/>
            <a:rect l="l" t="t" r="r" b="b"/>
            <a:pathLst>
              <a:path w="1563" h="1514">
                <a:moveTo>
                  <a:pt x="6499" y="9575"/>
                </a:moveTo>
                <a:cubicBezTo>
                  <a:pt x="6499" y="9517"/>
                  <a:pt x="6520" y="9488"/>
                  <a:pt x="6573" y="9451"/>
                </a:cubicBezTo>
                <a:cubicBezTo>
                  <a:pt x="6630" y="9411"/>
                  <a:pt x="6724" y="9422"/>
                  <a:pt x="6772" y="9475"/>
                </a:cubicBezTo>
                <a:cubicBezTo>
                  <a:pt x="6850" y="9560"/>
                  <a:pt x="6817" y="9626"/>
                  <a:pt x="6772" y="9699"/>
                </a:cubicBezTo>
                <a:cubicBezTo>
                  <a:pt x="6725" y="9776"/>
                  <a:pt x="6676" y="9752"/>
                  <a:pt x="6598" y="9723"/>
                </a:cubicBezTo>
              </a:path>
              <a:path w="1563" h="1514">
                <a:moveTo>
                  <a:pt x="6846" y="9475"/>
                </a:moveTo>
                <a:cubicBezTo>
                  <a:pt x="6906" y="9436"/>
                  <a:pt x="6918" y="9433"/>
                  <a:pt x="6945" y="9401"/>
                </a:cubicBezTo>
                <a:cubicBezTo>
                  <a:pt x="6931" y="9460"/>
                  <a:pt x="6882" y="9507"/>
                  <a:pt x="6871" y="9575"/>
                </a:cubicBezTo>
                <a:cubicBezTo>
                  <a:pt x="6856" y="9670"/>
                  <a:pt x="6862" y="9768"/>
                  <a:pt x="6970" y="9798"/>
                </a:cubicBezTo>
                <a:cubicBezTo>
                  <a:pt x="7036" y="9816"/>
                  <a:pt x="7107" y="9788"/>
                  <a:pt x="7169" y="9773"/>
                </a:cubicBezTo>
              </a:path>
              <a:path w="1563" h="1514">
                <a:moveTo>
                  <a:pt x="7764" y="10096"/>
                </a:moveTo>
                <a:cubicBezTo>
                  <a:pt x="7780" y="10104"/>
                  <a:pt x="7797" y="10112"/>
                  <a:pt x="7813" y="10120"/>
                </a:cubicBezTo>
                <a:cubicBezTo>
                  <a:pt x="7708" y="10145"/>
                  <a:pt x="7605" y="10155"/>
                  <a:pt x="7491" y="10145"/>
                </a:cubicBezTo>
                <a:cubicBezTo>
                  <a:pt x="7235" y="10122"/>
                  <a:pt x="6980" y="10100"/>
                  <a:pt x="6722" y="10096"/>
                </a:cubicBezTo>
                <a:cubicBezTo>
                  <a:pt x="6573" y="10093"/>
                  <a:pt x="6465" y="10137"/>
                  <a:pt x="6325" y="10170"/>
                </a:cubicBezTo>
                <a:cubicBezTo>
                  <a:pt x="6295" y="10177"/>
                  <a:pt x="6281" y="10187"/>
                  <a:pt x="6251" y="10195"/>
                </a:cubicBezTo>
              </a:path>
              <a:path w="1563" h="1514">
                <a:moveTo>
                  <a:pt x="6424" y="10443"/>
                </a:moveTo>
                <a:cubicBezTo>
                  <a:pt x="6464" y="10383"/>
                  <a:pt x="6475" y="10407"/>
                  <a:pt x="6449" y="10368"/>
                </a:cubicBezTo>
                <a:cubicBezTo>
                  <a:pt x="6402" y="10380"/>
                  <a:pt x="6368" y="10417"/>
                  <a:pt x="6325" y="10443"/>
                </a:cubicBezTo>
                <a:cubicBezTo>
                  <a:pt x="6275" y="10473"/>
                  <a:pt x="6264" y="10466"/>
                  <a:pt x="6251" y="10517"/>
                </a:cubicBezTo>
                <a:cubicBezTo>
                  <a:pt x="6256" y="10502"/>
                  <a:pt x="6274" y="10456"/>
                  <a:pt x="6300" y="10443"/>
                </a:cubicBezTo>
                <a:cubicBezTo>
                  <a:pt x="6352" y="10417"/>
                  <a:pt x="6415" y="10418"/>
                  <a:pt x="6474" y="10418"/>
                </a:cubicBezTo>
                <a:cubicBezTo>
                  <a:pt x="6536" y="10418"/>
                  <a:pt x="6573" y="10413"/>
                  <a:pt x="6623" y="10443"/>
                </a:cubicBezTo>
                <a:cubicBezTo>
                  <a:pt x="6623" y="10501"/>
                  <a:pt x="6603" y="10496"/>
                  <a:pt x="6573" y="10542"/>
                </a:cubicBezTo>
                <a:cubicBezTo>
                  <a:pt x="6530" y="10609"/>
                  <a:pt x="6486" y="10619"/>
                  <a:pt x="6424" y="10666"/>
                </a:cubicBezTo>
                <a:cubicBezTo>
                  <a:pt x="6388" y="10693"/>
                  <a:pt x="6386" y="10683"/>
                  <a:pt x="6375" y="10716"/>
                </a:cubicBezTo>
                <a:cubicBezTo>
                  <a:pt x="6428" y="10738"/>
                  <a:pt x="6501" y="10743"/>
                  <a:pt x="6548" y="10765"/>
                </a:cubicBezTo>
                <a:cubicBezTo>
                  <a:pt x="6593" y="10786"/>
                  <a:pt x="6598" y="10793"/>
                  <a:pt x="6598" y="10840"/>
                </a:cubicBezTo>
                <a:cubicBezTo>
                  <a:pt x="6561" y="10867"/>
                  <a:pt x="6497" y="10903"/>
                  <a:pt x="6449" y="10914"/>
                </a:cubicBezTo>
                <a:cubicBezTo>
                  <a:pt x="6412" y="10922"/>
                  <a:pt x="6363" y="10914"/>
                  <a:pt x="6325" y="10914"/>
                </a:cubicBezTo>
              </a:path>
              <a:path w="1563" h="1514">
                <a:moveTo>
                  <a:pt x="6747" y="10864"/>
                </a:moveTo>
                <a:cubicBezTo>
                  <a:pt x="6815" y="10864"/>
                  <a:pt x="6831" y="10845"/>
                  <a:pt x="6846" y="10889"/>
                </a:cubicBezTo>
              </a:path>
              <a:path w="1563" h="1514">
                <a:moveTo>
                  <a:pt x="7144" y="10517"/>
                </a:moveTo>
                <a:cubicBezTo>
                  <a:pt x="7163" y="10460"/>
                  <a:pt x="7189" y="10435"/>
                  <a:pt x="7144" y="10443"/>
                </a:cubicBezTo>
                <a:cubicBezTo>
                  <a:pt x="7102" y="10495"/>
                  <a:pt x="7074" y="10528"/>
                  <a:pt x="7069" y="10592"/>
                </a:cubicBezTo>
                <a:cubicBezTo>
                  <a:pt x="7061" y="10687"/>
                  <a:pt x="7135" y="10672"/>
                  <a:pt x="7193" y="10691"/>
                </a:cubicBezTo>
                <a:cubicBezTo>
                  <a:pt x="7209" y="10696"/>
                  <a:pt x="7311" y="10756"/>
                  <a:pt x="7317" y="10765"/>
                </a:cubicBezTo>
                <a:cubicBezTo>
                  <a:pt x="7317" y="10773"/>
                  <a:pt x="7317" y="10782"/>
                  <a:pt x="7317" y="10790"/>
                </a:cubicBezTo>
                <a:cubicBezTo>
                  <a:pt x="7275" y="10822"/>
                  <a:pt x="7249" y="10837"/>
                  <a:pt x="7193" y="10840"/>
                </a:cubicBezTo>
                <a:cubicBezTo>
                  <a:pt x="7168" y="10840"/>
                  <a:pt x="7144" y="10840"/>
                  <a:pt x="7119" y="10840"/>
                </a:cubicBezTo>
              </a:path>
              <a:path w="1563" h="1514">
                <a:moveTo>
                  <a:pt x="6970" y="10592"/>
                </a:moveTo>
                <a:cubicBezTo>
                  <a:pt x="7127" y="10435"/>
                  <a:pt x="7170" y="10400"/>
                  <a:pt x="7392" y="10393"/>
                </a:cubicBezTo>
                <a:cubicBezTo>
                  <a:pt x="7417" y="10393"/>
                  <a:pt x="7441" y="10393"/>
                  <a:pt x="7466" y="103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9960" y="4224240"/>
            <a:ext cx="231840" cy="133560"/>
          </a:xfrm>
          <a:custGeom>
            <a:avLst/>
            <a:gdLst/>
            <a:ahLst/>
            <a:rect l="l" t="t" r="r" b="b"/>
            <a:pathLst>
              <a:path w="646" h="373">
                <a:moveTo>
                  <a:pt x="1910" y="11881"/>
                </a:moveTo>
                <a:cubicBezTo>
                  <a:pt x="1883" y="11872"/>
                  <a:pt x="1864" y="11864"/>
                  <a:pt x="1860" y="11832"/>
                </a:cubicBezTo>
                <a:cubicBezTo>
                  <a:pt x="1851" y="11759"/>
                  <a:pt x="1939" y="11759"/>
                  <a:pt x="1984" y="11757"/>
                </a:cubicBezTo>
                <a:cubicBezTo>
                  <a:pt x="2072" y="11753"/>
                  <a:pt x="2156" y="11786"/>
                  <a:pt x="2183" y="11881"/>
                </a:cubicBezTo>
                <a:cubicBezTo>
                  <a:pt x="2202" y="11950"/>
                  <a:pt x="2140" y="12029"/>
                  <a:pt x="2084" y="12055"/>
                </a:cubicBezTo>
                <a:cubicBezTo>
                  <a:pt x="2017" y="12077"/>
                  <a:pt x="1999" y="12082"/>
                  <a:pt x="1960" y="12105"/>
                </a:cubicBezTo>
              </a:path>
              <a:path w="646" h="373">
                <a:moveTo>
                  <a:pt x="2084" y="11881"/>
                </a:moveTo>
                <a:cubicBezTo>
                  <a:pt x="2151" y="11819"/>
                  <a:pt x="2192" y="11784"/>
                  <a:pt x="2257" y="11733"/>
                </a:cubicBezTo>
                <a:cubicBezTo>
                  <a:pt x="2242" y="11807"/>
                  <a:pt x="2212" y="11851"/>
                  <a:pt x="2208" y="11931"/>
                </a:cubicBezTo>
                <a:cubicBezTo>
                  <a:pt x="2205" y="12006"/>
                  <a:pt x="2224" y="12085"/>
                  <a:pt x="2307" y="12105"/>
                </a:cubicBezTo>
                <a:cubicBezTo>
                  <a:pt x="2372" y="12120"/>
                  <a:pt x="2450" y="12058"/>
                  <a:pt x="2505" y="120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6000" y="4152960"/>
            <a:ext cx="1152360" cy="222120"/>
          </a:xfrm>
          <a:custGeom>
            <a:avLst/>
            <a:gdLst/>
            <a:ahLst/>
            <a:rect l="l" t="t" r="r" b="b"/>
            <a:pathLst>
              <a:path w="3200" h="621">
                <a:moveTo>
                  <a:pt x="3274" y="11881"/>
                </a:moveTo>
                <a:cubicBezTo>
                  <a:pt x="3291" y="11881"/>
                  <a:pt x="3307" y="11881"/>
                  <a:pt x="3324" y="11881"/>
                </a:cubicBezTo>
                <a:cubicBezTo>
                  <a:pt x="3246" y="11881"/>
                  <a:pt x="3196" y="11888"/>
                  <a:pt x="3125" y="11906"/>
                </a:cubicBezTo>
                <a:cubicBezTo>
                  <a:pt x="3117" y="11906"/>
                  <a:pt x="3109" y="11906"/>
                  <a:pt x="3101" y="11906"/>
                </a:cubicBezTo>
              </a:path>
              <a:path w="3200" h="621">
                <a:moveTo>
                  <a:pt x="3175" y="11956"/>
                </a:moveTo>
                <a:cubicBezTo>
                  <a:pt x="3242" y="11979"/>
                  <a:pt x="3260" y="11984"/>
                  <a:pt x="3299" y="12005"/>
                </a:cubicBezTo>
                <a:cubicBezTo>
                  <a:pt x="3246" y="12016"/>
                  <a:pt x="3207" y="12030"/>
                  <a:pt x="3150" y="12030"/>
                </a:cubicBezTo>
              </a:path>
              <a:path w="3200" h="621">
                <a:moveTo>
                  <a:pt x="3746" y="11782"/>
                </a:moveTo>
                <a:cubicBezTo>
                  <a:pt x="3686" y="11742"/>
                  <a:pt x="3696" y="11751"/>
                  <a:pt x="3696" y="11683"/>
                </a:cubicBezTo>
                <a:cubicBezTo>
                  <a:pt x="3696" y="11631"/>
                  <a:pt x="3774" y="11594"/>
                  <a:pt x="3820" y="11584"/>
                </a:cubicBezTo>
                <a:cubicBezTo>
                  <a:pt x="3893" y="11568"/>
                  <a:pt x="3936" y="11590"/>
                  <a:pt x="3944" y="11658"/>
                </a:cubicBezTo>
                <a:cubicBezTo>
                  <a:pt x="3952" y="11729"/>
                  <a:pt x="3901" y="11793"/>
                  <a:pt x="3845" y="11832"/>
                </a:cubicBezTo>
                <a:cubicBezTo>
                  <a:pt x="3802" y="11863"/>
                  <a:pt x="3757" y="11897"/>
                  <a:pt x="3820" y="11931"/>
                </a:cubicBezTo>
                <a:cubicBezTo>
                  <a:pt x="3874" y="11960"/>
                  <a:pt x="3979" y="11966"/>
                  <a:pt x="4018" y="12005"/>
                </a:cubicBezTo>
                <a:cubicBezTo>
                  <a:pt x="4037" y="12024"/>
                  <a:pt x="4013" y="12095"/>
                  <a:pt x="3994" y="12105"/>
                </a:cubicBezTo>
                <a:cubicBezTo>
                  <a:pt x="3955" y="12125"/>
                  <a:pt x="3889" y="12145"/>
                  <a:pt x="3845" y="12154"/>
                </a:cubicBezTo>
              </a:path>
              <a:path w="3200" h="621">
                <a:moveTo>
                  <a:pt x="4266" y="12080"/>
                </a:moveTo>
                <a:cubicBezTo>
                  <a:pt x="4359" y="12080"/>
                  <a:pt x="4360" y="12097"/>
                  <a:pt x="4415" y="12055"/>
                </a:cubicBezTo>
              </a:path>
              <a:path w="3200" h="621">
                <a:moveTo>
                  <a:pt x="4589" y="11708"/>
                </a:moveTo>
                <a:cubicBezTo>
                  <a:pt x="4589" y="11683"/>
                  <a:pt x="4589" y="11658"/>
                  <a:pt x="4589" y="11633"/>
                </a:cubicBezTo>
                <a:cubicBezTo>
                  <a:pt x="4576" y="11696"/>
                  <a:pt x="4544" y="11741"/>
                  <a:pt x="4539" y="11807"/>
                </a:cubicBezTo>
                <a:cubicBezTo>
                  <a:pt x="4535" y="11864"/>
                  <a:pt x="4555" y="11878"/>
                  <a:pt x="4614" y="11881"/>
                </a:cubicBezTo>
                <a:cubicBezTo>
                  <a:pt x="4678" y="11884"/>
                  <a:pt x="4757" y="11898"/>
                  <a:pt x="4812" y="11931"/>
                </a:cubicBezTo>
                <a:cubicBezTo>
                  <a:pt x="4845" y="11951"/>
                  <a:pt x="4858" y="12041"/>
                  <a:pt x="4812" y="12055"/>
                </a:cubicBezTo>
                <a:cubicBezTo>
                  <a:pt x="4762" y="12055"/>
                  <a:pt x="4746" y="12055"/>
                  <a:pt x="4713" y="12055"/>
                </a:cubicBezTo>
              </a:path>
              <a:path w="3200" h="621">
                <a:moveTo>
                  <a:pt x="4564" y="11807"/>
                </a:moveTo>
                <a:cubicBezTo>
                  <a:pt x="4675" y="11650"/>
                  <a:pt x="4709" y="11641"/>
                  <a:pt x="4887" y="11584"/>
                </a:cubicBezTo>
                <a:cubicBezTo>
                  <a:pt x="4961" y="11559"/>
                  <a:pt x="4986" y="11551"/>
                  <a:pt x="5035" y="11534"/>
                </a:cubicBezTo>
              </a:path>
              <a:path w="3200" h="621">
                <a:moveTo>
                  <a:pt x="5457" y="11881"/>
                </a:moveTo>
                <a:cubicBezTo>
                  <a:pt x="5470" y="11842"/>
                  <a:pt x="5469" y="11871"/>
                  <a:pt x="5482" y="11832"/>
                </a:cubicBezTo>
                <a:cubicBezTo>
                  <a:pt x="5438" y="11843"/>
                  <a:pt x="5392" y="11878"/>
                  <a:pt x="5383" y="11931"/>
                </a:cubicBezTo>
                <a:cubicBezTo>
                  <a:pt x="5365" y="12031"/>
                  <a:pt x="5440" y="12131"/>
                  <a:pt x="5531" y="12154"/>
                </a:cubicBezTo>
                <a:cubicBezTo>
                  <a:pt x="5589" y="12154"/>
                  <a:pt x="5614" y="12154"/>
                  <a:pt x="5655" y="12154"/>
                </a:cubicBezTo>
              </a:path>
              <a:path w="3200" h="621">
                <a:moveTo>
                  <a:pt x="5755" y="11956"/>
                </a:moveTo>
                <a:cubicBezTo>
                  <a:pt x="5799" y="11902"/>
                  <a:pt x="5830" y="11881"/>
                  <a:pt x="5879" y="11956"/>
                </a:cubicBezTo>
                <a:cubicBezTo>
                  <a:pt x="5913" y="12008"/>
                  <a:pt x="5917" y="12058"/>
                  <a:pt x="5879" y="12105"/>
                </a:cubicBezTo>
                <a:cubicBezTo>
                  <a:pt x="5838" y="12155"/>
                  <a:pt x="5772" y="12130"/>
                  <a:pt x="5730" y="12105"/>
                </a:cubicBezTo>
              </a:path>
              <a:path w="3200" h="621">
                <a:moveTo>
                  <a:pt x="6102" y="11733"/>
                </a:moveTo>
                <a:cubicBezTo>
                  <a:pt x="6127" y="11725"/>
                  <a:pt x="6151" y="11716"/>
                  <a:pt x="6176" y="11708"/>
                </a:cubicBezTo>
                <a:cubicBezTo>
                  <a:pt x="6123" y="11762"/>
                  <a:pt x="6081" y="11783"/>
                  <a:pt x="6077" y="11857"/>
                </a:cubicBezTo>
                <a:cubicBezTo>
                  <a:pt x="6072" y="11936"/>
                  <a:pt x="6169" y="11961"/>
                  <a:pt x="6226" y="12005"/>
                </a:cubicBezTo>
                <a:cubicBezTo>
                  <a:pt x="6261" y="12031"/>
                  <a:pt x="6284" y="12048"/>
                  <a:pt x="6300" y="12080"/>
                </a:cubicBezTo>
                <a:cubicBezTo>
                  <a:pt x="6274" y="12133"/>
                  <a:pt x="6236" y="12145"/>
                  <a:pt x="6176" y="121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46200" y="4152960"/>
            <a:ext cx="384480" cy="249120"/>
          </a:xfrm>
          <a:custGeom>
            <a:avLst/>
            <a:gdLst/>
            <a:ahLst/>
            <a:rect l="l" t="t" r="r" b="b"/>
            <a:pathLst>
              <a:path w="1068" h="696">
                <a:moveTo>
                  <a:pt x="6796" y="11683"/>
                </a:moveTo>
                <a:cubicBezTo>
                  <a:pt x="6920" y="11618"/>
                  <a:pt x="6891" y="11609"/>
                  <a:pt x="6995" y="11609"/>
                </a:cubicBezTo>
                <a:cubicBezTo>
                  <a:pt x="6954" y="11690"/>
                  <a:pt x="6925" y="11770"/>
                  <a:pt x="6896" y="11857"/>
                </a:cubicBezTo>
                <a:cubicBezTo>
                  <a:pt x="6880" y="11904"/>
                  <a:pt x="6836" y="12018"/>
                  <a:pt x="6896" y="12055"/>
                </a:cubicBezTo>
                <a:cubicBezTo>
                  <a:pt x="6956" y="12092"/>
                  <a:pt x="7111" y="12044"/>
                  <a:pt x="7169" y="12030"/>
                </a:cubicBezTo>
                <a:cubicBezTo>
                  <a:pt x="7217" y="12019"/>
                  <a:pt x="7281" y="12019"/>
                  <a:pt x="7293" y="12055"/>
                </a:cubicBezTo>
              </a:path>
              <a:path w="1068" h="696">
                <a:moveTo>
                  <a:pt x="7094" y="11906"/>
                </a:moveTo>
                <a:cubicBezTo>
                  <a:pt x="7094" y="12014"/>
                  <a:pt x="7094" y="12121"/>
                  <a:pt x="7094" y="12229"/>
                </a:cubicBezTo>
              </a:path>
              <a:path w="1068" h="696">
                <a:moveTo>
                  <a:pt x="7665" y="11609"/>
                </a:moveTo>
                <a:cubicBezTo>
                  <a:pt x="7708" y="11576"/>
                  <a:pt x="7799" y="11551"/>
                  <a:pt x="7764" y="11534"/>
                </a:cubicBezTo>
                <a:cubicBezTo>
                  <a:pt x="7704" y="11582"/>
                  <a:pt x="7616" y="11625"/>
                  <a:pt x="7565" y="11683"/>
                </a:cubicBezTo>
                <a:cubicBezTo>
                  <a:pt x="7536" y="11716"/>
                  <a:pt x="7505" y="11772"/>
                  <a:pt x="7491" y="11807"/>
                </a:cubicBezTo>
                <a:cubicBezTo>
                  <a:pt x="7563" y="11848"/>
                  <a:pt x="7613" y="11849"/>
                  <a:pt x="7689" y="11881"/>
                </a:cubicBezTo>
                <a:cubicBezTo>
                  <a:pt x="7746" y="11905"/>
                  <a:pt x="7799" y="11922"/>
                  <a:pt x="7813" y="11981"/>
                </a:cubicBezTo>
                <a:cubicBezTo>
                  <a:pt x="7770" y="12015"/>
                  <a:pt x="7725" y="12048"/>
                  <a:pt x="7665" y="12030"/>
                </a:cubicBezTo>
                <a:cubicBezTo>
                  <a:pt x="7586" y="12007"/>
                  <a:pt x="7566" y="11949"/>
                  <a:pt x="7615" y="11881"/>
                </a:cubicBezTo>
                <a:cubicBezTo>
                  <a:pt x="7676" y="11797"/>
                  <a:pt x="7788" y="11733"/>
                  <a:pt x="7863" y="116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16160" y="4276800"/>
            <a:ext cx="71640" cy="63360"/>
          </a:xfrm>
          <a:custGeom>
            <a:avLst/>
            <a:gdLst/>
            <a:ahLst/>
            <a:rect l="l" t="t" r="r" b="b"/>
            <a:pathLst>
              <a:path w="199" h="175">
                <a:moveTo>
                  <a:pt x="8806" y="11931"/>
                </a:moveTo>
                <a:cubicBezTo>
                  <a:pt x="8828" y="11908"/>
                  <a:pt x="8833" y="11900"/>
                  <a:pt x="8855" y="11906"/>
                </a:cubicBezTo>
                <a:cubicBezTo>
                  <a:pt x="8800" y="11865"/>
                  <a:pt x="8787" y="11889"/>
                  <a:pt x="8731" y="11906"/>
                </a:cubicBezTo>
                <a:cubicBezTo>
                  <a:pt x="8698" y="11906"/>
                  <a:pt x="8682" y="11906"/>
                  <a:pt x="8657" y="11906"/>
                </a:cubicBezTo>
              </a:path>
              <a:path w="199" h="175">
                <a:moveTo>
                  <a:pt x="8781" y="12005"/>
                </a:moveTo>
                <a:cubicBezTo>
                  <a:pt x="8824" y="12048"/>
                  <a:pt x="8732" y="12036"/>
                  <a:pt x="8682" y="120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473280" y="4179960"/>
            <a:ext cx="1125720" cy="276120"/>
          </a:xfrm>
          <a:custGeom>
            <a:avLst/>
            <a:gdLst/>
            <a:ahLst/>
            <a:rect l="l" t="t" r="r" b="b"/>
            <a:pathLst>
              <a:path w="3126" h="770">
                <a:moveTo>
                  <a:pt x="9674" y="11807"/>
                </a:moveTo>
                <a:cubicBezTo>
                  <a:pt x="9661" y="11801"/>
                  <a:pt x="9660" y="11744"/>
                  <a:pt x="9699" y="11708"/>
                </a:cubicBezTo>
                <a:cubicBezTo>
                  <a:pt x="9748" y="11663"/>
                  <a:pt x="9807" y="11613"/>
                  <a:pt x="9872" y="11609"/>
                </a:cubicBezTo>
                <a:cubicBezTo>
                  <a:pt x="9933" y="11606"/>
                  <a:pt x="9997" y="11691"/>
                  <a:pt x="9971" y="11757"/>
                </a:cubicBezTo>
                <a:cubicBezTo>
                  <a:pt x="9932" y="11857"/>
                  <a:pt x="9868" y="11956"/>
                  <a:pt x="9823" y="12055"/>
                </a:cubicBezTo>
                <a:cubicBezTo>
                  <a:pt x="9802" y="12101"/>
                  <a:pt x="9745" y="12173"/>
                  <a:pt x="9773" y="12229"/>
                </a:cubicBezTo>
                <a:cubicBezTo>
                  <a:pt x="9793" y="12268"/>
                  <a:pt x="9888" y="12264"/>
                  <a:pt x="9922" y="12254"/>
                </a:cubicBezTo>
                <a:cubicBezTo>
                  <a:pt x="9994" y="12234"/>
                  <a:pt x="10019" y="12204"/>
                  <a:pt x="10096" y="12204"/>
                </a:cubicBezTo>
              </a:path>
              <a:path w="3126" h="770">
                <a:moveTo>
                  <a:pt x="10319" y="12179"/>
                </a:moveTo>
                <a:cubicBezTo>
                  <a:pt x="10327" y="12179"/>
                  <a:pt x="10336" y="12179"/>
                  <a:pt x="10344" y="12179"/>
                </a:cubicBezTo>
              </a:path>
              <a:path w="3126" h="770">
                <a:moveTo>
                  <a:pt x="10492" y="11832"/>
                </a:moveTo>
                <a:cubicBezTo>
                  <a:pt x="10466" y="11823"/>
                  <a:pt x="10455" y="11796"/>
                  <a:pt x="10468" y="11757"/>
                </a:cubicBezTo>
                <a:cubicBezTo>
                  <a:pt x="10498" y="11672"/>
                  <a:pt x="10537" y="11683"/>
                  <a:pt x="10616" y="11683"/>
                </a:cubicBezTo>
                <a:cubicBezTo>
                  <a:pt x="10668" y="11683"/>
                  <a:pt x="10738" y="11718"/>
                  <a:pt x="10716" y="11782"/>
                </a:cubicBezTo>
                <a:cubicBezTo>
                  <a:pt x="10693" y="11851"/>
                  <a:pt x="10615" y="11910"/>
                  <a:pt x="10592" y="11981"/>
                </a:cubicBezTo>
                <a:cubicBezTo>
                  <a:pt x="10578" y="12024"/>
                  <a:pt x="10662" y="12070"/>
                  <a:pt x="10691" y="12080"/>
                </a:cubicBezTo>
                <a:cubicBezTo>
                  <a:pt x="10737" y="12095"/>
                  <a:pt x="10786" y="12095"/>
                  <a:pt x="10790" y="12154"/>
                </a:cubicBezTo>
                <a:cubicBezTo>
                  <a:pt x="10794" y="12206"/>
                  <a:pt x="10771" y="12250"/>
                  <a:pt x="10716" y="12254"/>
                </a:cubicBezTo>
                <a:cubicBezTo>
                  <a:pt x="10675" y="12257"/>
                  <a:pt x="10633" y="12254"/>
                  <a:pt x="10592" y="12254"/>
                </a:cubicBezTo>
              </a:path>
              <a:path w="3126" h="770">
                <a:moveTo>
                  <a:pt x="10988" y="11733"/>
                </a:moveTo>
                <a:cubicBezTo>
                  <a:pt x="11052" y="11691"/>
                  <a:pt x="11063" y="11674"/>
                  <a:pt x="11112" y="11683"/>
                </a:cubicBezTo>
                <a:cubicBezTo>
                  <a:pt x="11112" y="11763"/>
                  <a:pt x="11116" y="11829"/>
                  <a:pt x="11088" y="11906"/>
                </a:cubicBezTo>
                <a:cubicBezTo>
                  <a:pt x="11063" y="11977"/>
                  <a:pt x="11013" y="12048"/>
                  <a:pt x="11038" y="12129"/>
                </a:cubicBezTo>
                <a:cubicBezTo>
                  <a:pt x="11061" y="12204"/>
                  <a:pt x="11119" y="12179"/>
                  <a:pt x="11187" y="12179"/>
                </a:cubicBezTo>
                <a:cubicBezTo>
                  <a:pt x="11264" y="12179"/>
                  <a:pt x="11333" y="12143"/>
                  <a:pt x="11410" y="12129"/>
                </a:cubicBezTo>
                <a:cubicBezTo>
                  <a:pt x="11455" y="12120"/>
                  <a:pt x="11579" y="12111"/>
                  <a:pt x="11584" y="12154"/>
                </a:cubicBezTo>
                <a:cubicBezTo>
                  <a:pt x="11584" y="12162"/>
                  <a:pt x="11584" y="12171"/>
                  <a:pt x="11584" y="12179"/>
                </a:cubicBezTo>
              </a:path>
              <a:path w="3126" h="770">
                <a:moveTo>
                  <a:pt x="11435" y="12105"/>
                </a:moveTo>
                <a:cubicBezTo>
                  <a:pt x="11427" y="12097"/>
                  <a:pt x="11418" y="12088"/>
                  <a:pt x="11410" y="12080"/>
                </a:cubicBezTo>
                <a:cubicBezTo>
                  <a:pt x="11364" y="12155"/>
                  <a:pt x="11398" y="12193"/>
                  <a:pt x="11410" y="12278"/>
                </a:cubicBezTo>
                <a:cubicBezTo>
                  <a:pt x="11410" y="12328"/>
                  <a:pt x="11410" y="12345"/>
                  <a:pt x="11410" y="12378"/>
                </a:cubicBezTo>
              </a:path>
              <a:path w="3126" h="770">
                <a:moveTo>
                  <a:pt x="11733" y="11782"/>
                </a:moveTo>
                <a:cubicBezTo>
                  <a:pt x="11770" y="11688"/>
                  <a:pt x="11763" y="11670"/>
                  <a:pt x="11807" y="11633"/>
                </a:cubicBezTo>
                <a:cubicBezTo>
                  <a:pt x="11846" y="11711"/>
                  <a:pt x="11832" y="11812"/>
                  <a:pt x="11832" y="11906"/>
                </a:cubicBezTo>
                <a:cubicBezTo>
                  <a:pt x="11832" y="12014"/>
                  <a:pt x="11832" y="12121"/>
                  <a:pt x="11832" y="12229"/>
                </a:cubicBezTo>
              </a:path>
              <a:path w="3126" h="770">
                <a:moveTo>
                  <a:pt x="12005" y="12005"/>
                </a:moveTo>
                <a:cubicBezTo>
                  <a:pt x="12025" y="11965"/>
                  <a:pt x="12034" y="11959"/>
                  <a:pt x="12030" y="11931"/>
                </a:cubicBezTo>
                <a:cubicBezTo>
                  <a:pt x="11967" y="11952"/>
                  <a:pt x="11980" y="11987"/>
                  <a:pt x="11956" y="12055"/>
                </a:cubicBezTo>
                <a:cubicBezTo>
                  <a:pt x="11934" y="12119"/>
                  <a:pt x="11931" y="12160"/>
                  <a:pt x="11931" y="12229"/>
                </a:cubicBezTo>
                <a:cubicBezTo>
                  <a:pt x="11995" y="12229"/>
                  <a:pt x="12027" y="12219"/>
                  <a:pt x="12080" y="12179"/>
                </a:cubicBezTo>
                <a:cubicBezTo>
                  <a:pt x="12134" y="12138"/>
                  <a:pt x="12181" y="12078"/>
                  <a:pt x="12229" y="12030"/>
                </a:cubicBezTo>
                <a:cubicBezTo>
                  <a:pt x="12264" y="12077"/>
                  <a:pt x="12254" y="12117"/>
                  <a:pt x="12254" y="12179"/>
                </a:cubicBezTo>
                <a:cubicBezTo>
                  <a:pt x="12254" y="12207"/>
                  <a:pt x="12256" y="12218"/>
                  <a:pt x="12278" y="12229"/>
                </a:cubicBezTo>
                <a:cubicBezTo>
                  <a:pt x="12308" y="12189"/>
                  <a:pt x="12313" y="12115"/>
                  <a:pt x="12353" y="12080"/>
                </a:cubicBezTo>
                <a:cubicBezTo>
                  <a:pt x="12390" y="12047"/>
                  <a:pt x="12451" y="12099"/>
                  <a:pt x="12477" y="12105"/>
                </a:cubicBezTo>
                <a:cubicBezTo>
                  <a:pt x="12560" y="12123"/>
                  <a:pt x="12541" y="12072"/>
                  <a:pt x="12601" y="12055"/>
                </a:cubicBezTo>
                <a:cubicBezTo>
                  <a:pt x="12657" y="12039"/>
                  <a:pt x="12731" y="12054"/>
                  <a:pt x="12774" y="12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rcRect l="4025" t="54075" r="7161" b="11263"/>
          <a:stretch/>
        </p:blipFill>
        <p:spPr>
          <a:xfrm rot="185400">
            <a:off x="-12600" y="307440"/>
            <a:ext cx="9144000" cy="49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rcRect l="5391" t="5831" r="10950" b="50185"/>
          <a:stretch/>
        </p:blipFill>
        <p:spPr>
          <a:xfrm>
            <a:off x="-152280" y="0"/>
            <a:ext cx="9296280" cy="67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rcRect l="7332" t="51285" r="11070" b="9957"/>
          <a:stretch/>
        </p:blipFill>
        <p:spPr>
          <a:xfrm>
            <a:off x="0" y="0"/>
            <a:ext cx="91440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rcRect l="0" t="7151" r="16054" b="54593"/>
          <a:stretch/>
        </p:blipFill>
        <p:spPr>
          <a:xfrm>
            <a:off x="0" y="0"/>
            <a:ext cx="914400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rcRect l="3738" t="47665" r="15239" b="8042"/>
          <a:stretch/>
        </p:blipFill>
        <p:spPr>
          <a:xfrm>
            <a:off x="0" y="0"/>
            <a:ext cx="86709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rcRect l="7883" t="7433" r="10950" b="28461"/>
          <a:stretch/>
        </p:blipFill>
        <p:spPr>
          <a:xfrm>
            <a:off x="0" y="0"/>
            <a:ext cx="630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2798" t="62148" r="12441" b="3311"/>
          <a:stretch/>
        </p:blipFill>
        <p:spPr>
          <a:xfrm>
            <a:off x="0" y="0"/>
            <a:ext cx="7524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6577" t="7066" r="10968" b="41938"/>
          <a:stretch/>
        </p:blipFill>
        <p:spPr>
          <a:xfrm>
            <a:off x="0" y="-22320"/>
            <a:ext cx="8101080" cy="6897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81800" y="669960"/>
            <a:ext cx="204480" cy="492120"/>
          </a:xfrm>
          <a:custGeom>
            <a:avLst/>
            <a:gdLst/>
            <a:ahLst/>
            <a:rect l="l" t="t" r="r" b="b"/>
            <a:pathLst>
              <a:path w="571" h="1366">
                <a:moveTo>
                  <a:pt x="15677" y="2034"/>
                </a:moveTo>
                <a:cubicBezTo>
                  <a:pt x="15701" y="1976"/>
                  <a:pt x="15701" y="1948"/>
                  <a:pt x="15701" y="1885"/>
                </a:cubicBezTo>
                <a:cubicBezTo>
                  <a:pt x="15701" y="1877"/>
                  <a:pt x="15701" y="1868"/>
                  <a:pt x="15701" y="1860"/>
                </a:cubicBezTo>
                <a:cubicBezTo>
                  <a:pt x="15701" y="1993"/>
                  <a:pt x="15684" y="2133"/>
                  <a:pt x="15726" y="2257"/>
                </a:cubicBezTo>
              </a:path>
              <a:path w="571" h="1366">
                <a:moveTo>
                  <a:pt x="15999" y="2431"/>
                </a:moveTo>
                <a:cubicBezTo>
                  <a:pt x="16016" y="2439"/>
                  <a:pt x="16032" y="2448"/>
                  <a:pt x="16049" y="2456"/>
                </a:cubicBezTo>
                <a:cubicBezTo>
                  <a:pt x="15912" y="2456"/>
                  <a:pt x="15784" y="2463"/>
                  <a:pt x="15652" y="2480"/>
                </a:cubicBezTo>
                <a:cubicBezTo>
                  <a:pt x="15591" y="2488"/>
                  <a:pt x="15556" y="2517"/>
                  <a:pt x="15503" y="2530"/>
                </a:cubicBezTo>
              </a:path>
              <a:path w="571" h="1366">
                <a:moveTo>
                  <a:pt x="15652" y="2604"/>
                </a:moveTo>
                <a:cubicBezTo>
                  <a:pt x="15668" y="2596"/>
                  <a:pt x="15685" y="2588"/>
                  <a:pt x="15701" y="2580"/>
                </a:cubicBezTo>
                <a:cubicBezTo>
                  <a:pt x="15701" y="2659"/>
                  <a:pt x="15686" y="2730"/>
                  <a:pt x="15677" y="2803"/>
                </a:cubicBezTo>
                <a:cubicBezTo>
                  <a:pt x="15668" y="2880"/>
                  <a:pt x="15644" y="3021"/>
                  <a:pt x="15726" y="3051"/>
                </a:cubicBezTo>
                <a:cubicBezTo>
                  <a:pt x="15781" y="3071"/>
                  <a:pt x="15856" y="3031"/>
                  <a:pt x="15900" y="3001"/>
                </a:cubicBezTo>
                <a:cubicBezTo>
                  <a:pt x="15938" y="2975"/>
                  <a:pt x="16000" y="2944"/>
                  <a:pt x="16049" y="2927"/>
                </a:cubicBezTo>
                <a:cubicBezTo>
                  <a:pt x="16092" y="2912"/>
                  <a:pt x="16054" y="2956"/>
                  <a:pt x="16049" y="2977"/>
                </a:cubicBezTo>
              </a:path>
              <a:path w="571" h="1366">
                <a:moveTo>
                  <a:pt x="15925" y="2853"/>
                </a:moveTo>
                <a:cubicBezTo>
                  <a:pt x="15875" y="2836"/>
                  <a:pt x="15900" y="2908"/>
                  <a:pt x="15900" y="2977"/>
                </a:cubicBezTo>
                <a:cubicBezTo>
                  <a:pt x="15900" y="3068"/>
                  <a:pt x="15939" y="3138"/>
                  <a:pt x="15949" y="32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0200" y="892080"/>
            <a:ext cx="142920" cy="19080"/>
          </a:xfrm>
          <a:custGeom>
            <a:avLst/>
            <a:gdLst/>
            <a:ahLst/>
            <a:rect l="l" t="t" r="r" b="b"/>
            <a:pathLst>
              <a:path w="397" h="51">
                <a:moveTo>
                  <a:pt x="16718" y="2530"/>
                </a:moveTo>
                <a:cubicBezTo>
                  <a:pt x="16654" y="2530"/>
                  <a:pt x="16784" y="2508"/>
                  <a:pt x="16793" y="2505"/>
                </a:cubicBezTo>
                <a:cubicBezTo>
                  <a:pt x="16870" y="2478"/>
                  <a:pt x="16932" y="2480"/>
                  <a:pt x="17016" y="2480"/>
                </a:cubicBezTo>
                <a:cubicBezTo>
                  <a:pt x="17057" y="2480"/>
                  <a:pt x="17065" y="2480"/>
                  <a:pt x="17090" y="24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27880" y="660240"/>
            <a:ext cx="295200" cy="420840"/>
          </a:xfrm>
          <a:custGeom>
            <a:avLst/>
            <a:gdLst/>
            <a:ahLst/>
            <a:rect l="l" t="t" r="r" b="b"/>
            <a:pathLst>
              <a:path w="820" h="1166">
                <a:moveTo>
                  <a:pt x="18231" y="2034"/>
                </a:moveTo>
                <a:cubicBezTo>
                  <a:pt x="18191" y="2020"/>
                  <a:pt x="18201" y="1994"/>
                  <a:pt x="18231" y="1960"/>
                </a:cubicBezTo>
                <a:cubicBezTo>
                  <a:pt x="18271" y="1915"/>
                  <a:pt x="18281" y="1856"/>
                  <a:pt x="18355" y="1836"/>
                </a:cubicBezTo>
                <a:cubicBezTo>
                  <a:pt x="18390" y="1826"/>
                  <a:pt x="18442" y="1836"/>
                  <a:pt x="18479" y="1836"/>
                </a:cubicBezTo>
                <a:cubicBezTo>
                  <a:pt x="18479" y="1919"/>
                  <a:pt x="18467" y="1960"/>
                  <a:pt x="18430" y="2034"/>
                </a:cubicBezTo>
                <a:cubicBezTo>
                  <a:pt x="18404" y="2086"/>
                  <a:pt x="18320" y="2133"/>
                  <a:pt x="18306" y="2183"/>
                </a:cubicBezTo>
                <a:cubicBezTo>
                  <a:pt x="18288" y="2246"/>
                  <a:pt x="18356" y="2255"/>
                  <a:pt x="18405" y="2257"/>
                </a:cubicBezTo>
                <a:cubicBezTo>
                  <a:pt x="18493" y="2261"/>
                  <a:pt x="18544" y="2213"/>
                  <a:pt x="18628" y="2208"/>
                </a:cubicBezTo>
                <a:cubicBezTo>
                  <a:pt x="18670" y="2208"/>
                  <a:pt x="18678" y="2208"/>
                  <a:pt x="18703" y="2208"/>
                </a:cubicBezTo>
              </a:path>
              <a:path w="820" h="1166">
                <a:moveTo>
                  <a:pt x="18926" y="2381"/>
                </a:moveTo>
                <a:cubicBezTo>
                  <a:pt x="18934" y="2373"/>
                  <a:pt x="18943" y="2364"/>
                  <a:pt x="18951" y="2356"/>
                </a:cubicBezTo>
                <a:cubicBezTo>
                  <a:pt x="18856" y="2356"/>
                  <a:pt x="18771" y="2373"/>
                  <a:pt x="18678" y="2381"/>
                </a:cubicBezTo>
                <a:cubicBezTo>
                  <a:pt x="18538" y="2393"/>
                  <a:pt x="18394" y="2377"/>
                  <a:pt x="18256" y="2406"/>
                </a:cubicBezTo>
                <a:cubicBezTo>
                  <a:pt x="18195" y="2419"/>
                  <a:pt x="18186" y="2431"/>
                  <a:pt x="18132" y="2431"/>
                </a:cubicBezTo>
              </a:path>
              <a:path w="820" h="1166">
                <a:moveTo>
                  <a:pt x="18157" y="2679"/>
                </a:moveTo>
                <a:cubicBezTo>
                  <a:pt x="18177" y="2638"/>
                  <a:pt x="18186" y="2632"/>
                  <a:pt x="18182" y="2604"/>
                </a:cubicBezTo>
                <a:cubicBezTo>
                  <a:pt x="18182" y="2692"/>
                  <a:pt x="18204" y="2766"/>
                  <a:pt x="18207" y="2853"/>
                </a:cubicBezTo>
                <a:cubicBezTo>
                  <a:pt x="18207" y="2919"/>
                  <a:pt x="18207" y="2936"/>
                  <a:pt x="18207" y="2977"/>
                </a:cubicBezTo>
              </a:path>
              <a:path w="820" h="1166">
                <a:moveTo>
                  <a:pt x="18653" y="2604"/>
                </a:moveTo>
                <a:cubicBezTo>
                  <a:pt x="18695" y="2594"/>
                  <a:pt x="18723" y="2577"/>
                  <a:pt x="18728" y="2530"/>
                </a:cubicBezTo>
                <a:cubicBezTo>
                  <a:pt x="18728" y="2522"/>
                  <a:pt x="18728" y="2513"/>
                  <a:pt x="18728" y="2505"/>
                </a:cubicBezTo>
                <a:cubicBezTo>
                  <a:pt x="18711" y="2454"/>
                  <a:pt x="18670" y="2482"/>
                  <a:pt x="18628" y="2505"/>
                </a:cubicBezTo>
                <a:cubicBezTo>
                  <a:pt x="18545" y="2550"/>
                  <a:pt x="18539" y="2615"/>
                  <a:pt x="18529" y="2704"/>
                </a:cubicBezTo>
                <a:cubicBezTo>
                  <a:pt x="18604" y="2749"/>
                  <a:pt x="18604" y="2735"/>
                  <a:pt x="18653" y="2679"/>
                </a:cubicBezTo>
                <a:cubicBezTo>
                  <a:pt x="18696" y="2629"/>
                  <a:pt x="18715" y="2617"/>
                  <a:pt x="18728" y="2555"/>
                </a:cubicBezTo>
                <a:cubicBezTo>
                  <a:pt x="18781" y="2637"/>
                  <a:pt x="18802" y="2732"/>
                  <a:pt x="18827" y="2828"/>
                </a:cubicBezTo>
                <a:cubicBezTo>
                  <a:pt x="18850" y="2919"/>
                  <a:pt x="18856" y="2944"/>
                  <a:pt x="18876" y="30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35000" y="428760"/>
            <a:ext cx="206280" cy="187200"/>
          </a:xfrm>
          <a:custGeom>
            <a:avLst/>
            <a:gdLst/>
            <a:ahLst/>
            <a:rect l="l" t="t" r="r" b="b"/>
            <a:pathLst>
              <a:path w="572" h="522">
                <a:moveTo>
                  <a:pt x="3423" y="1240"/>
                </a:moveTo>
                <a:cubicBezTo>
                  <a:pt x="3483" y="1210"/>
                  <a:pt x="3375" y="1215"/>
                  <a:pt x="3349" y="1215"/>
                </a:cubicBezTo>
                <a:cubicBezTo>
                  <a:pt x="3260" y="1215"/>
                  <a:pt x="3184" y="1226"/>
                  <a:pt x="3101" y="1240"/>
                </a:cubicBezTo>
                <a:cubicBezTo>
                  <a:pt x="3036" y="1251"/>
                  <a:pt x="2929" y="1250"/>
                  <a:pt x="2902" y="1215"/>
                </a:cubicBezTo>
                <a:cubicBezTo>
                  <a:pt x="2894" y="1207"/>
                  <a:pt x="2885" y="1199"/>
                  <a:pt x="2877" y="1191"/>
                </a:cubicBezTo>
              </a:path>
              <a:path w="572" h="522">
                <a:moveTo>
                  <a:pt x="3175" y="1439"/>
                </a:moveTo>
                <a:cubicBezTo>
                  <a:pt x="3183" y="1431"/>
                  <a:pt x="3192" y="1422"/>
                  <a:pt x="3200" y="1414"/>
                </a:cubicBezTo>
                <a:cubicBezTo>
                  <a:pt x="3156" y="1429"/>
                  <a:pt x="3175" y="1485"/>
                  <a:pt x="3175" y="1538"/>
                </a:cubicBezTo>
                <a:cubicBezTo>
                  <a:pt x="3175" y="1609"/>
                  <a:pt x="3173" y="1648"/>
                  <a:pt x="3200" y="17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41280" y="268200"/>
            <a:ext cx="98640" cy="34920"/>
          </a:xfrm>
          <a:custGeom>
            <a:avLst/>
            <a:gdLst/>
            <a:ahLst/>
            <a:rect l="l" t="t" r="r" b="b"/>
            <a:pathLst>
              <a:path w="274" h="100">
                <a:moveTo>
                  <a:pt x="3448" y="744"/>
                </a:moveTo>
                <a:cubicBezTo>
                  <a:pt x="3507" y="762"/>
                  <a:pt x="3570" y="779"/>
                  <a:pt x="3621" y="794"/>
                </a:cubicBezTo>
                <a:cubicBezTo>
                  <a:pt x="3660" y="806"/>
                  <a:pt x="3687" y="818"/>
                  <a:pt x="3721" y="8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7680" y="812880"/>
            <a:ext cx="2787480" cy="669960"/>
          </a:xfrm>
          <a:custGeom>
            <a:avLst/>
            <a:gdLst/>
            <a:ahLst/>
            <a:rect l="l" t="t" r="r" b="b"/>
            <a:pathLst>
              <a:path w="7740" h="1862">
                <a:moveTo>
                  <a:pt x="2604" y="2902"/>
                </a:moveTo>
                <a:cubicBezTo>
                  <a:pt x="2565" y="2915"/>
                  <a:pt x="2594" y="2914"/>
                  <a:pt x="2555" y="2927"/>
                </a:cubicBezTo>
                <a:cubicBezTo>
                  <a:pt x="2528" y="2918"/>
                  <a:pt x="2509" y="2909"/>
                  <a:pt x="2505" y="2877"/>
                </a:cubicBezTo>
                <a:cubicBezTo>
                  <a:pt x="2499" y="2830"/>
                  <a:pt x="2515" y="2782"/>
                  <a:pt x="2555" y="2753"/>
                </a:cubicBezTo>
                <a:cubicBezTo>
                  <a:pt x="2611" y="2713"/>
                  <a:pt x="2697" y="2718"/>
                  <a:pt x="2753" y="2753"/>
                </a:cubicBezTo>
                <a:cubicBezTo>
                  <a:pt x="2827" y="2798"/>
                  <a:pt x="2843" y="2898"/>
                  <a:pt x="2828" y="2977"/>
                </a:cubicBezTo>
                <a:cubicBezTo>
                  <a:pt x="2808" y="3082"/>
                  <a:pt x="2739" y="3134"/>
                  <a:pt x="2704" y="3225"/>
                </a:cubicBezTo>
                <a:cubicBezTo>
                  <a:pt x="2704" y="3249"/>
                  <a:pt x="2704" y="3258"/>
                  <a:pt x="2704" y="3274"/>
                </a:cubicBezTo>
                <a:cubicBezTo>
                  <a:pt x="2753" y="3274"/>
                  <a:pt x="2790" y="3257"/>
                  <a:pt x="2828" y="3249"/>
                </a:cubicBezTo>
                <a:cubicBezTo>
                  <a:pt x="2869" y="3249"/>
                  <a:pt x="2877" y="3249"/>
                  <a:pt x="2902" y="3249"/>
                </a:cubicBezTo>
              </a:path>
              <a:path w="7740" h="1862">
                <a:moveTo>
                  <a:pt x="2977" y="3150"/>
                </a:moveTo>
                <a:cubicBezTo>
                  <a:pt x="2977" y="3096"/>
                  <a:pt x="2964" y="3029"/>
                  <a:pt x="3026" y="3001"/>
                </a:cubicBezTo>
                <a:cubicBezTo>
                  <a:pt x="3046" y="2992"/>
                  <a:pt x="3097" y="2962"/>
                  <a:pt x="3125" y="2977"/>
                </a:cubicBezTo>
                <a:cubicBezTo>
                  <a:pt x="3170" y="3001"/>
                  <a:pt x="3189" y="3078"/>
                  <a:pt x="3175" y="3125"/>
                </a:cubicBezTo>
                <a:cubicBezTo>
                  <a:pt x="3155" y="3192"/>
                  <a:pt x="3101" y="3210"/>
                  <a:pt x="3051" y="3249"/>
                </a:cubicBezTo>
              </a:path>
              <a:path w="7740" h="1862">
                <a:moveTo>
                  <a:pt x="3150" y="3026"/>
                </a:moveTo>
                <a:cubicBezTo>
                  <a:pt x="3202" y="2974"/>
                  <a:pt x="3235" y="2961"/>
                  <a:pt x="3249" y="2902"/>
                </a:cubicBezTo>
                <a:cubicBezTo>
                  <a:pt x="3205" y="2913"/>
                  <a:pt x="3162" y="2950"/>
                  <a:pt x="3150" y="3001"/>
                </a:cubicBezTo>
                <a:cubicBezTo>
                  <a:pt x="3138" y="3050"/>
                  <a:pt x="3180" y="3150"/>
                  <a:pt x="3225" y="3175"/>
                </a:cubicBezTo>
                <a:cubicBezTo>
                  <a:pt x="3249" y="3175"/>
                  <a:pt x="3258" y="3175"/>
                  <a:pt x="3274" y="3175"/>
                </a:cubicBezTo>
              </a:path>
              <a:path w="7740" h="1862">
                <a:moveTo>
                  <a:pt x="3721" y="2505"/>
                </a:moveTo>
                <a:cubicBezTo>
                  <a:pt x="3778" y="2495"/>
                  <a:pt x="3794" y="2475"/>
                  <a:pt x="3746" y="2530"/>
                </a:cubicBezTo>
                <a:cubicBezTo>
                  <a:pt x="3677" y="2609"/>
                  <a:pt x="3634" y="2750"/>
                  <a:pt x="3621" y="2853"/>
                </a:cubicBezTo>
                <a:cubicBezTo>
                  <a:pt x="3610" y="2935"/>
                  <a:pt x="3599" y="3085"/>
                  <a:pt x="3646" y="3150"/>
                </a:cubicBezTo>
                <a:cubicBezTo>
                  <a:pt x="3654" y="3158"/>
                  <a:pt x="3663" y="3167"/>
                  <a:pt x="3671" y="3175"/>
                </a:cubicBezTo>
              </a:path>
              <a:path w="7740" h="1862">
                <a:moveTo>
                  <a:pt x="3919" y="2679"/>
                </a:moveTo>
                <a:cubicBezTo>
                  <a:pt x="3942" y="2656"/>
                  <a:pt x="3946" y="2648"/>
                  <a:pt x="3969" y="2654"/>
                </a:cubicBezTo>
                <a:cubicBezTo>
                  <a:pt x="3956" y="2717"/>
                  <a:pt x="3923" y="2762"/>
                  <a:pt x="3919" y="2828"/>
                </a:cubicBezTo>
                <a:cubicBezTo>
                  <a:pt x="3917" y="2867"/>
                  <a:pt x="3899" y="2955"/>
                  <a:pt x="3944" y="2977"/>
                </a:cubicBezTo>
                <a:cubicBezTo>
                  <a:pt x="4007" y="3009"/>
                  <a:pt x="4081" y="2952"/>
                  <a:pt x="4142" y="3001"/>
                </a:cubicBezTo>
                <a:cubicBezTo>
                  <a:pt x="4193" y="3042"/>
                  <a:pt x="4207" y="3065"/>
                  <a:pt x="4167" y="3125"/>
                </a:cubicBezTo>
                <a:cubicBezTo>
                  <a:pt x="4137" y="3169"/>
                  <a:pt x="4069" y="3214"/>
                  <a:pt x="4018" y="3225"/>
                </a:cubicBezTo>
                <a:cubicBezTo>
                  <a:pt x="3977" y="3225"/>
                  <a:pt x="3969" y="3225"/>
                  <a:pt x="3944" y="3225"/>
                </a:cubicBezTo>
              </a:path>
              <a:path w="7740" h="1862">
                <a:moveTo>
                  <a:pt x="4192" y="2704"/>
                </a:moveTo>
                <a:cubicBezTo>
                  <a:pt x="4255" y="2622"/>
                  <a:pt x="4285" y="2629"/>
                  <a:pt x="4217" y="2629"/>
                </a:cubicBezTo>
                <a:cubicBezTo>
                  <a:pt x="4137" y="2629"/>
                  <a:pt x="4078" y="2656"/>
                  <a:pt x="4018" y="2704"/>
                </a:cubicBezTo>
              </a:path>
              <a:path w="7740" h="1862">
                <a:moveTo>
                  <a:pt x="4465" y="2952"/>
                </a:moveTo>
                <a:cubicBezTo>
                  <a:pt x="4465" y="2960"/>
                  <a:pt x="4465" y="2969"/>
                  <a:pt x="4465" y="2977"/>
                </a:cubicBezTo>
                <a:cubicBezTo>
                  <a:pt x="4508" y="2966"/>
                  <a:pt x="4530" y="2936"/>
                  <a:pt x="4564" y="2902"/>
                </a:cubicBezTo>
                <a:cubicBezTo>
                  <a:pt x="4599" y="2867"/>
                  <a:pt x="4612" y="2877"/>
                  <a:pt x="4663" y="2877"/>
                </a:cubicBezTo>
              </a:path>
              <a:path w="7740" h="1862">
                <a:moveTo>
                  <a:pt x="4887" y="2803"/>
                </a:moveTo>
                <a:cubicBezTo>
                  <a:pt x="4907" y="2773"/>
                  <a:pt x="4934" y="2724"/>
                  <a:pt x="4986" y="2753"/>
                </a:cubicBezTo>
                <a:cubicBezTo>
                  <a:pt x="5026" y="2775"/>
                  <a:pt x="5033" y="2885"/>
                  <a:pt x="5035" y="2927"/>
                </a:cubicBezTo>
                <a:cubicBezTo>
                  <a:pt x="5039" y="3010"/>
                  <a:pt x="5013" y="3045"/>
                  <a:pt x="4936" y="3051"/>
                </a:cubicBezTo>
                <a:cubicBezTo>
                  <a:pt x="4911" y="3051"/>
                  <a:pt x="4903" y="3051"/>
                  <a:pt x="4887" y="3051"/>
                </a:cubicBezTo>
              </a:path>
              <a:path w="7740" h="1862">
                <a:moveTo>
                  <a:pt x="5060" y="2729"/>
                </a:moveTo>
                <a:cubicBezTo>
                  <a:pt x="5089" y="2678"/>
                  <a:pt x="5115" y="2669"/>
                  <a:pt x="5085" y="2654"/>
                </a:cubicBezTo>
                <a:cubicBezTo>
                  <a:pt x="5050" y="2666"/>
                  <a:pt x="5026" y="2726"/>
                  <a:pt x="5035" y="2778"/>
                </a:cubicBezTo>
                <a:cubicBezTo>
                  <a:pt x="5045" y="2835"/>
                  <a:pt x="5046" y="2948"/>
                  <a:pt x="5110" y="2977"/>
                </a:cubicBezTo>
                <a:cubicBezTo>
                  <a:pt x="5141" y="2991"/>
                  <a:pt x="5167" y="2944"/>
                  <a:pt x="5184" y="2927"/>
                </a:cubicBezTo>
              </a:path>
              <a:path w="7740" h="1862">
                <a:moveTo>
                  <a:pt x="5060" y="2431"/>
                </a:moveTo>
                <a:cubicBezTo>
                  <a:pt x="5128" y="2369"/>
                  <a:pt x="5224" y="2271"/>
                  <a:pt x="5333" y="2307"/>
                </a:cubicBezTo>
                <a:cubicBezTo>
                  <a:pt x="5492" y="2359"/>
                  <a:pt x="5533" y="2559"/>
                  <a:pt x="5531" y="2704"/>
                </a:cubicBezTo>
                <a:cubicBezTo>
                  <a:pt x="5528" y="2880"/>
                  <a:pt x="5461" y="3001"/>
                  <a:pt x="5383" y="3150"/>
                </a:cubicBezTo>
              </a:path>
              <a:path w="7740" h="1862">
                <a:moveTo>
                  <a:pt x="5432" y="3249"/>
                </a:moveTo>
                <a:cubicBezTo>
                  <a:pt x="5327" y="3249"/>
                  <a:pt x="5234" y="3257"/>
                  <a:pt x="5135" y="3274"/>
                </a:cubicBezTo>
                <a:cubicBezTo>
                  <a:pt x="5060" y="3287"/>
                  <a:pt x="4983" y="3278"/>
                  <a:pt x="4911" y="3299"/>
                </a:cubicBezTo>
                <a:cubicBezTo>
                  <a:pt x="4828" y="3323"/>
                  <a:pt x="4751" y="3347"/>
                  <a:pt x="4663" y="3349"/>
                </a:cubicBezTo>
                <a:cubicBezTo>
                  <a:pt x="4587" y="3351"/>
                  <a:pt x="4510" y="3350"/>
                  <a:pt x="4440" y="3373"/>
                </a:cubicBezTo>
                <a:cubicBezTo>
                  <a:pt x="4346" y="3404"/>
                  <a:pt x="4293" y="3423"/>
                  <a:pt x="4192" y="3423"/>
                </a:cubicBezTo>
                <a:cubicBezTo>
                  <a:pt x="4055" y="3423"/>
                  <a:pt x="3924" y="3435"/>
                  <a:pt x="3795" y="3448"/>
                </a:cubicBezTo>
                <a:cubicBezTo>
                  <a:pt x="3610" y="3467"/>
                  <a:pt x="3401" y="3452"/>
                  <a:pt x="3225" y="3423"/>
                </a:cubicBezTo>
                <a:cubicBezTo>
                  <a:pt x="3089" y="3400"/>
                  <a:pt x="2937" y="3418"/>
                  <a:pt x="2803" y="3398"/>
                </a:cubicBezTo>
                <a:cubicBezTo>
                  <a:pt x="2646" y="3374"/>
                  <a:pt x="2467" y="3398"/>
                  <a:pt x="2307" y="3398"/>
                </a:cubicBezTo>
              </a:path>
              <a:path w="7740" h="1862">
                <a:moveTo>
                  <a:pt x="3175" y="3671"/>
                </a:moveTo>
                <a:cubicBezTo>
                  <a:pt x="3183" y="3658"/>
                  <a:pt x="3247" y="3568"/>
                  <a:pt x="3225" y="3621"/>
                </a:cubicBezTo>
                <a:cubicBezTo>
                  <a:pt x="3199" y="3682"/>
                  <a:pt x="3155" y="3734"/>
                  <a:pt x="3125" y="3795"/>
                </a:cubicBezTo>
                <a:cubicBezTo>
                  <a:pt x="3105" y="3836"/>
                  <a:pt x="3097" y="3842"/>
                  <a:pt x="3101" y="3870"/>
                </a:cubicBezTo>
                <a:cubicBezTo>
                  <a:pt x="3186" y="3912"/>
                  <a:pt x="3228" y="3919"/>
                  <a:pt x="3324" y="3919"/>
                </a:cubicBezTo>
                <a:cubicBezTo>
                  <a:pt x="3379" y="3919"/>
                  <a:pt x="3445" y="3906"/>
                  <a:pt x="3473" y="3969"/>
                </a:cubicBezTo>
                <a:cubicBezTo>
                  <a:pt x="3504" y="4038"/>
                  <a:pt x="3447" y="4067"/>
                  <a:pt x="3398" y="4093"/>
                </a:cubicBezTo>
                <a:cubicBezTo>
                  <a:pt x="3339" y="4125"/>
                  <a:pt x="3290" y="4118"/>
                  <a:pt x="3225" y="4118"/>
                </a:cubicBezTo>
              </a:path>
              <a:path w="7740" h="1862">
                <a:moveTo>
                  <a:pt x="3448" y="3646"/>
                </a:moveTo>
                <a:cubicBezTo>
                  <a:pt x="3456" y="3630"/>
                  <a:pt x="3465" y="3613"/>
                  <a:pt x="3473" y="3597"/>
                </a:cubicBezTo>
                <a:cubicBezTo>
                  <a:pt x="3405" y="3621"/>
                  <a:pt x="3337" y="3628"/>
                  <a:pt x="3274" y="3671"/>
                </a:cubicBezTo>
                <a:cubicBezTo>
                  <a:pt x="3266" y="3679"/>
                  <a:pt x="3257" y="3688"/>
                  <a:pt x="3249" y="3696"/>
                </a:cubicBezTo>
              </a:path>
              <a:path w="7740" h="1862">
                <a:moveTo>
                  <a:pt x="3646" y="3919"/>
                </a:moveTo>
                <a:cubicBezTo>
                  <a:pt x="3646" y="3927"/>
                  <a:pt x="3646" y="3936"/>
                  <a:pt x="3646" y="3944"/>
                </a:cubicBezTo>
                <a:cubicBezTo>
                  <a:pt x="3700" y="3944"/>
                  <a:pt x="3728" y="3928"/>
                  <a:pt x="3770" y="3919"/>
                </a:cubicBezTo>
                <a:cubicBezTo>
                  <a:pt x="3825" y="3907"/>
                  <a:pt x="3860" y="3894"/>
                  <a:pt x="3919" y="3894"/>
                </a:cubicBezTo>
                <a:cubicBezTo>
                  <a:pt x="3927" y="3894"/>
                  <a:pt x="3936" y="3894"/>
                  <a:pt x="3944" y="3894"/>
                </a:cubicBezTo>
              </a:path>
              <a:path w="7740" h="1862">
                <a:moveTo>
                  <a:pt x="4068" y="3870"/>
                </a:moveTo>
                <a:cubicBezTo>
                  <a:pt x="4133" y="3833"/>
                  <a:pt x="4142" y="3820"/>
                  <a:pt x="4217" y="3820"/>
                </a:cubicBezTo>
                <a:cubicBezTo>
                  <a:pt x="4268" y="3820"/>
                  <a:pt x="4312" y="3837"/>
                  <a:pt x="4316" y="3894"/>
                </a:cubicBezTo>
                <a:cubicBezTo>
                  <a:pt x="4320" y="3952"/>
                  <a:pt x="4307" y="4021"/>
                  <a:pt x="4242" y="4043"/>
                </a:cubicBezTo>
                <a:cubicBezTo>
                  <a:pt x="4204" y="4056"/>
                  <a:pt x="4133" y="4043"/>
                  <a:pt x="4093" y="4043"/>
                </a:cubicBezTo>
              </a:path>
              <a:path w="7740" h="1862">
                <a:moveTo>
                  <a:pt x="4341" y="3770"/>
                </a:moveTo>
                <a:cubicBezTo>
                  <a:pt x="4349" y="3754"/>
                  <a:pt x="4358" y="3737"/>
                  <a:pt x="4366" y="3721"/>
                </a:cubicBezTo>
                <a:cubicBezTo>
                  <a:pt x="4353" y="3771"/>
                  <a:pt x="4302" y="3807"/>
                  <a:pt x="4316" y="3870"/>
                </a:cubicBezTo>
                <a:cubicBezTo>
                  <a:pt x="4331" y="3936"/>
                  <a:pt x="4422" y="4029"/>
                  <a:pt x="4490" y="4018"/>
                </a:cubicBezTo>
                <a:cubicBezTo>
                  <a:pt x="4539" y="3994"/>
                  <a:pt x="4556" y="3986"/>
                  <a:pt x="4589" y="3969"/>
                </a:cubicBezTo>
              </a:path>
              <a:path w="7740" h="1862">
                <a:moveTo>
                  <a:pt x="6722" y="3175"/>
                </a:moveTo>
                <a:cubicBezTo>
                  <a:pt x="6747" y="3175"/>
                  <a:pt x="6755" y="3175"/>
                  <a:pt x="6747" y="3150"/>
                </a:cubicBezTo>
                <a:cubicBezTo>
                  <a:pt x="6658" y="3150"/>
                  <a:pt x="6582" y="3161"/>
                  <a:pt x="6499" y="3175"/>
                </a:cubicBezTo>
                <a:cubicBezTo>
                  <a:pt x="6447" y="3175"/>
                  <a:pt x="6429" y="3176"/>
                  <a:pt x="6400" y="3200"/>
                </a:cubicBezTo>
              </a:path>
              <a:path w="7740" h="1862">
                <a:moveTo>
                  <a:pt x="7541" y="2332"/>
                </a:moveTo>
                <a:cubicBezTo>
                  <a:pt x="7561" y="2291"/>
                  <a:pt x="7569" y="2285"/>
                  <a:pt x="7565" y="2257"/>
                </a:cubicBezTo>
                <a:cubicBezTo>
                  <a:pt x="7565" y="2394"/>
                  <a:pt x="7573" y="2522"/>
                  <a:pt x="7590" y="2654"/>
                </a:cubicBezTo>
                <a:cubicBezTo>
                  <a:pt x="7590" y="2671"/>
                  <a:pt x="7590" y="2687"/>
                  <a:pt x="7590" y="2704"/>
                </a:cubicBezTo>
              </a:path>
              <a:path w="7740" h="1862">
                <a:moveTo>
                  <a:pt x="7789" y="2381"/>
                </a:moveTo>
                <a:cubicBezTo>
                  <a:pt x="7789" y="2347"/>
                  <a:pt x="7804" y="2274"/>
                  <a:pt x="7838" y="2257"/>
                </a:cubicBezTo>
                <a:cubicBezTo>
                  <a:pt x="7917" y="2217"/>
                  <a:pt x="7986" y="2329"/>
                  <a:pt x="8012" y="2381"/>
                </a:cubicBezTo>
                <a:cubicBezTo>
                  <a:pt x="8034" y="2424"/>
                  <a:pt x="8073" y="2592"/>
                  <a:pt x="8012" y="2629"/>
                </a:cubicBezTo>
                <a:cubicBezTo>
                  <a:pt x="7947" y="2668"/>
                  <a:pt x="7864" y="2567"/>
                  <a:pt x="7838" y="2530"/>
                </a:cubicBezTo>
              </a:path>
              <a:path w="7740" h="1862">
                <a:moveTo>
                  <a:pt x="8235" y="2679"/>
                </a:moveTo>
                <a:cubicBezTo>
                  <a:pt x="8210" y="2679"/>
                  <a:pt x="8202" y="2679"/>
                  <a:pt x="8186" y="2679"/>
                </a:cubicBezTo>
                <a:cubicBezTo>
                  <a:pt x="8196" y="2639"/>
                  <a:pt x="8213" y="2607"/>
                  <a:pt x="8260" y="2604"/>
                </a:cubicBezTo>
                <a:cubicBezTo>
                  <a:pt x="8343" y="2598"/>
                  <a:pt x="8360" y="2647"/>
                  <a:pt x="8384" y="2704"/>
                </a:cubicBezTo>
                <a:cubicBezTo>
                  <a:pt x="8403" y="2749"/>
                  <a:pt x="8433" y="2826"/>
                  <a:pt x="8359" y="2853"/>
                </a:cubicBezTo>
                <a:cubicBezTo>
                  <a:pt x="8318" y="2853"/>
                  <a:pt x="8310" y="2853"/>
                  <a:pt x="8285" y="2853"/>
                </a:cubicBezTo>
              </a:path>
              <a:path w="7740" h="1862">
                <a:moveTo>
                  <a:pt x="8434" y="2580"/>
                </a:moveTo>
                <a:cubicBezTo>
                  <a:pt x="8450" y="2563"/>
                  <a:pt x="8467" y="2547"/>
                  <a:pt x="8483" y="2530"/>
                </a:cubicBezTo>
                <a:cubicBezTo>
                  <a:pt x="8432" y="2582"/>
                  <a:pt x="8393" y="2622"/>
                  <a:pt x="8409" y="2704"/>
                </a:cubicBezTo>
                <a:cubicBezTo>
                  <a:pt x="8423" y="2774"/>
                  <a:pt x="8479" y="2846"/>
                  <a:pt x="8558" y="2828"/>
                </a:cubicBezTo>
                <a:cubicBezTo>
                  <a:pt x="8607" y="2803"/>
                  <a:pt x="8624" y="2794"/>
                  <a:pt x="8657" y="2778"/>
                </a:cubicBezTo>
              </a:path>
              <a:path w="7740" h="1862">
                <a:moveTo>
                  <a:pt x="9178" y="3051"/>
                </a:moveTo>
                <a:cubicBezTo>
                  <a:pt x="9089" y="3073"/>
                  <a:pt x="9000" y="3084"/>
                  <a:pt x="8905" y="3101"/>
                </a:cubicBezTo>
                <a:cubicBezTo>
                  <a:pt x="8671" y="3144"/>
                  <a:pt x="8445" y="3157"/>
                  <a:pt x="8210" y="3175"/>
                </a:cubicBezTo>
                <a:cubicBezTo>
                  <a:pt x="7977" y="3193"/>
                  <a:pt x="7750" y="3244"/>
                  <a:pt x="7516" y="3249"/>
                </a:cubicBezTo>
                <a:cubicBezTo>
                  <a:pt x="7435" y="3251"/>
                  <a:pt x="7358" y="3234"/>
                  <a:pt x="7293" y="3274"/>
                </a:cubicBezTo>
              </a:path>
              <a:path w="7740" h="1862">
                <a:moveTo>
                  <a:pt x="7392" y="3547"/>
                </a:moveTo>
                <a:cubicBezTo>
                  <a:pt x="7461" y="3524"/>
                  <a:pt x="7405" y="3596"/>
                  <a:pt x="7392" y="3646"/>
                </a:cubicBezTo>
                <a:cubicBezTo>
                  <a:pt x="7373" y="3721"/>
                  <a:pt x="7408" y="3739"/>
                  <a:pt x="7466" y="3770"/>
                </a:cubicBezTo>
                <a:cubicBezTo>
                  <a:pt x="7537" y="3807"/>
                  <a:pt x="7623" y="3780"/>
                  <a:pt x="7689" y="3820"/>
                </a:cubicBezTo>
                <a:cubicBezTo>
                  <a:pt x="7697" y="3828"/>
                  <a:pt x="7706" y="3837"/>
                  <a:pt x="7714" y="3845"/>
                </a:cubicBezTo>
                <a:cubicBezTo>
                  <a:pt x="7700" y="3899"/>
                  <a:pt x="7667" y="3917"/>
                  <a:pt x="7615" y="3944"/>
                </a:cubicBezTo>
                <a:cubicBezTo>
                  <a:pt x="7556" y="3976"/>
                  <a:pt x="7507" y="3969"/>
                  <a:pt x="7441" y="3969"/>
                </a:cubicBezTo>
              </a:path>
              <a:path w="7740" h="1862">
                <a:moveTo>
                  <a:pt x="7640" y="3572"/>
                </a:moveTo>
                <a:cubicBezTo>
                  <a:pt x="7681" y="3530"/>
                  <a:pt x="7722" y="3489"/>
                  <a:pt x="7764" y="3448"/>
                </a:cubicBezTo>
                <a:cubicBezTo>
                  <a:pt x="7698" y="3461"/>
                  <a:pt x="7632" y="3477"/>
                  <a:pt x="7565" y="3497"/>
                </a:cubicBezTo>
                <a:cubicBezTo>
                  <a:pt x="7498" y="3520"/>
                  <a:pt x="7480" y="3525"/>
                  <a:pt x="7441" y="3547"/>
                </a:cubicBezTo>
              </a:path>
              <a:path w="7740" h="1862">
                <a:moveTo>
                  <a:pt x="7962" y="3746"/>
                </a:moveTo>
                <a:cubicBezTo>
                  <a:pt x="8005" y="3746"/>
                  <a:pt x="8047" y="3735"/>
                  <a:pt x="8086" y="3721"/>
                </a:cubicBezTo>
                <a:cubicBezTo>
                  <a:pt x="8145" y="3700"/>
                  <a:pt x="8171" y="3696"/>
                  <a:pt x="8235" y="3696"/>
                </a:cubicBezTo>
              </a:path>
              <a:path w="7740" h="1862">
                <a:moveTo>
                  <a:pt x="8483" y="3646"/>
                </a:moveTo>
                <a:cubicBezTo>
                  <a:pt x="8496" y="3608"/>
                  <a:pt x="8513" y="3621"/>
                  <a:pt x="8558" y="3621"/>
                </a:cubicBezTo>
                <a:cubicBezTo>
                  <a:pt x="8599" y="3621"/>
                  <a:pt x="8607" y="3621"/>
                  <a:pt x="8632" y="3621"/>
                </a:cubicBezTo>
                <a:cubicBezTo>
                  <a:pt x="8642" y="3690"/>
                  <a:pt x="8676" y="3724"/>
                  <a:pt x="8632" y="3795"/>
                </a:cubicBezTo>
                <a:cubicBezTo>
                  <a:pt x="8583" y="3874"/>
                  <a:pt x="8502" y="3839"/>
                  <a:pt x="8434" y="3820"/>
                </a:cubicBezTo>
              </a:path>
              <a:path w="7740" h="1862">
                <a:moveTo>
                  <a:pt x="8607" y="3522"/>
                </a:moveTo>
                <a:cubicBezTo>
                  <a:pt x="8615" y="3514"/>
                  <a:pt x="8624" y="3505"/>
                  <a:pt x="8632" y="3497"/>
                </a:cubicBezTo>
                <a:cubicBezTo>
                  <a:pt x="8598" y="3508"/>
                  <a:pt x="8570" y="3570"/>
                  <a:pt x="8582" y="3621"/>
                </a:cubicBezTo>
                <a:cubicBezTo>
                  <a:pt x="8598" y="3690"/>
                  <a:pt x="8661" y="3776"/>
                  <a:pt x="8731" y="3795"/>
                </a:cubicBezTo>
                <a:cubicBezTo>
                  <a:pt x="8792" y="3812"/>
                  <a:pt x="8850" y="3788"/>
                  <a:pt x="8905" y="3770"/>
                </a:cubicBezTo>
              </a:path>
              <a:path w="7740" h="1862">
                <a:moveTo>
                  <a:pt x="1687" y="3473"/>
                </a:moveTo>
                <a:cubicBezTo>
                  <a:pt x="1695" y="3456"/>
                  <a:pt x="1704" y="3440"/>
                  <a:pt x="1712" y="3423"/>
                </a:cubicBezTo>
                <a:cubicBezTo>
                  <a:pt x="1657" y="3423"/>
                  <a:pt x="1641" y="3435"/>
                  <a:pt x="1588" y="3448"/>
                </a:cubicBezTo>
                <a:cubicBezTo>
                  <a:pt x="1534" y="3462"/>
                  <a:pt x="1497" y="3473"/>
                  <a:pt x="1439" y="3473"/>
                </a:cubicBezTo>
              </a:path>
              <a:path w="7740" h="1862">
                <a:moveTo>
                  <a:pt x="1736" y="3696"/>
                </a:moveTo>
                <a:cubicBezTo>
                  <a:pt x="1677" y="3696"/>
                  <a:pt x="1658" y="3705"/>
                  <a:pt x="1612" y="3721"/>
                </a:cubicBezTo>
                <a:cubicBezTo>
                  <a:pt x="1604" y="3721"/>
                  <a:pt x="1596" y="3721"/>
                  <a:pt x="1588" y="37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5120" y="2027160"/>
            <a:ext cx="115920" cy="71640"/>
          </a:xfrm>
          <a:custGeom>
            <a:avLst/>
            <a:gdLst/>
            <a:ahLst/>
            <a:rect l="l" t="t" r="r" b="b"/>
            <a:pathLst>
              <a:path w="323" h="199">
                <a:moveTo>
                  <a:pt x="1563" y="5631"/>
                </a:moveTo>
                <a:cubicBezTo>
                  <a:pt x="1481" y="5631"/>
                  <a:pt x="1409" y="5634"/>
                  <a:pt x="1339" y="5655"/>
                </a:cubicBezTo>
                <a:cubicBezTo>
                  <a:pt x="1315" y="5655"/>
                  <a:pt x="1306" y="5655"/>
                  <a:pt x="1290" y="5655"/>
                </a:cubicBezTo>
              </a:path>
              <a:path w="323" h="199">
                <a:moveTo>
                  <a:pt x="1612" y="5804"/>
                </a:moveTo>
                <a:cubicBezTo>
                  <a:pt x="1560" y="5804"/>
                  <a:pt x="1530" y="5817"/>
                  <a:pt x="1488" y="5829"/>
                </a:cubicBezTo>
                <a:cubicBezTo>
                  <a:pt x="1480" y="5829"/>
                  <a:pt x="1471" y="5829"/>
                  <a:pt x="1463" y="58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2800" y="1803240"/>
            <a:ext cx="295200" cy="216000"/>
          </a:xfrm>
          <a:custGeom>
            <a:avLst/>
            <a:gdLst/>
            <a:ahLst/>
            <a:rect l="l" t="t" r="r" b="b"/>
            <a:pathLst>
              <a:path w="819" h="596">
                <a:moveTo>
                  <a:pt x="2753" y="5184"/>
                </a:moveTo>
                <a:cubicBezTo>
                  <a:pt x="2713" y="5129"/>
                  <a:pt x="2736" y="5138"/>
                  <a:pt x="2753" y="5085"/>
                </a:cubicBezTo>
                <a:cubicBezTo>
                  <a:pt x="2770" y="5033"/>
                  <a:pt x="2822" y="5014"/>
                  <a:pt x="2877" y="5011"/>
                </a:cubicBezTo>
                <a:cubicBezTo>
                  <a:pt x="2961" y="5006"/>
                  <a:pt x="2974" y="5061"/>
                  <a:pt x="2977" y="5135"/>
                </a:cubicBezTo>
                <a:cubicBezTo>
                  <a:pt x="2981" y="5220"/>
                  <a:pt x="2945" y="5309"/>
                  <a:pt x="2902" y="5383"/>
                </a:cubicBezTo>
                <a:cubicBezTo>
                  <a:pt x="2873" y="5432"/>
                  <a:pt x="2821" y="5515"/>
                  <a:pt x="2853" y="5581"/>
                </a:cubicBezTo>
                <a:cubicBezTo>
                  <a:pt x="2861" y="5589"/>
                  <a:pt x="2869" y="5598"/>
                  <a:pt x="2877" y="5606"/>
                </a:cubicBezTo>
                <a:cubicBezTo>
                  <a:pt x="2922" y="5595"/>
                  <a:pt x="2964" y="5564"/>
                  <a:pt x="3001" y="5531"/>
                </a:cubicBezTo>
                <a:cubicBezTo>
                  <a:pt x="3031" y="5502"/>
                  <a:pt x="3046" y="5491"/>
                  <a:pt x="3076" y="5482"/>
                </a:cubicBezTo>
              </a:path>
              <a:path w="819" h="596">
                <a:moveTo>
                  <a:pt x="3125" y="5383"/>
                </a:moveTo>
                <a:cubicBezTo>
                  <a:pt x="3160" y="5331"/>
                  <a:pt x="3205" y="5305"/>
                  <a:pt x="3274" y="5283"/>
                </a:cubicBezTo>
                <a:cubicBezTo>
                  <a:pt x="3307" y="5283"/>
                  <a:pt x="3324" y="5283"/>
                  <a:pt x="3349" y="5283"/>
                </a:cubicBezTo>
                <a:cubicBezTo>
                  <a:pt x="3349" y="5340"/>
                  <a:pt x="3357" y="5382"/>
                  <a:pt x="3324" y="5432"/>
                </a:cubicBezTo>
                <a:cubicBezTo>
                  <a:pt x="3299" y="5457"/>
                  <a:pt x="3291" y="5465"/>
                  <a:pt x="3274" y="5482"/>
                </a:cubicBezTo>
              </a:path>
              <a:path w="819" h="596">
                <a:moveTo>
                  <a:pt x="3373" y="5283"/>
                </a:moveTo>
                <a:cubicBezTo>
                  <a:pt x="3398" y="5267"/>
                  <a:pt x="3423" y="5250"/>
                  <a:pt x="3448" y="5234"/>
                </a:cubicBezTo>
                <a:cubicBezTo>
                  <a:pt x="3404" y="5289"/>
                  <a:pt x="3376" y="5335"/>
                  <a:pt x="3373" y="5407"/>
                </a:cubicBezTo>
                <a:cubicBezTo>
                  <a:pt x="3370" y="5485"/>
                  <a:pt x="3401" y="5552"/>
                  <a:pt x="3497" y="5531"/>
                </a:cubicBezTo>
                <a:cubicBezTo>
                  <a:pt x="3514" y="5523"/>
                  <a:pt x="3530" y="5515"/>
                  <a:pt x="3547" y="55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84200" y="1758960"/>
            <a:ext cx="696960" cy="214200"/>
          </a:xfrm>
          <a:custGeom>
            <a:avLst/>
            <a:gdLst/>
            <a:ahLst/>
            <a:rect l="l" t="t" r="r" b="b"/>
            <a:pathLst>
              <a:path w="1935" h="596">
                <a:moveTo>
                  <a:pt x="3894" y="5035"/>
                </a:moveTo>
                <a:cubicBezTo>
                  <a:pt x="3902" y="5010"/>
                  <a:pt x="3911" y="4986"/>
                  <a:pt x="3919" y="4961"/>
                </a:cubicBezTo>
                <a:cubicBezTo>
                  <a:pt x="3902" y="5043"/>
                  <a:pt x="3857" y="5122"/>
                  <a:pt x="3845" y="5209"/>
                </a:cubicBezTo>
                <a:cubicBezTo>
                  <a:pt x="3833" y="5300"/>
                  <a:pt x="3832" y="5387"/>
                  <a:pt x="3894" y="5457"/>
                </a:cubicBezTo>
                <a:cubicBezTo>
                  <a:pt x="3902" y="5465"/>
                  <a:pt x="3911" y="5474"/>
                  <a:pt x="3919" y="5482"/>
                </a:cubicBezTo>
              </a:path>
              <a:path w="1935" h="596">
                <a:moveTo>
                  <a:pt x="4167" y="5110"/>
                </a:moveTo>
                <a:cubicBezTo>
                  <a:pt x="4205" y="5053"/>
                  <a:pt x="4200" y="5028"/>
                  <a:pt x="4242" y="5035"/>
                </a:cubicBezTo>
                <a:cubicBezTo>
                  <a:pt x="4204" y="5073"/>
                  <a:pt x="4160" y="5106"/>
                  <a:pt x="4142" y="5159"/>
                </a:cubicBezTo>
                <a:cubicBezTo>
                  <a:pt x="4131" y="5193"/>
                  <a:pt x="4157" y="5249"/>
                  <a:pt x="4192" y="5259"/>
                </a:cubicBezTo>
                <a:cubicBezTo>
                  <a:pt x="4266" y="5280"/>
                  <a:pt x="4317" y="5258"/>
                  <a:pt x="4390" y="5308"/>
                </a:cubicBezTo>
                <a:cubicBezTo>
                  <a:pt x="4413" y="5324"/>
                  <a:pt x="4436" y="5407"/>
                  <a:pt x="4415" y="5432"/>
                </a:cubicBezTo>
                <a:cubicBezTo>
                  <a:pt x="4376" y="5479"/>
                  <a:pt x="4269" y="5457"/>
                  <a:pt x="4217" y="5457"/>
                </a:cubicBezTo>
              </a:path>
              <a:path w="1935" h="596">
                <a:moveTo>
                  <a:pt x="4465" y="5035"/>
                </a:moveTo>
                <a:cubicBezTo>
                  <a:pt x="4481" y="5027"/>
                  <a:pt x="4498" y="5019"/>
                  <a:pt x="4514" y="5011"/>
                </a:cubicBezTo>
                <a:cubicBezTo>
                  <a:pt x="4434" y="5011"/>
                  <a:pt x="4368" y="5006"/>
                  <a:pt x="4291" y="5035"/>
                </a:cubicBezTo>
                <a:cubicBezTo>
                  <a:pt x="4275" y="5043"/>
                  <a:pt x="4258" y="5052"/>
                  <a:pt x="4242" y="5060"/>
                </a:cubicBezTo>
              </a:path>
              <a:path w="1935" h="596">
                <a:moveTo>
                  <a:pt x="4663" y="5234"/>
                </a:moveTo>
                <a:cubicBezTo>
                  <a:pt x="4635" y="5234"/>
                  <a:pt x="4624" y="5236"/>
                  <a:pt x="4614" y="5259"/>
                </a:cubicBezTo>
                <a:cubicBezTo>
                  <a:pt x="4642" y="5249"/>
                  <a:pt x="4671" y="5226"/>
                  <a:pt x="4713" y="5209"/>
                </a:cubicBezTo>
                <a:cubicBezTo>
                  <a:pt x="4771" y="5185"/>
                  <a:pt x="4799" y="5184"/>
                  <a:pt x="4862" y="5184"/>
                </a:cubicBezTo>
              </a:path>
              <a:path w="1935" h="596">
                <a:moveTo>
                  <a:pt x="4961" y="5234"/>
                </a:moveTo>
                <a:cubicBezTo>
                  <a:pt x="5008" y="5214"/>
                  <a:pt x="5059" y="5187"/>
                  <a:pt x="5110" y="5184"/>
                </a:cubicBezTo>
                <a:cubicBezTo>
                  <a:pt x="5179" y="5179"/>
                  <a:pt x="5184" y="5201"/>
                  <a:pt x="5184" y="5259"/>
                </a:cubicBezTo>
                <a:cubicBezTo>
                  <a:pt x="5184" y="5303"/>
                  <a:pt x="5140" y="5343"/>
                  <a:pt x="5110" y="5358"/>
                </a:cubicBezTo>
                <a:cubicBezTo>
                  <a:pt x="5069" y="5378"/>
                  <a:pt x="5063" y="5387"/>
                  <a:pt x="5035" y="5383"/>
                </a:cubicBezTo>
              </a:path>
              <a:path w="1935" h="596">
                <a:moveTo>
                  <a:pt x="5159" y="5209"/>
                </a:moveTo>
                <a:cubicBezTo>
                  <a:pt x="5201" y="5168"/>
                  <a:pt x="5242" y="5127"/>
                  <a:pt x="5283" y="5085"/>
                </a:cubicBezTo>
                <a:cubicBezTo>
                  <a:pt x="5270" y="5139"/>
                  <a:pt x="5238" y="5171"/>
                  <a:pt x="5234" y="5234"/>
                </a:cubicBezTo>
                <a:cubicBezTo>
                  <a:pt x="5230" y="5302"/>
                  <a:pt x="5242" y="5333"/>
                  <a:pt x="5308" y="5333"/>
                </a:cubicBezTo>
                <a:cubicBezTo>
                  <a:pt x="5353" y="5333"/>
                  <a:pt x="5366" y="5336"/>
                  <a:pt x="5383" y="5308"/>
                </a:cubicBezTo>
              </a:path>
              <a:path w="1935" h="596">
                <a:moveTo>
                  <a:pt x="5383" y="4911"/>
                </a:moveTo>
                <a:cubicBezTo>
                  <a:pt x="5551" y="4894"/>
                  <a:pt x="5676" y="4899"/>
                  <a:pt x="5755" y="5085"/>
                </a:cubicBezTo>
                <a:cubicBezTo>
                  <a:pt x="5830" y="5263"/>
                  <a:pt x="5759" y="5350"/>
                  <a:pt x="5631" y="54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7080" y="1839960"/>
            <a:ext cx="108000" cy="27000"/>
          </a:xfrm>
          <a:custGeom>
            <a:avLst/>
            <a:gdLst/>
            <a:ahLst/>
            <a:rect l="l" t="t" r="r" b="b"/>
            <a:pathLst>
              <a:path w="299" h="75">
                <a:moveTo>
                  <a:pt x="6102" y="5110"/>
                </a:moveTo>
                <a:cubicBezTo>
                  <a:pt x="6102" y="5135"/>
                  <a:pt x="6102" y="5159"/>
                  <a:pt x="6102" y="5184"/>
                </a:cubicBezTo>
                <a:cubicBezTo>
                  <a:pt x="6167" y="5184"/>
                  <a:pt x="6215" y="5169"/>
                  <a:pt x="6276" y="5159"/>
                </a:cubicBezTo>
                <a:cubicBezTo>
                  <a:pt x="6342" y="5148"/>
                  <a:pt x="6334" y="5162"/>
                  <a:pt x="6400" y="51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1741320"/>
            <a:ext cx="473040" cy="142920"/>
          </a:xfrm>
          <a:custGeom>
            <a:avLst/>
            <a:gdLst/>
            <a:ahLst/>
            <a:rect l="l" t="t" r="r" b="b"/>
            <a:pathLst>
              <a:path w="1315" h="398">
                <a:moveTo>
                  <a:pt x="6772" y="4936"/>
                </a:moveTo>
                <a:cubicBezTo>
                  <a:pt x="6815" y="4875"/>
                  <a:pt x="6812" y="4852"/>
                  <a:pt x="6871" y="4837"/>
                </a:cubicBezTo>
                <a:cubicBezTo>
                  <a:pt x="6871" y="4953"/>
                  <a:pt x="6871" y="5068"/>
                  <a:pt x="6871" y="5184"/>
                </a:cubicBezTo>
              </a:path>
              <a:path w="1315" h="398">
                <a:moveTo>
                  <a:pt x="7069" y="5035"/>
                </a:moveTo>
                <a:cubicBezTo>
                  <a:pt x="7074" y="5021"/>
                  <a:pt x="7098" y="4955"/>
                  <a:pt x="7119" y="4936"/>
                </a:cubicBezTo>
                <a:cubicBezTo>
                  <a:pt x="7164" y="4894"/>
                  <a:pt x="7265" y="4859"/>
                  <a:pt x="7317" y="4911"/>
                </a:cubicBezTo>
                <a:cubicBezTo>
                  <a:pt x="7378" y="4972"/>
                  <a:pt x="7394" y="5087"/>
                  <a:pt x="7342" y="5159"/>
                </a:cubicBezTo>
                <a:cubicBezTo>
                  <a:pt x="7305" y="5211"/>
                  <a:pt x="7208" y="5234"/>
                  <a:pt x="7144" y="5209"/>
                </a:cubicBezTo>
                <a:cubicBezTo>
                  <a:pt x="7136" y="5201"/>
                  <a:pt x="7127" y="5192"/>
                  <a:pt x="7119" y="5184"/>
                </a:cubicBezTo>
              </a:path>
              <a:path w="1315" h="398">
                <a:moveTo>
                  <a:pt x="7640" y="5085"/>
                </a:moveTo>
                <a:cubicBezTo>
                  <a:pt x="7632" y="5093"/>
                  <a:pt x="7623" y="5102"/>
                  <a:pt x="7615" y="5110"/>
                </a:cubicBezTo>
                <a:cubicBezTo>
                  <a:pt x="7629" y="5052"/>
                  <a:pt x="7653" y="5039"/>
                  <a:pt x="7714" y="5035"/>
                </a:cubicBezTo>
                <a:cubicBezTo>
                  <a:pt x="7775" y="5031"/>
                  <a:pt x="7830" y="5072"/>
                  <a:pt x="7838" y="5135"/>
                </a:cubicBezTo>
                <a:cubicBezTo>
                  <a:pt x="7848" y="5209"/>
                  <a:pt x="7800" y="5230"/>
                  <a:pt x="7739" y="5234"/>
                </a:cubicBezTo>
                <a:cubicBezTo>
                  <a:pt x="7722" y="5234"/>
                  <a:pt x="7706" y="5234"/>
                  <a:pt x="7689" y="5234"/>
                </a:cubicBezTo>
              </a:path>
              <a:path w="1315" h="398">
                <a:moveTo>
                  <a:pt x="7863" y="4986"/>
                </a:moveTo>
                <a:cubicBezTo>
                  <a:pt x="7871" y="4969"/>
                  <a:pt x="7880" y="4953"/>
                  <a:pt x="7888" y="4936"/>
                </a:cubicBezTo>
                <a:cubicBezTo>
                  <a:pt x="7888" y="5004"/>
                  <a:pt x="7885" y="5048"/>
                  <a:pt x="7913" y="5110"/>
                </a:cubicBezTo>
                <a:cubicBezTo>
                  <a:pt x="7946" y="5183"/>
                  <a:pt x="7988" y="5159"/>
                  <a:pt x="8062" y="5159"/>
                </a:cubicBezTo>
                <a:cubicBezTo>
                  <a:pt x="8070" y="5159"/>
                  <a:pt x="8078" y="5159"/>
                  <a:pt x="8086" y="51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7080" y="1901880"/>
            <a:ext cx="1938240" cy="330120"/>
          </a:xfrm>
          <a:custGeom>
            <a:avLst/>
            <a:gdLst/>
            <a:ahLst/>
            <a:rect l="l" t="t" r="r" b="b"/>
            <a:pathLst>
              <a:path w="5383" h="919">
                <a:moveTo>
                  <a:pt x="8235" y="5432"/>
                </a:moveTo>
                <a:cubicBezTo>
                  <a:pt x="8234" y="5432"/>
                  <a:pt x="8194" y="5410"/>
                  <a:pt x="8161" y="5407"/>
                </a:cubicBezTo>
                <a:cubicBezTo>
                  <a:pt x="8072" y="5399"/>
                  <a:pt x="7999" y="5426"/>
                  <a:pt x="7913" y="5432"/>
                </a:cubicBezTo>
                <a:cubicBezTo>
                  <a:pt x="7796" y="5441"/>
                  <a:pt x="7681" y="5450"/>
                  <a:pt x="7565" y="5457"/>
                </a:cubicBezTo>
                <a:cubicBezTo>
                  <a:pt x="7452" y="5464"/>
                  <a:pt x="7350" y="5437"/>
                  <a:pt x="7243" y="5432"/>
                </a:cubicBezTo>
                <a:cubicBezTo>
                  <a:pt x="7130" y="5426"/>
                  <a:pt x="7030" y="5423"/>
                  <a:pt x="6921" y="5407"/>
                </a:cubicBezTo>
                <a:cubicBezTo>
                  <a:pt x="6792" y="5387"/>
                  <a:pt x="6679" y="5340"/>
                  <a:pt x="6548" y="5333"/>
                </a:cubicBezTo>
                <a:cubicBezTo>
                  <a:pt x="6448" y="5328"/>
                  <a:pt x="6344" y="5315"/>
                  <a:pt x="6251" y="5308"/>
                </a:cubicBezTo>
                <a:cubicBezTo>
                  <a:pt x="6150" y="5301"/>
                  <a:pt x="6052" y="5290"/>
                  <a:pt x="5953" y="5283"/>
                </a:cubicBezTo>
                <a:cubicBezTo>
                  <a:pt x="5732" y="5268"/>
                  <a:pt x="5463" y="5264"/>
                  <a:pt x="5259" y="5308"/>
                </a:cubicBezTo>
                <a:cubicBezTo>
                  <a:pt x="5191" y="5323"/>
                  <a:pt x="5128" y="5341"/>
                  <a:pt x="5060" y="5358"/>
                </a:cubicBezTo>
                <a:cubicBezTo>
                  <a:pt x="4985" y="5377"/>
                  <a:pt x="4912" y="5383"/>
                  <a:pt x="4837" y="5407"/>
                </a:cubicBezTo>
                <a:cubicBezTo>
                  <a:pt x="4727" y="5442"/>
                  <a:pt x="4623" y="5474"/>
                  <a:pt x="4514" y="5507"/>
                </a:cubicBezTo>
                <a:cubicBezTo>
                  <a:pt x="4413" y="5537"/>
                  <a:pt x="4317" y="5553"/>
                  <a:pt x="4217" y="5581"/>
                </a:cubicBezTo>
                <a:cubicBezTo>
                  <a:pt x="4117" y="5609"/>
                  <a:pt x="4021" y="5644"/>
                  <a:pt x="3919" y="5655"/>
                </a:cubicBezTo>
                <a:cubicBezTo>
                  <a:pt x="3808" y="5667"/>
                  <a:pt x="3706" y="5689"/>
                  <a:pt x="3597" y="5705"/>
                </a:cubicBezTo>
                <a:cubicBezTo>
                  <a:pt x="3489" y="5721"/>
                  <a:pt x="3384" y="5728"/>
                  <a:pt x="3274" y="5730"/>
                </a:cubicBezTo>
                <a:cubicBezTo>
                  <a:pt x="3193" y="5732"/>
                  <a:pt x="3128" y="5749"/>
                  <a:pt x="3051" y="5755"/>
                </a:cubicBezTo>
                <a:cubicBezTo>
                  <a:pt x="2986" y="5760"/>
                  <a:pt x="2918" y="5755"/>
                  <a:pt x="2853" y="5755"/>
                </a:cubicBezTo>
              </a:path>
              <a:path w="5383" h="919">
                <a:moveTo>
                  <a:pt x="4465" y="5755"/>
                </a:moveTo>
                <a:cubicBezTo>
                  <a:pt x="4465" y="5730"/>
                  <a:pt x="4465" y="5722"/>
                  <a:pt x="4465" y="5705"/>
                </a:cubicBezTo>
                <a:cubicBezTo>
                  <a:pt x="4431" y="5750"/>
                  <a:pt x="4418" y="5794"/>
                  <a:pt x="4415" y="5854"/>
                </a:cubicBezTo>
                <a:cubicBezTo>
                  <a:pt x="4410" y="5939"/>
                  <a:pt x="4418" y="5959"/>
                  <a:pt x="4490" y="6003"/>
                </a:cubicBezTo>
                <a:cubicBezTo>
                  <a:pt x="4552" y="6041"/>
                  <a:pt x="4606" y="6025"/>
                  <a:pt x="4663" y="6077"/>
                </a:cubicBezTo>
                <a:cubicBezTo>
                  <a:pt x="4686" y="6100"/>
                  <a:pt x="4694" y="6104"/>
                  <a:pt x="4688" y="6127"/>
                </a:cubicBezTo>
                <a:cubicBezTo>
                  <a:pt x="4632" y="6171"/>
                  <a:pt x="4586" y="6197"/>
                  <a:pt x="4514" y="6201"/>
                </a:cubicBezTo>
                <a:cubicBezTo>
                  <a:pt x="4465" y="6201"/>
                  <a:pt x="4448" y="6201"/>
                  <a:pt x="4415" y="6201"/>
                </a:cubicBezTo>
              </a:path>
              <a:path w="5383" h="919">
                <a:moveTo>
                  <a:pt x="4713" y="5779"/>
                </a:moveTo>
                <a:cubicBezTo>
                  <a:pt x="4768" y="5724"/>
                  <a:pt x="4793" y="5726"/>
                  <a:pt x="4787" y="5680"/>
                </a:cubicBezTo>
                <a:cubicBezTo>
                  <a:pt x="4708" y="5690"/>
                  <a:pt x="4638" y="5720"/>
                  <a:pt x="4564" y="5755"/>
                </a:cubicBezTo>
                <a:cubicBezTo>
                  <a:pt x="4547" y="5763"/>
                  <a:pt x="4531" y="5771"/>
                  <a:pt x="4514" y="5779"/>
                </a:cubicBezTo>
              </a:path>
              <a:path w="5383" h="919">
                <a:moveTo>
                  <a:pt x="4911" y="5978"/>
                </a:moveTo>
                <a:cubicBezTo>
                  <a:pt x="4911" y="6003"/>
                  <a:pt x="4911" y="6011"/>
                  <a:pt x="4911" y="6028"/>
                </a:cubicBezTo>
                <a:cubicBezTo>
                  <a:pt x="4952" y="6018"/>
                  <a:pt x="4998" y="5986"/>
                  <a:pt x="5035" y="5978"/>
                </a:cubicBezTo>
                <a:cubicBezTo>
                  <a:pt x="5085" y="5978"/>
                  <a:pt x="5102" y="5978"/>
                  <a:pt x="5135" y="5978"/>
                </a:cubicBezTo>
              </a:path>
              <a:path w="5383" h="919">
                <a:moveTo>
                  <a:pt x="5358" y="5928"/>
                </a:moveTo>
                <a:cubicBezTo>
                  <a:pt x="5396" y="5901"/>
                  <a:pt x="5409" y="5904"/>
                  <a:pt x="5457" y="5904"/>
                </a:cubicBezTo>
                <a:cubicBezTo>
                  <a:pt x="5532" y="5904"/>
                  <a:pt x="5559" y="5956"/>
                  <a:pt x="5581" y="6028"/>
                </a:cubicBezTo>
                <a:cubicBezTo>
                  <a:pt x="5602" y="6096"/>
                  <a:pt x="5567" y="6151"/>
                  <a:pt x="5507" y="6176"/>
                </a:cubicBezTo>
                <a:cubicBezTo>
                  <a:pt x="5474" y="6176"/>
                  <a:pt x="5457" y="6176"/>
                  <a:pt x="5432" y="6176"/>
                </a:cubicBezTo>
              </a:path>
              <a:path w="5383" h="919">
                <a:moveTo>
                  <a:pt x="5606" y="5829"/>
                </a:moveTo>
                <a:cubicBezTo>
                  <a:pt x="5646" y="5809"/>
                  <a:pt x="5672" y="5800"/>
                  <a:pt x="5631" y="5804"/>
                </a:cubicBezTo>
                <a:cubicBezTo>
                  <a:pt x="5602" y="5862"/>
                  <a:pt x="5528" y="5962"/>
                  <a:pt x="5531" y="6028"/>
                </a:cubicBezTo>
                <a:cubicBezTo>
                  <a:pt x="5536" y="6146"/>
                  <a:pt x="5638" y="6173"/>
                  <a:pt x="5730" y="6176"/>
                </a:cubicBezTo>
                <a:cubicBezTo>
                  <a:pt x="5822" y="6176"/>
                  <a:pt x="5849" y="6178"/>
                  <a:pt x="5904" y="61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33880" y="3152880"/>
            <a:ext cx="706320" cy="258480"/>
          </a:xfrm>
          <a:custGeom>
            <a:avLst/>
            <a:gdLst/>
            <a:ahLst/>
            <a:rect l="l" t="t" r="r" b="b"/>
            <a:pathLst>
              <a:path w="1960" h="720">
                <a:moveTo>
                  <a:pt x="11509" y="9153"/>
                </a:moveTo>
                <a:cubicBezTo>
                  <a:pt x="11472" y="9140"/>
                  <a:pt x="11487" y="9112"/>
                  <a:pt x="11509" y="9079"/>
                </a:cubicBezTo>
                <a:cubicBezTo>
                  <a:pt x="11528" y="9050"/>
                  <a:pt x="11654" y="9032"/>
                  <a:pt x="11683" y="9054"/>
                </a:cubicBezTo>
                <a:cubicBezTo>
                  <a:pt x="11747" y="9103"/>
                  <a:pt x="11772" y="9199"/>
                  <a:pt x="11757" y="9277"/>
                </a:cubicBezTo>
                <a:cubicBezTo>
                  <a:pt x="11738" y="9379"/>
                  <a:pt x="11687" y="9451"/>
                  <a:pt x="11584" y="9475"/>
                </a:cubicBezTo>
                <a:cubicBezTo>
                  <a:pt x="11534" y="9475"/>
                  <a:pt x="11518" y="9475"/>
                  <a:pt x="11485" y="9475"/>
                </a:cubicBezTo>
              </a:path>
              <a:path w="1960" h="720">
                <a:moveTo>
                  <a:pt x="11931" y="9079"/>
                </a:moveTo>
                <a:cubicBezTo>
                  <a:pt x="11948" y="9071"/>
                  <a:pt x="11964" y="9062"/>
                  <a:pt x="11981" y="9054"/>
                </a:cubicBezTo>
                <a:cubicBezTo>
                  <a:pt x="11901" y="9064"/>
                  <a:pt x="11826" y="9101"/>
                  <a:pt x="11782" y="9178"/>
                </a:cubicBezTo>
                <a:cubicBezTo>
                  <a:pt x="11737" y="9258"/>
                  <a:pt x="11736" y="9368"/>
                  <a:pt x="11807" y="9426"/>
                </a:cubicBezTo>
                <a:cubicBezTo>
                  <a:pt x="11868" y="9476"/>
                  <a:pt x="11943" y="9450"/>
                  <a:pt x="12005" y="9426"/>
                </a:cubicBezTo>
              </a:path>
              <a:path w="1960" h="720">
                <a:moveTo>
                  <a:pt x="12378" y="9004"/>
                </a:moveTo>
                <a:cubicBezTo>
                  <a:pt x="12378" y="8996"/>
                  <a:pt x="12378" y="8987"/>
                  <a:pt x="12378" y="8979"/>
                </a:cubicBezTo>
                <a:cubicBezTo>
                  <a:pt x="12452" y="8979"/>
                  <a:pt x="12527" y="8979"/>
                  <a:pt x="12601" y="8979"/>
                </a:cubicBezTo>
              </a:path>
              <a:path w="1960" h="720">
                <a:moveTo>
                  <a:pt x="12874" y="8806"/>
                </a:moveTo>
                <a:cubicBezTo>
                  <a:pt x="12874" y="8781"/>
                  <a:pt x="12874" y="8773"/>
                  <a:pt x="12874" y="8756"/>
                </a:cubicBezTo>
                <a:cubicBezTo>
                  <a:pt x="12874" y="8839"/>
                  <a:pt x="12874" y="8921"/>
                  <a:pt x="12874" y="9004"/>
                </a:cubicBezTo>
              </a:path>
              <a:path w="1960" h="720">
                <a:moveTo>
                  <a:pt x="13370" y="9029"/>
                </a:moveTo>
                <a:cubicBezTo>
                  <a:pt x="13395" y="9029"/>
                  <a:pt x="13403" y="9029"/>
                  <a:pt x="13419" y="9029"/>
                </a:cubicBezTo>
                <a:cubicBezTo>
                  <a:pt x="13369" y="9029"/>
                  <a:pt x="13361" y="9040"/>
                  <a:pt x="13320" y="9054"/>
                </a:cubicBezTo>
                <a:cubicBezTo>
                  <a:pt x="13287" y="9065"/>
                  <a:pt x="13231" y="9054"/>
                  <a:pt x="13196" y="9054"/>
                </a:cubicBezTo>
              </a:path>
              <a:path w="1960" h="720">
                <a:moveTo>
                  <a:pt x="13419" y="9203"/>
                </a:moveTo>
                <a:cubicBezTo>
                  <a:pt x="13427" y="9203"/>
                  <a:pt x="13436" y="9203"/>
                  <a:pt x="13444" y="9203"/>
                </a:cubicBezTo>
                <a:cubicBezTo>
                  <a:pt x="13383" y="9203"/>
                  <a:pt x="13345" y="9211"/>
                  <a:pt x="13295" y="9227"/>
                </a:cubicBezTo>
                <a:cubicBezTo>
                  <a:pt x="13287" y="9227"/>
                  <a:pt x="13279" y="9227"/>
                  <a:pt x="13271" y="92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43680" y="3027240"/>
            <a:ext cx="277560" cy="357480"/>
          </a:xfrm>
          <a:custGeom>
            <a:avLst/>
            <a:gdLst/>
            <a:ahLst/>
            <a:rect l="l" t="t" r="r" b="b"/>
            <a:pathLst>
              <a:path w="769" h="993">
                <a:moveTo>
                  <a:pt x="14511" y="8533"/>
                </a:moveTo>
                <a:cubicBezTo>
                  <a:pt x="14518" y="8482"/>
                  <a:pt x="14536" y="8460"/>
                  <a:pt x="14536" y="8409"/>
                </a:cubicBezTo>
                <a:cubicBezTo>
                  <a:pt x="14536" y="8513"/>
                  <a:pt x="14549" y="8606"/>
                  <a:pt x="14560" y="8706"/>
                </a:cubicBezTo>
                <a:cubicBezTo>
                  <a:pt x="14560" y="8731"/>
                  <a:pt x="14560" y="8756"/>
                  <a:pt x="14560" y="8781"/>
                </a:cubicBezTo>
              </a:path>
              <a:path w="769" h="993">
                <a:moveTo>
                  <a:pt x="14883" y="8855"/>
                </a:moveTo>
                <a:cubicBezTo>
                  <a:pt x="14944" y="8909"/>
                  <a:pt x="14976" y="8905"/>
                  <a:pt x="14908" y="8905"/>
                </a:cubicBezTo>
                <a:cubicBezTo>
                  <a:pt x="14798" y="8905"/>
                  <a:pt x="14698" y="8880"/>
                  <a:pt x="14585" y="8880"/>
                </a:cubicBezTo>
                <a:cubicBezTo>
                  <a:pt x="14505" y="8880"/>
                  <a:pt x="14384" y="8865"/>
                  <a:pt x="14312" y="8905"/>
                </a:cubicBezTo>
                <a:cubicBezTo>
                  <a:pt x="14304" y="8913"/>
                  <a:pt x="14296" y="8922"/>
                  <a:pt x="14288" y="8930"/>
                </a:cubicBezTo>
              </a:path>
              <a:path w="769" h="993">
                <a:moveTo>
                  <a:pt x="14461" y="9203"/>
                </a:moveTo>
                <a:cubicBezTo>
                  <a:pt x="14511" y="9191"/>
                  <a:pt x="14530" y="9141"/>
                  <a:pt x="14585" y="9128"/>
                </a:cubicBezTo>
                <a:cubicBezTo>
                  <a:pt x="14682" y="9105"/>
                  <a:pt x="14696" y="9151"/>
                  <a:pt x="14734" y="9227"/>
                </a:cubicBezTo>
                <a:cubicBezTo>
                  <a:pt x="14766" y="9291"/>
                  <a:pt x="14771" y="9372"/>
                  <a:pt x="14684" y="9401"/>
                </a:cubicBezTo>
                <a:cubicBezTo>
                  <a:pt x="14646" y="9414"/>
                  <a:pt x="14576" y="9401"/>
                  <a:pt x="14536" y="9401"/>
                </a:cubicBezTo>
              </a:path>
              <a:path w="769" h="993">
                <a:moveTo>
                  <a:pt x="14734" y="9153"/>
                </a:moveTo>
                <a:cubicBezTo>
                  <a:pt x="14751" y="9153"/>
                  <a:pt x="14767" y="9153"/>
                  <a:pt x="14784" y="9153"/>
                </a:cubicBezTo>
                <a:cubicBezTo>
                  <a:pt x="14771" y="9204"/>
                  <a:pt x="14759" y="9216"/>
                  <a:pt x="14759" y="9277"/>
                </a:cubicBezTo>
                <a:cubicBezTo>
                  <a:pt x="14759" y="9375"/>
                  <a:pt x="14829" y="9395"/>
                  <a:pt x="14908" y="9401"/>
                </a:cubicBezTo>
                <a:cubicBezTo>
                  <a:pt x="14974" y="9401"/>
                  <a:pt x="14991" y="9401"/>
                  <a:pt x="15032" y="9401"/>
                </a:cubicBezTo>
              </a:path>
              <a:path w="769" h="993">
                <a:moveTo>
                  <a:pt x="15056" y="9054"/>
                </a:moveTo>
                <a:cubicBezTo>
                  <a:pt x="15031" y="9089"/>
                  <a:pt x="15032" y="9085"/>
                  <a:pt x="15032" y="9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19840" y="3062160"/>
            <a:ext cx="438120" cy="260640"/>
          </a:xfrm>
          <a:custGeom>
            <a:avLst/>
            <a:gdLst/>
            <a:ahLst/>
            <a:rect l="l" t="t" r="r" b="b"/>
            <a:pathLst>
              <a:path w="1216" h="720">
                <a:moveTo>
                  <a:pt x="16470" y="9004"/>
                </a:moveTo>
                <a:cubicBezTo>
                  <a:pt x="16447" y="8972"/>
                  <a:pt x="16425" y="8936"/>
                  <a:pt x="16470" y="8905"/>
                </a:cubicBezTo>
                <a:cubicBezTo>
                  <a:pt x="16512" y="8876"/>
                  <a:pt x="16594" y="8866"/>
                  <a:pt x="16644" y="8880"/>
                </a:cubicBezTo>
                <a:cubicBezTo>
                  <a:pt x="16719" y="8901"/>
                  <a:pt x="16755" y="9008"/>
                  <a:pt x="16743" y="9079"/>
                </a:cubicBezTo>
                <a:cubicBezTo>
                  <a:pt x="16729" y="9164"/>
                  <a:pt x="16702" y="9222"/>
                  <a:pt x="16619" y="9227"/>
                </a:cubicBezTo>
                <a:cubicBezTo>
                  <a:pt x="16559" y="9230"/>
                  <a:pt x="16551" y="9226"/>
                  <a:pt x="16495" y="9203"/>
                </a:cubicBezTo>
              </a:path>
              <a:path w="1216" h="720">
                <a:moveTo>
                  <a:pt x="16694" y="8979"/>
                </a:moveTo>
                <a:cubicBezTo>
                  <a:pt x="16733" y="8949"/>
                  <a:pt x="16830" y="8894"/>
                  <a:pt x="16842" y="8855"/>
                </a:cubicBezTo>
                <a:cubicBezTo>
                  <a:pt x="16803" y="8895"/>
                  <a:pt x="16753" y="8947"/>
                  <a:pt x="16743" y="9004"/>
                </a:cubicBezTo>
                <a:cubicBezTo>
                  <a:pt x="16729" y="9087"/>
                  <a:pt x="16733" y="9149"/>
                  <a:pt x="16818" y="9178"/>
                </a:cubicBezTo>
                <a:cubicBezTo>
                  <a:pt x="16895" y="9204"/>
                  <a:pt x="16913" y="9164"/>
                  <a:pt x="16966" y="9128"/>
                </a:cubicBezTo>
              </a:path>
              <a:path w="1216" h="720">
                <a:moveTo>
                  <a:pt x="17363" y="8558"/>
                </a:moveTo>
                <a:cubicBezTo>
                  <a:pt x="17363" y="8516"/>
                  <a:pt x="17355" y="8500"/>
                  <a:pt x="17388" y="8508"/>
                </a:cubicBezTo>
                <a:cubicBezTo>
                  <a:pt x="17388" y="8574"/>
                  <a:pt x="17388" y="8640"/>
                  <a:pt x="17388" y="8706"/>
                </a:cubicBezTo>
              </a:path>
              <a:path w="1216" h="720">
                <a:moveTo>
                  <a:pt x="17512" y="8781"/>
                </a:moveTo>
                <a:cubicBezTo>
                  <a:pt x="17512" y="8789"/>
                  <a:pt x="17512" y="8798"/>
                  <a:pt x="17512" y="8806"/>
                </a:cubicBezTo>
                <a:cubicBezTo>
                  <a:pt x="17473" y="8796"/>
                  <a:pt x="17457" y="8781"/>
                  <a:pt x="17413" y="8781"/>
                </a:cubicBezTo>
                <a:cubicBezTo>
                  <a:pt x="17380" y="8781"/>
                  <a:pt x="17347" y="8781"/>
                  <a:pt x="17314" y="8781"/>
                </a:cubicBezTo>
              </a:path>
              <a:path w="1216" h="720">
                <a:moveTo>
                  <a:pt x="17462" y="8880"/>
                </a:moveTo>
                <a:cubicBezTo>
                  <a:pt x="17462" y="8905"/>
                  <a:pt x="17462" y="8913"/>
                  <a:pt x="17438" y="8905"/>
                </a:cubicBezTo>
                <a:cubicBezTo>
                  <a:pt x="17450" y="8855"/>
                  <a:pt x="17461" y="8855"/>
                  <a:pt x="17512" y="8855"/>
                </a:cubicBezTo>
                <a:cubicBezTo>
                  <a:pt x="17520" y="8855"/>
                  <a:pt x="17529" y="8855"/>
                  <a:pt x="17537" y="8855"/>
                </a:cubicBezTo>
                <a:cubicBezTo>
                  <a:pt x="17537" y="8905"/>
                  <a:pt x="17526" y="8914"/>
                  <a:pt x="17512" y="8954"/>
                </a:cubicBezTo>
                <a:cubicBezTo>
                  <a:pt x="17499" y="8991"/>
                  <a:pt x="17487" y="9011"/>
                  <a:pt x="17487" y="9054"/>
                </a:cubicBezTo>
                <a:cubicBezTo>
                  <a:pt x="17544" y="9054"/>
                  <a:pt x="17565" y="9044"/>
                  <a:pt x="17611" y="9029"/>
                </a:cubicBezTo>
                <a:cubicBezTo>
                  <a:pt x="17636" y="9029"/>
                  <a:pt x="17644" y="9029"/>
                  <a:pt x="17661" y="90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18160" y="3214800"/>
            <a:ext cx="73080" cy="36360"/>
          </a:xfrm>
          <a:custGeom>
            <a:avLst/>
            <a:gdLst/>
            <a:ahLst/>
            <a:rect l="l" t="t" r="r" b="b"/>
            <a:pathLst>
              <a:path w="200" h="100">
                <a:moveTo>
                  <a:pt x="18231" y="8930"/>
                </a:moveTo>
                <a:cubicBezTo>
                  <a:pt x="18239" y="8930"/>
                  <a:pt x="18248" y="8930"/>
                  <a:pt x="18256" y="8930"/>
                </a:cubicBezTo>
                <a:cubicBezTo>
                  <a:pt x="18206" y="8930"/>
                  <a:pt x="18157" y="8930"/>
                  <a:pt x="18107" y="8930"/>
                </a:cubicBezTo>
              </a:path>
              <a:path w="200" h="100">
                <a:moveTo>
                  <a:pt x="18306" y="9029"/>
                </a:moveTo>
                <a:cubicBezTo>
                  <a:pt x="18265" y="9029"/>
                  <a:pt x="18223" y="9029"/>
                  <a:pt x="18182" y="90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50000" y="3036960"/>
            <a:ext cx="420840" cy="249120"/>
          </a:xfrm>
          <a:custGeom>
            <a:avLst/>
            <a:gdLst/>
            <a:ahLst/>
            <a:rect l="l" t="t" r="r" b="b"/>
            <a:pathLst>
              <a:path w="1167" h="695">
                <a:moveTo>
                  <a:pt x="19918" y="8508"/>
                </a:moveTo>
                <a:cubicBezTo>
                  <a:pt x="19897" y="8491"/>
                  <a:pt x="19847" y="8443"/>
                  <a:pt x="19794" y="8434"/>
                </a:cubicBezTo>
                <a:cubicBezTo>
                  <a:pt x="19606" y="8402"/>
                  <a:pt x="19383" y="8435"/>
                  <a:pt x="19199" y="8458"/>
                </a:cubicBezTo>
                <a:cubicBezTo>
                  <a:pt x="19149" y="8464"/>
                  <a:pt x="19072" y="8466"/>
                  <a:pt x="19025" y="8483"/>
                </a:cubicBezTo>
                <a:cubicBezTo>
                  <a:pt x="18992" y="8495"/>
                  <a:pt x="18933" y="8576"/>
                  <a:pt x="18926" y="8607"/>
                </a:cubicBezTo>
                <a:cubicBezTo>
                  <a:pt x="18903" y="8705"/>
                  <a:pt x="18901" y="8803"/>
                  <a:pt x="18901" y="8905"/>
                </a:cubicBezTo>
                <a:cubicBezTo>
                  <a:pt x="18901" y="8986"/>
                  <a:pt x="18915" y="9063"/>
                  <a:pt x="18876" y="9128"/>
                </a:cubicBezTo>
                <a:cubicBezTo>
                  <a:pt x="18838" y="9049"/>
                  <a:pt x="18804" y="8949"/>
                  <a:pt x="18777" y="8855"/>
                </a:cubicBezTo>
                <a:cubicBezTo>
                  <a:pt x="18755" y="8778"/>
                  <a:pt x="18752" y="8732"/>
                  <a:pt x="18752" y="8657"/>
                </a:cubicBezTo>
              </a:path>
              <a:path w="1167" h="695">
                <a:moveTo>
                  <a:pt x="19323" y="8781"/>
                </a:moveTo>
                <a:cubicBezTo>
                  <a:pt x="19298" y="8781"/>
                  <a:pt x="19290" y="8781"/>
                  <a:pt x="19298" y="8756"/>
                </a:cubicBezTo>
                <a:cubicBezTo>
                  <a:pt x="19309" y="8723"/>
                  <a:pt x="19352" y="8716"/>
                  <a:pt x="19397" y="8731"/>
                </a:cubicBezTo>
                <a:cubicBezTo>
                  <a:pt x="19482" y="8760"/>
                  <a:pt x="19516" y="8792"/>
                  <a:pt x="19521" y="8880"/>
                </a:cubicBezTo>
                <a:cubicBezTo>
                  <a:pt x="19525" y="8947"/>
                  <a:pt x="19489" y="8975"/>
                  <a:pt x="19422" y="8979"/>
                </a:cubicBezTo>
                <a:cubicBezTo>
                  <a:pt x="19381" y="8982"/>
                  <a:pt x="19339" y="8979"/>
                  <a:pt x="19298" y="8979"/>
                </a:cubicBezTo>
              </a:path>
              <a:path w="1167" h="695">
                <a:moveTo>
                  <a:pt x="19596" y="8706"/>
                </a:moveTo>
                <a:cubicBezTo>
                  <a:pt x="19656" y="8648"/>
                  <a:pt x="19553" y="8753"/>
                  <a:pt x="19546" y="8781"/>
                </a:cubicBezTo>
                <a:cubicBezTo>
                  <a:pt x="19526" y="8866"/>
                  <a:pt x="19554" y="8935"/>
                  <a:pt x="19621" y="8979"/>
                </a:cubicBezTo>
                <a:cubicBezTo>
                  <a:pt x="19711" y="9038"/>
                  <a:pt x="19803" y="8984"/>
                  <a:pt x="19893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33880" y="3554280"/>
            <a:ext cx="760320" cy="241560"/>
          </a:xfrm>
          <a:custGeom>
            <a:avLst/>
            <a:gdLst/>
            <a:ahLst/>
            <a:rect l="l" t="t" r="r" b="b"/>
            <a:pathLst>
              <a:path w="2109" h="671">
                <a:moveTo>
                  <a:pt x="11485" y="10344"/>
                </a:moveTo>
                <a:cubicBezTo>
                  <a:pt x="11485" y="10299"/>
                  <a:pt x="11488" y="10245"/>
                  <a:pt x="11534" y="10220"/>
                </a:cubicBezTo>
                <a:cubicBezTo>
                  <a:pt x="11563" y="10204"/>
                  <a:pt x="11660" y="10219"/>
                  <a:pt x="11683" y="10244"/>
                </a:cubicBezTo>
                <a:cubicBezTo>
                  <a:pt x="11728" y="10293"/>
                  <a:pt x="11756" y="10406"/>
                  <a:pt x="11733" y="10468"/>
                </a:cubicBezTo>
                <a:cubicBezTo>
                  <a:pt x="11718" y="10509"/>
                  <a:pt x="11620" y="10540"/>
                  <a:pt x="11584" y="10542"/>
                </a:cubicBezTo>
                <a:cubicBezTo>
                  <a:pt x="11567" y="10542"/>
                  <a:pt x="11551" y="10542"/>
                  <a:pt x="11534" y="10542"/>
                </a:cubicBezTo>
              </a:path>
              <a:path w="2109" h="671">
                <a:moveTo>
                  <a:pt x="11782" y="10195"/>
                </a:moveTo>
                <a:cubicBezTo>
                  <a:pt x="11836" y="10149"/>
                  <a:pt x="11874" y="10111"/>
                  <a:pt x="11807" y="10170"/>
                </a:cubicBezTo>
                <a:cubicBezTo>
                  <a:pt x="11748" y="10223"/>
                  <a:pt x="11740" y="10319"/>
                  <a:pt x="11757" y="10393"/>
                </a:cubicBezTo>
                <a:cubicBezTo>
                  <a:pt x="11777" y="10479"/>
                  <a:pt x="11825" y="10512"/>
                  <a:pt x="11906" y="10517"/>
                </a:cubicBezTo>
                <a:cubicBezTo>
                  <a:pt x="11958" y="10517"/>
                  <a:pt x="11976" y="10516"/>
                  <a:pt x="12005" y="10492"/>
                </a:cubicBezTo>
              </a:path>
              <a:path w="2109" h="671">
                <a:moveTo>
                  <a:pt x="12303" y="10096"/>
                </a:moveTo>
                <a:cubicBezTo>
                  <a:pt x="12303" y="10088"/>
                  <a:pt x="12303" y="10079"/>
                  <a:pt x="12303" y="10071"/>
                </a:cubicBezTo>
                <a:cubicBezTo>
                  <a:pt x="12341" y="10071"/>
                  <a:pt x="12397" y="10061"/>
                  <a:pt x="12427" y="10046"/>
                </a:cubicBezTo>
                <a:cubicBezTo>
                  <a:pt x="12479" y="10020"/>
                  <a:pt x="12513" y="10021"/>
                  <a:pt x="12576" y="10021"/>
                </a:cubicBezTo>
              </a:path>
              <a:path w="2109" h="671">
                <a:moveTo>
                  <a:pt x="12874" y="9922"/>
                </a:moveTo>
                <a:cubicBezTo>
                  <a:pt x="12874" y="9980"/>
                  <a:pt x="12874" y="10038"/>
                  <a:pt x="12874" y="10096"/>
                </a:cubicBezTo>
                <a:cubicBezTo>
                  <a:pt x="12913" y="10082"/>
                  <a:pt x="12905" y="10041"/>
                  <a:pt x="12923" y="9996"/>
                </a:cubicBezTo>
                <a:cubicBezTo>
                  <a:pt x="12946" y="9940"/>
                  <a:pt x="12966" y="9887"/>
                  <a:pt x="13022" y="9872"/>
                </a:cubicBezTo>
                <a:cubicBezTo>
                  <a:pt x="13056" y="9917"/>
                  <a:pt x="13069" y="9961"/>
                  <a:pt x="13072" y="10021"/>
                </a:cubicBezTo>
                <a:cubicBezTo>
                  <a:pt x="13072" y="10063"/>
                  <a:pt x="13072" y="10071"/>
                  <a:pt x="13072" y="10096"/>
                </a:cubicBezTo>
              </a:path>
              <a:path w="2109" h="671">
                <a:moveTo>
                  <a:pt x="13568" y="10220"/>
                </a:moveTo>
                <a:cubicBezTo>
                  <a:pt x="13576" y="10228"/>
                  <a:pt x="13585" y="10236"/>
                  <a:pt x="13593" y="10244"/>
                </a:cubicBezTo>
                <a:cubicBezTo>
                  <a:pt x="13544" y="10244"/>
                  <a:pt x="13534" y="10233"/>
                  <a:pt x="13494" y="10220"/>
                </a:cubicBezTo>
                <a:cubicBezTo>
                  <a:pt x="13463" y="10210"/>
                  <a:pt x="13424" y="10198"/>
                  <a:pt x="13395" y="10195"/>
                </a:cubicBezTo>
                <a:cubicBezTo>
                  <a:pt x="13387" y="10195"/>
                  <a:pt x="13378" y="10195"/>
                  <a:pt x="13370" y="10195"/>
                </a:cubicBezTo>
              </a:path>
              <a:path w="2109" h="671">
                <a:moveTo>
                  <a:pt x="13593" y="10368"/>
                </a:moveTo>
                <a:cubicBezTo>
                  <a:pt x="13535" y="10368"/>
                  <a:pt x="13477" y="10368"/>
                  <a:pt x="13419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60960" y="3483000"/>
            <a:ext cx="349200" cy="411120"/>
          </a:xfrm>
          <a:custGeom>
            <a:avLst/>
            <a:gdLst/>
            <a:ahLst/>
            <a:rect l="l" t="t" r="r" b="b"/>
            <a:pathLst>
              <a:path w="968" h="1142">
                <a:moveTo>
                  <a:pt x="14635" y="9699"/>
                </a:moveTo>
                <a:cubicBezTo>
                  <a:pt x="14635" y="9674"/>
                  <a:pt x="14635" y="9666"/>
                  <a:pt x="14660" y="9674"/>
                </a:cubicBezTo>
                <a:cubicBezTo>
                  <a:pt x="14660" y="9740"/>
                  <a:pt x="14674" y="9787"/>
                  <a:pt x="14684" y="9847"/>
                </a:cubicBezTo>
                <a:cubicBezTo>
                  <a:pt x="14693" y="9902"/>
                  <a:pt x="14684" y="9965"/>
                  <a:pt x="14684" y="10021"/>
                </a:cubicBezTo>
              </a:path>
              <a:path w="968" h="1142">
                <a:moveTo>
                  <a:pt x="15304" y="10145"/>
                </a:moveTo>
                <a:cubicBezTo>
                  <a:pt x="15248" y="10145"/>
                  <a:pt x="15206" y="10163"/>
                  <a:pt x="15156" y="10170"/>
                </a:cubicBezTo>
                <a:cubicBezTo>
                  <a:pt x="15036" y="10186"/>
                  <a:pt x="14369" y="10100"/>
                  <a:pt x="14337" y="10195"/>
                </a:cubicBezTo>
              </a:path>
              <a:path w="968" h="1142">
                <a:moveTo>
                  <a:pt x="14461" y="10492"/>
                </a:moveTo>
                <a:cubicBezTo>
                  <a:pt x="14501" y="10463"/>
                  <a:pt x="14520" y="10455"/>
                  <a:pt x="14560" y="10492"/>
                </a:cubicBezTo>
                <a:cubicBezTo>
                  <a:pt x="14632" y="10559"/>
                  <a:pt x="14635" y="10598"/>
                  <a:pt x="14635" y="10691"/>
                </a:cubicBezTo>
                <a:cubicBezTo>
                  <a:pt x="14635" y="10752"/>
                  <a:pt x="14628" y="10797"/>
                  <a:pt x="14560" y="10815"/>
                </a:cubicBezTo>
                <a:cubicBezTo>
                  <a:pt x="14530" y="10823"/>
                  <a:pt x="14428" y="10810"/>
                  <a:pt x="14412" y="10790"/>
                </a:cubicBezTo>
                <a:cubicBezTo>
                  <a:pt x="14412" y="10782"/>
                  <a:pt x="14412" y="10773"/>
                  <a:pt x="14412" y="10765"/>
                </a:cubicBezTo>
              </a:path>
              <a:path w="968" h="1142">
                <a:moveTo>
                  <a:pt x="14660" y="10616"/>
                </a:moveTo>
                <a:cubicBezTo>
                  <a:pt x="14699" y="10577"/>
                  <a:pt x="14715" y="10576"/>
                  <a:pt x="14709" y="10542"/>
                </a:cubicBezTo>
                <a:cubicBezTo>
                  <a:pt x="14643" y="10559"/>
                  <a:pt x="14657" y="10583"/>
                  <a:pt x="14684" y="10641"/>
                </a:cubicBezTo>
                <a:cubicBezTo>
                  <a:pt x="14710" y="10697"/>
                  <a:pt x="14771" y="10797"/>
                  <a:pt x="14833" y="10815"/>
                </a:cubicBezTo>
                <a:cubicBezTo>
                  <a:pt x="14859" y="10823"/>
                  <a:pt x="14930" y="10815"/>
                  <a:pt x="14957" y="10815"/>
                </a:cubicBezTo>
              </a:path>
              <a:path w="968" h="1142">
                <a:moveTo>
                  <a:pt x="14957" y="10368"/>
                </a:moveTo>
                <a:cubicBezTo>
                  <a:pt x="14957" y="10327"/>
                  <a:pt x="14957" y="10402"/>
                  <a:pt x="14957" y="10443"/>
                </a:cubicBezTo>
                <a:cubicBezTo>
                  <a:pt x="14957" y="10451"/>
                  <a:pt x="14957" y="10460"/>
                  <a:pt x="14957" y="10468"/>
                </a:cubicBezTo>
                <a:cubicBezTo>
                  <a:pt x="14987" y="10458"/>
                  <a:pt x="14986" y="10429"/>
                  <a:pt x="15007" y="10393"/>
                </a:cubicBezTo>
                <a:cubicBezTo>
                  <a:pt x="15033" y="10348"/>
                  <a:pt x="15029" y="10332"/>
                  <a:pt x="15056" y="10294"/>
                </a:cubicBezTo>
                <a:cubicBezTo>
                  <a:pt x="15089" y="10302"/>
                  <a:pt x="15123" y="10332"/>
                  <a:pt x="15131" y="10368"/>
                </a:cubicBezTo>
                <a:cubicBezTo>
                  <a:pt x="15131" y="10410"/>
                  <a:pt x="15131" y="10418"/>
                  <a:pt x="15131" y="10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75200" y="3456000"/>
            <a:ext cx="635040" cy="349200"/>
          </a:xfrm>
          <a:custGeom>
            <a:avLst/>
            <a:gdLst/>
            <a:ahLst/>
            <a:rect l="l" t="t" r="r" b="b"/>
            <a:pathLst>
              <a:path w="1763" h="969">
                <a:moveTo>
                  <a:pt x="16321" y="10244"/>
                </a:moveTo>
                <a:cubicBezTo>
                  <a:pt x="16321" y="10198"/>
                  <a:pt x="16320" y="10176"/>
                  <a:pt x="16371" y="10170"/>
                </a:cubicBezTo>
                <a:cubicBezTo>
                  <a:pt x="16413" y="10165"/>
                  <a:pt x="16487" y="10160"/>
                  <a:pt x="16520" y="10195"/>
                </a:cubicBezTo>
                <a:cubicBezTo>
                  <a:pt x="16563" y="10241"/>
                  <a:pt x="16609" y="10356"/>
                  <a:pt x="16594" y="10418"/>
                </a:cubicBezTo>
                <a:cubicBezTo>
                  <a:pt x="16584" y="10458"/>
                  <a:pt x="16509" y="10531"/>
                  <a:pt x="16470" y="10542"/>
                </a:cubicBezTo>
                <a:cubicBezTo>
                  <a:pt x="16431" y="10553"/>
                  <a:pt x="16386" y="10559"/>
                  <a:pt x="16346" y="10567"/>
                </a:cubicBezTo>
              </a:path>
              <a:path w="1763" h="969">
                <a:moveTo>
                  <a:pt x="16669" y="10195"/>
                </a:moveTo>
                <a:cubicBezTo>
                  <a:pt x="16709" y="10175"/>
                  <a:pt x="16725" y="10176"/>
                  <a:pt x="16718" y="10145"/>
                </a:cubicBezTo>
                <a:cubicBezTo>
                  <a:pt x="16665" y="10159"/>
                  <a:pt x="16619" y="10189"/>
                  <a:pt x="16594" y="10244"/>
                </a:cubicBezTo>
                <a:cubicBezTo>
                  <a:pt x="16556" y="10328"/>
                  <a:pt x="16567" y="10394"/>
                  <a:pt x="16619" y="10468"/>
                </a:cubicBezTo>
                <a:cubicBezTo>
                  <a:pt x="16667" y="10536"/>
                  <a:pt x="16731" y="10519"/>
                  <a:pt x="16793" y="10492"/>
                </a:cubicBezTo>
                <a:cubicBezTo>
                  <a:pt x="16809" y="10484"/>
                  <a:pt x="16826" y="10476"/>
                  <a:pt x="16842" y="10468"/>
                </a:cubicBezTo>
              </a:path>
              <a:path w="1763" h="969">
                <a:moveTo>
                  <a:pt x="17363" y="9599"/>
                </a:moveTo>
                <a:cubicBezTo>
                  <a:pt x="17363" y="9662"/>
                  <a:pt x="17371" y="9696"/>
                  <a:pt x="17388" y="9748"/>
                </a:cubicBezTo>
                <a:cubicBezTo>
                  <a:pt x="17388" y="9756"/>
                  <a:pt x="17388" y="9765"/>
                  <a:pt x="17388" y="9773"/>
                </a:cubicBezTo>
              </a:path>
              <a:path w="1763" h="969">
                <a:moveTo>
                  <a:pt x="17487" y="9872"/>
                </a:moveTo>
                <a:cubicBezTo>
                  <a:pt x="17495" y="9872"/>
                  <a:pt x="17504" y="9872"/>
                  <a:pt x="17512" y="9872"/>
                </a:cubicBezTo>
                <a:cubicBezTo>
                  <a:pt x="17428" y="9872"/>
                  <a:pt x="17360" y="9873"/>
                  <a:pt x="17289" y="9897"/>
                </a:cubicBezTo>
                <a:cubicBezTo>
                  <a:pt x="17281" y="9897"/>
                  <a:pt x="17272" y="9897"/>
                  <a:pt x="17264" y="9897"/>
                </a:cubicBezTo>
              </a:path>
              <a:path w="1763" h="969">
                <a:moveTo>
                  <a:pt x="17363" y="10021"/>
                </a:moveTo>
                <a:cubicBezTo>
                  <a:pt x="17373" y="9992"/>
                  <a:pt x="17397" y="9976"/>
                  <a:pt x="17438" y="9971"/>
                </a:cubicBezTo>
                <a:cubicBezTo>
                  <a:pt x="17462" y="9971"/>
                  <a:pt x="17471" y="9971"/>
                  <a:pt x="17487" y="9971"/>
                </a:cubicBezTo>
                <a:cubicBezTo>
                  <a:pt x="17487" y="10009"/>
                  <a:pt x="17503" y="10075"/>
                  <a:pt x="17462" y="10096"/>
                </a:cubicBezTo>
                <a:cubicBezTo>
                  <a:pt x="17430" y="10112"/>
                  <a:pt x="17448" y="10109"/>
                  <a:pt x="17413" y="10120"/>
                </a:cubicBezTo>
                <a:cubicBezTo>
                  <a:pt x="17455" y="10162"/>
                  <a:pt x="17472" y="10148"/>
                  <a:pt x="17512" y="10170"/>
                </a:cubicBezTo>
                <a:cubicBezTo>
                  <a:pt x="17547" y="10190"/>
                  <a:pt x="17551" y="10250"/>
                  <a:pt x="17512" y="10269"/>
                </a:cubicBezTo>
                <a:cubicBezTo>
                  <a:pt x="17497" y="10276"/>
                  <a:pt x="17455" y="10269"/>
                  <a:pt x="17438" y="10269"/>
                </a:cubicBezTo>
              </a:path>
              <a:path w="1763" h="969">
                <a:moveTo>
                  <a:pt x="18033" y="10220"/>
                </a:moveTo>
                <a:cubicBezTo>
                  <a:pt x="18041" y="10220"/>
                  <a:pt x="18050" y="10220"/>
                  <a:pt x="18058" y="10220"/>
                </a:cubicBezTo>
                <a:cubicBezTo>
                  <a:pt x="18000" y="10220"/>
                  <a:pt x="17942" y="10220"/>
                  <a:pt x="17884" y="10220"/>
                </a:cubicBezTo>
              </a:path>
              <a:path w="1763" h="969">
                <a:moveTo>
                  <a:pt x="18058" y="10393"/>
                </a:moveTo>
                <a:cubicBezTo>
                  <a:pt x="18066" y="10393"/>
                  <a:pt x="18075" y="10393"/>
                  <a:pt x="18083" y="10393"/>
                </a:cubicBezTo>
                <a:cubicBezTo>
                  <a:pt x="18070" y="10355"/>
                  <a:pt x="18053" y="10368"/>
                  <a:pt x="18008" y="10368"/>
                </a:cubicBezTo>
                <a:cubicBezTo>
                  <a:pt x="17983" y="10368"/>
                  <a:pt x="17975" y="10368"/>
                  <a:pt x="17959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50000" y="3490920"/>
            <a:ext cx="501840" cy="331920"/>
          </a:xfrm>
          <a:custGeom>
            <a:avLst/>
            <a:gdLst/>
            <a:ahLst/>
            <a:rect l="l" t="t" r="r" b="b"/>
            <a:pathLst>
              <a:path w="1390" h="918">
                <a:moveTo>
                  <a:pt x="18752" y="9748"/>
                </a:moveTo>
                <a:cubicBezTo>
                  <a:pt x="18818" y="9748"/>
                  <a:pt x="18783" y="9729"/>
                  <a:pt x="18852" y="9723"/>
                </a:cubicBezTo>
                <a:cubicBezTo>
                  <a:pt x="18886" y="9720"/>
                  <a:pt x="18950" y="9752"/>
                  <a:pt x="18976" y="9773"/>
                </a:cubicBezTo>
                <a:cubicBezTo>
                  <a:pt x="19021" y="9810"/>
                  <a:pt x="19000" y="9851"/>
                  <a:pt x="18976" y="9872"/>
                </a:cubicBezTo>
                <a:cubicBezTo>
                  <a:pt x="18927" y="9915"/>
                  <a:pt x="18921" y="9922"/>
                  <a:pt x="18852" y="9922"/>
                </a:cubicBezTo>
                <a:cubicBezTo>
                  <a:pt x="18844" y="9922"/>
                  <a:pt x="18835" y="9922"/>
                  <a:pt x="18827" y="9922"/>
                </a:cubicBezTo>
                <a:cubicBezTo>
                  <a:pt x="18840" y="9962"/>
                  <a:pt x="18874" y="9967"/>
                  <a:pt x="18926" y="9971"/>
                </a:cubicBezTo>
                <a:cubicBezTo>
                  <a:pt x="18951" y="9973"/>
                  <a:pt x="19012" y="9996"/>
                  <a:pt x="19025" y="10021"/>
                </a:cubicBezTo>
                <a:cubicBezTo>
                  <a:pt x="19043" y="10058"/>
                  <a:pt x="19004" y="10086"/>
                  <a:pt x="18976" y="10096"/>
                </a:cubicBezTo>
                <a:cubicBezTo>
                  <a:pt x="18954" y="10103"/>
                  <a:pt x="18895" y="10096"/>
                  <a:pt x="18876" y="10096"/>
                </a:cubicBezTo>
              </a:path>
              <a:path w="1390" h="918">
                <a:moveTo>
                  <a:pt x="20141" y="9823"/>
                </a:moveTo>
                <a:cubicBezTo>
                  <a:pt x="20110" y="9802"/>
                  <a:pt x="20095" y="9801"/>
                  <a:pt x="20042" y="9773"/>
                </a:cubicBezTo>
                <a:cubicBezTo>
                  <a:pt x="19969" y="9734"/>
                  <a:pt x="19896" y="9740"/>
                  <a:pt x="19819" y="9723"/>
                </a:cubicBezTo>
                <a:cubicBezTo>
                  <a:pt x="19731" y="9703"/>
                  <a:pt x="19662" y="9699"/>
                  <a:pt x="19571" y="9699"/>
                </a:cubicBezTo>
                <a:cubicBezTo>
                  <a:pt x="19521" y="9699"/>
                  <a:pt x="19472" y="9699"/>
                  <a:pt x="19422" y="9699"/>
                </a:cubicBezTo>
                <a:cubicBezTo>
                  <a:pt x="19417" y="9738"/>
                  <a:pt x="19403" y="9768"/>
                  <a:pt x="19397" y="9798"/>
                </a:cubicBezTo>
                <a:cubicBezTo>
                  <a:pt x="19384" y="9862"/>
                  <a:pt x="19356" y="9933"/>
                  <a:pt x="19348" y="9996"/>
                </a:cubicBezTo>
                <a:cubicBezTo>
                  <a:pt x="19337" y="10083"/>
                  <a:pt x="19310" y="10157"/>
                  <a:pt x="19298" y="10244"/>
                </a:cubicBezTo>
                <a:cubicBezTo>
                  <a:pt x="19290" y="10298"/>
                  <a:pt x="19293" y="10392"/>
                  <a:pt x="19273" y="10443"/>
                </a:cubicBezTo>
                <a:cubicBezTo>
                  <a:pt x="19260" y="10475"/>
                  <a:pt x="19203" y="10531"/>
                  <a:pt x="19199" y="10542"/>
                </a:cubicBezTo>
                <a:cubicBezTo>
                  <a:pt x="19186" y="10574"/>
                  <a:pt x="19199" y="10601"/>
                  <a:pt x="19174" y="10616"/>
                </a:cubicBezTo>
                <a:cubicBezTo>
                  <a:pt x="19166" y="10616"/>
                  <a:pt x="19157" y="10616"/>
                  <a:pt x="19149" y="10616"/>
                </a:cubicBezTo>
                <a:cubicBezTo>
                  <a:pt x="19131" y="10594"/>
                  <a:pt x="19123" y="10578"/>
                  <a:pt x="19100" y="10542"/>
                </a:cubicBezTo>
                <a:cubicBezTo>
                  <a:pt x="19064" y="10486"/>
                  <a:pt x="19013" y="10448"/>
                  <a:pt x="18976" y="10393"/>
                </a:cubicBezTo>
                <a:cubicBezTo>
                  <a:pt x="18942" y="10342"/>
                  <a:pt x="18934" y="10323"/>
                  <a:pt x="18926" y="10269"/>
                </a:cubicBezTo>
              </a:path>
              <a:path w="1390" h="918">
                <a:moveTo>
                  <a:pt x="19546" y="10145"/>
                </a:moveTo>
                <a:cubicBezTo>
                  <a:pt x="19553" y="10123"/>
                  <a:pt x="19585" y="10100"/>
                  <a:pt x="19621" y="10120"/>
                </a:cubicBezTo>
                <a:cubicBezTo>
                  <a:pt x="19675" y="10151"/>
                  <a:pt x="19670" y="10217"/>
                  <a:pt x="19670" y="10269"/>
                </a:cubicBezTo>
                <a:cubicBezTo>
                  <a:pt x="19670" y="10345"/>
                  <a:pt x="19641" y="10362"/>
                  <a:pt x="19571" y="10368"/>
                </a:cubicBezTo>
                <a:cubicBezTo>
                  <a:pt x="19517" y="10372"/>
                  <a:pt x="19487" y="10373"/>
                  <a:pt x="19447" y="10344"/>
                </a:cubicBezTo>
              </a:path>
              <a:path w="1390" h="918">
                <a:moveTo>
                  <a:pt x="19596" y="10220"/>
                </a:moveTo>
                <a:cubicBezTo>
                  <a:pt x="19674" y="10188"/>
                  <a:pt x="19745" y="10157"/>
                  <a:pt x="19819" y="10120"/>
                </a:cubicBezTo>
                <a:cubicBezTo>
                  <a:pt x="19761" y="10167"/>
                  <a:pt x="19725" y="10166"/>
                  <a:pt x="19720" y="10244"/>
                </a:cubicBezTo>
                <a:cubicBezTo>
                  <a:pt x="19715" y="10327"/>
                  <a:pt x="19752" y="10357"/>
                  <a:pt x="19819" y="10393"/>
                </a:cubicBezTo>
                <a:cubicBezTo>
                  <a:pt x="19900" y="10436"/>
                  <a:pt x="19921" y="10409"/>
                  <a:pt x="19993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89240" y="4000680"/>
            <a:ext cx="1332000" cy="339480"/>
          </a:xfrm>
          <a:custGeom>
            <a:avLst/>
            <a:gdLst/>
            <a:ahLst/>
            <a:rect l="l" t="t" r="r" b="b"/>
            <a:pathLst>
              <a:path w="3696" h="944">
                <a:moveTo>
                  <a:pt x="11361" y="11708"/>
                </a:moveTo>
                <a:cubicBezTo>
                  <a:pt x="11409" y="11659"/>
                  <a:pt x="11415" y="11658"/>
                  <a:pt x="11485" y="11658"/>
                </a:cubicBezTo>
                <a:cubicBezTo>
                  <a:pt x="11539" y="11658"/>
                  <a:pt x="11569" y="11670"/>
                  <a:pt x="11584" y="11733"/>
                </a:cubicBezTo>
                <a:cubicBezTo>
                  <a:pt x="11595" y="11781"/>
                  <a:pt x="11596" y="11894"/>
                  <a:pt x="11559" y="11931"/>
                </a:cubicBezTo>
                <a:cubicBezTo>
                  <a:pt x="11514" y="11976"/>
                  <a:pt x="11418" y="11956"/>
                  <a:pt x="11361" y="11956"/>
                </a:cubicBezTo>
              </a:path>
              <a:path w="3696" h="944">
                <a:moveTo>
                  <a:pt x="11708" y="11658"/>
                </a:moveTo>
                <a:cubicBezTo>
                  <a:pt x="11724" y="11642"/>
                  <a:pt x="11741" y="11625"/>
                  <a:pt x="11757" y="11609"/>
                </a:cubicBezTo>
                <a:cubicBezTo>
                  <a:pt x="11707" y="11621"/>
                  <a:pt x="11650" y="11651"/>
                  <a:pt x="11633" y="11708"/>
                </a:cubicBezTo>
                <a:cubicBezTo>
                  <a:pt x="11607" y="11797"/>
                  <a:pt x="11636" y="11863"/>
                  <a:pt x="11708" y="11906"/>
                </a:cubicBezTo>
                <a:cubicBezTo>
                  <a:pt x="11776" y="11946"/>
                  <a:pt x="11843" y="11938"/>
                  <a:pt x="11906" y="11906"/>
                </a:cubicBezTo>
              </a:path>
              <a:path w="3696" h="944">
                <a:moveTo>
                  <a:pt x="12254" y="11112"/>
                </a:moveTo>
                <a:cubicBezTo>
                  <a:pt x="12254" y="11161"/>
                  <a:pt x="12265" y="11172"/>
                  <a:pt x="12278" y="11212"/>
                </a:cubicBezTo>
                <a:cubicBezTo>
                  <a:pt x="12278" y="11237"/>
                  <a:pt x="12278" y="11245"/>
                  <a:pt x="12278" y="11261"/>
                </a:cubicBezTo>
              </a:path>
              <a:path w="3696" h="944">
                <a:moveTo>
                  <a:pt x="12452" y="11311"/>
                </a:moveTo>
                <a:cubicBezTo>
                  <a:pt x="12344" y="11311"/>
                  <a:pt x="12237" y="11311"/>
                  <a:pt x="12129" y="11311"/>
                </a:cubicBezTo>
                <a:cubicBezTo>
                  <a:pt x="12129" y="11336"/>
                  <a:pt x="12129" y="11344"/>
                  <a:pt x="12105" y="11336"/>
                </a:cubicBezTo>
              </a:path>
              <a:path w="3696" h="944">
                <a:moveTo>
                  <a:pt x="12254" y="11485"/>
                </a:moveTo>
                <a:cubicBezTo>
                  <a:pt x="12254" y="11418"/>
                  <a:pt x="12254" y="11523"/>
                  <a:pt x="12254" y="11534"/>
                </a:cubicBezTo>
                <a:cubicBezTo>
                  <a:pt x="12254" y="11559"/>
                  <a:pt x="12254" y="11584"/>
                  <a:pt x="12254" y="11609"/>
                </a:cubicBezTo>
                <a:cubicBezTo>
                  <a:pt x="12281" y="11572"/>
                  <a:pt x="12292" y="11544"/>
                  <a:pt x="12328" y="11509"/>
                </a:cubicBezTo>
                <a:cubicBezTo>
                  <a:pt x="12351" y="11487"/>
                  <a:pt x="12356" y="11479"/>
                  <a:pt x="12378" y="11485"/>
                </a:cubicBezTo>
                <a:cubicBezTo>
                  <a:pt x="12390" y="11535"/>
                  <a:pt x="12402" y="11549"/>
                  <a:pt x="12402" y="11609"/>
                </a:cubicBezTo>
                <a:cubicBezTo>
                  <a:pt x="12402" y="11617"/>
                  <a:pt x="12402" y="11625"/>
                  <a:pt x="12402" y="11633"/>
                </a:cubicBezTo>
              </a:path>
              <a:path w="3696" h="944">
                <a:moveTo>
                  <a:pt x="13022" y="11757"/>
                </a:moveTo>
                <a:cubicBezTo>
                  <a:pt x="13030" y="11749"/>
                  <a:pt x="13039" y="11741"/>
                  <a:pt x="13047" y="11733"/>
                </a:cubicBezTo>
                <a:cubicBezTo>
                  <a:pt x="12989" y="11733"/>
                  <a:pt x="12932" y="11733"/>
                  <a:pt x="12874" y="11733"/>
                </a:cubicBezTo>
              </a:path>
              <a:path w="3696" h="944">
                <a:moveTo>
                  <a:pt x="13122" y="11857"/>
                </a:moveTo>
                <a:cubicBezTo>
                  <a:pt x="13084" y="11828"/>
                  <a:pt x="13071" y="11832"/>
                  <a:pt x="13022" y="11832"/>
                </a:cubicBezTo>
                <a:cubicBezTo>
                  <a:pt x="12994" y="11832"/>
                  <a:pt x="12984" y="11835"/>
                  <a:pt x="12973" y="11857"/>
                </a:cubicBezTo>
              </a:path>
              <a:path w="3696" h="944">
                <a:moveTo>
                  <a:pt x="13519" y="11460"/>
                </a:moveTo>
                <a:cubicBezTo>
                  <a:pt x="13543" y="11460"/>
                  <a:pt x="13551" y="11460"/>
                  <a:pt x="13543" y="11435"/>
                </a:cubicBezTo>
                <a:cubicBezTo>
                  <a:pt x="13543" y="11501"/>
                  <a:pt x="13543" y="11567"/>
                  <a:pt x="13543" y="11633"/>
                </a:cubicBezTo>
                <a:cubicBezTo>
                  <a:pt x="13543" y="11578"/>
                  <a:pt x="13561" y="11531"/>
                  <a:pt x="13593" y="11485"/>
                </a:cubicBezTo>
                <a:cubicBezTo>
                  <a:pt x="13616" y="11452"/>
                  <a:pt x="13661" y="11435"/>
                  <a:pt x="13692" y="11410"/>
                </a:cubicBezTo>
                <a:cubicBezTo>
                  <a:pt x="13731" y="11449"/>
                  <a:pt x="13753" y="11480"/>
                  <a:pt x="13767" y="11534"/>
                </a:cubicBezTo>
                <a:cubicBezTo>
                  <a:pt x="13775" y="11564"/>
                  <a:pt x="13767" y="11602"/>
                  <a:pt x="13767" y="11633"/>
                </a:cubicBezTo>
              </a:path>
              <a:path w="3696" h="944">
                <a:moveTo>
                  <a:pt x="14387" y="11757"/>
                </a:moveTo>
                <a:cubicBezTo>
                  <a:pt x="14396" y="11722"/>
                  <a:pt x="14404" y="11657"/>
                  <a:pt x="14436" y="11633"/>
                </a:cubicBezTo>
                <a:cubicBezTo>
                  <a:pt x="14494" y="11589"/>
                  <a:pt x="14544" y="11603"/>
                  <a:pt x="14585" y="11658"/>
                </a:cubicBezTo>
                <a:cubicBezTo>
                  <a:pt x="14637" y="11728"/>
                  <a:pt x="14644" y="11781"/>
                  <a:pt x="14610" y="11857"/>
                </a:cubicBezTo>
                <a:cubicBezTo>
                  <a:pt x="14572" y="11942"/>
                  <a:pt x="14518" y="11931"/>
                  <a:pt x="14436" y="11931"/>
                </a:cubicBezTo>
              </a:path>
              <a:path w="3696" h="944">
                <a:moveTo>
                  <a:pt x="14635" y="11683"/>
                </a:moveTo>
                <a:cubicBezTo>
                  <a:pt x="14691" y="11645"/>
                  <a:pt x="14694" y="11628"/>
                  <a:pt x="14734" y="11633"/>
                </a:cubicBezTo>
                <a:cubicBezTo>
                  <a:pt x="14684" y="11683"/>
                  <a:pt x="14643" y="11710"/>
                  <a:pt x="14635" y="11782"/>
                </a:cubicBezTo>
                <a:cubicBezTo>
                  <a:pt x="14626" y="11865"/>
                  <a:pt x="14643" y="11931"/>
                  <a:pt x="14734" y="11956"/>
                </a:cubicBezTo>
                <a:cubicBezTo>
                  <a:pt x="14800" y="11974"/>
                  <a:pt x="14812" y="11945"/>
                  <a:pt x="14858" y="11906"/>
                </a:cubicBezTo>
              </a:path>
              <a:path w="3696" h="944">
                <a:moveTo>
                  <a:pt x="15056" y="11286"/>
                </a:moveTo>
                <a:cubicBezTo>
                  <a:pt x="14976" y="11286"/>
                  <a:pt x="14907" y="11271"/>
                  <a:pt x="14833" y="11261"/>
                </a:cubicBezTo>
                <a:cubicBezTo>
                  <a:pt x="14742" y="11249"/>
                  <a:pt x="14648" y="11250"/>
                  <a:pt x="14560" y="11237"/>
                </a:cubicBezTo>
                <a:cubicBezTo>
                  <a:pt x="14477" y="11224"/>
                  <a:pt x="14309" y="11224"/>
                  <a:pt x="14263" y="11261"/>
                </a:cubicBezTo>
                <a:cubicBezTo>
                  <a:pt x="14221" y="11295"/>
                  <a:pt x="14229" y="11340"/>
                  <a:pt x="14213" y="11385"/>
                </a:cubicBezTo>
                <a:cubicBezTo>
                  <a:pt x="14189" y="11454"/>
                  <a:pt x="14166" y="11514"/>
                  <a:pt x="14139" y="11584"/>
                </a:cubicBezTo>
                <a:cubicBezTo>
                  <a:pt x="14106" y="11670"/>
                  <a:pt x="14098" y="11751"/>
                  <a:pt x="14064" y="11832"/>
                </a:cubicBezTo>
                <a:cubicBezTo>
                  <a:pt x="14045" y="11876"/>
                  <a:pt x="14033" y="11918"/>
                  <a:pt x="14015" y="11956"/>
                </a:cubicBezTo>
                <a:cubicBezTo>
                  <a:pt x="13990" y="12010"/>
                  <a:pt x="13996" y="12006"/>
                  <a:pt x="13990" y="12055"/>
                </a:cubicBezTo>
                <a:cubicBezTo>
                  <a:pt x="13970" y="12035"/>
                  <a:pt x="13960" y="12018"/>
                  <a:pt x="13940" y="11981"/>
                </a:cubicBezTo>
                <a:cubicBezTo>
                  <a:pt x="13920" y="11944"/>
                  <a:pt x="13898" y="11877"/>
                  <a:pt x="13891" y="11832"/>
                </a:cubicBezTo>
                <a:cubicBezTo>
                  <a:pt x="13883" y="11783"/>
                  <a:pt x="13882" y="11807"/>
                  <a:pt x="13866" y="117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92840" y="4089240"/>
            <a:ext cx="100080" cy="162000"/>
          </a:xfrm>
          <a:custGeom>
            <a:avLst/>
            <a:gdLst/>
            <a:ahLst/>
            <a:rect l="l" t="t" r="r" b="b"/>
            <a:pathLst>
              <a:path w="274" h="447">
                <a:moveTo>
                  <a:pt x="16619" y="11509"/>
                </a:moveTo>
                <a:cubicBezTo>
                  <a:pt x="16575" y="11477"/>
                  <a:pt x="16552" y="11465"/>
                  <a:pt x="16495" y="11460"/>
                </a:cubicBezTo>
                <a:cubicBezTo>
                  <a:pt x="16447" y="11456"/>
                  <a:pt x="16440" y="11456"/>
                  <a:pt x="16421" y="11485"/>
                </a:cubicBezTo>
              </a:path>
              <a:path w="274" h="447">
                <a:moveTo>
                  <a:pt x="16619" y="11633"/>
                </a:moveTo>
                <a:cubicBezTo>
                  <a:pt x="16669" y="11683"/>
                  <a:pt x="16587" y="11658"/>
                  <a:pt x="16545" y="11658"/>
                </a:cubicBezTo>
              </a:path>
              <a:path w="274" h="447">
                <a:moveTo>
                  <a:pt x="16421" y="11410"/>
                </a:moveTo>
                <a:cubicBezTo>
                  <a:pt x="16474" y="11423"/>
                  <a:pt x="16503" y="11478"/>
                  <a:pt x="16520" y="11534"/>
                </a:cubicBezTo>
                <a:cubicBezTo>
                  <a:pt x="16522" y="11541"/>
                  <a:pt x="16520" y="11627"/>
                  <a:pt x="16520" y="11559"/>
                </a:cubicBezTo>
                <a:cubicBezTo>
                  <a:pt x="16499" y="11503"/>
                  <a:pt x="16476" y="11444"/>
                  <a:pt x="16470" y="11385"/>
                </a:cubicBezTo>
                <a:cubicBezTo>
                  <a:pt x="16470" y="11377"/>
                  <a:pt x="16470" y="11369"/>
                  <a:pt x="16470" y="11361"/>
                </a:cubicBezTo>
                <a:cubicBezTo>
                  <a:pt x="16526" y="11430"/>
                  <a:pt x="16558" y="11504"/>
                  <a:pt x="16594" y="11584"/>
                </a:cubicBezTo>
                <a:cubicBezTo>
                  <a:pt x="16614" y="11628"/>
                  <a:pt x="16635" y="11662"/>
                  <a:pt x="16644" y="11708"/>
                </a:cubicBezTo>
                <a:cubicBezTo>
                  <a:pt x="16594" y="11646"/>
                  <a:pt x="16540" y="11575"/>
                  <a:pt x="16495" y="11509"/>
                </a:cubicBezTo>
                <a:cubicBezTo>
                  <a:pt x="16470" y="11460"/>
                  <a:pt x="16462" y="11443"/>
                  <a:pt x="16446" y="11410"/>
                </a:cubicBezTo>
                <a:cubicBezTo>
                  <a:pt x="16456" y="11497"/>
                  <a:pt x="16499" y="11571"/>
                  <a:pt x="16520" y="11658"/>
                </a:cubicBezTo>
                <a:cubicBezTo>
                  <a:pt x="16537" y="11729"/>
                  <a:pt x="16498" y="11696"/>
                  <a:pt x="16470" y="11658"/>
                </a:cubicBezTo>
                <a:cubicBezTo>
                  <a:pt x="16430" y="11603"/>
                  <a:pt x="16402" y="11545"/>
                  <a:pt x="16371" y="11485"/>
                </a:cubicBezTo>
                <a:cubicBezTo>
                  <a:pt x="16427" y="11553"/>
                  <a:pt x="16453" y="11633"/>
                  <a:pt x="16495" y="11708"/>
                </a:cubicBezTo>
                <a:cubicBezTo>
                  <a:pt x="16533" y="11764"/>
                  <a:pt x="16550" y="11767"/>
                  <a:pt x="16545" y="118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05680" y="3946680"/>
            <a:ext cx="573120" cy="331560"/>
          </a:xfrm>
          <a:custGeom>
            <a:avLst/>
            <a:gdLst/>
            <a:ahLst/>
            <a:rect l="l" t="t" r="r" b="b"/>
            <a:pathLst>
              <a:path w="1589" h="918">
                <a:moveTo>
                  <a:pt x="17239" y="11485"/>
                </a:moveTo>
                <a:cubicBezTo>
                  <a:pt x="17282" y="11452"/>
                  <a:pt x="17292" y="11476"/>
                  <a:pt x="17338" y="11460"/>
                </a:cubicBezTo>
                <a:cubicBezTo>
                  <a:pt x="17405" y="11436"/>
                  <a:pt x="17446" y="11444"/>
                  <a:pt x="17487" y="11509"/>
                </a:cubicBezTo>
                <a:cubicBezTo>
                  <a:pt x="17534" y="11584"/>
                  <a:pt x="17516" y="11679"/>
                  <a:pt x="17487" y="11757"/>
                </a:cubicBezTo>
                <a:cubicBezTo>
                  <a:pt x="17465" y="11817"/>
                  <a:pt x="17377" y="11867"/>
                  <a:pt x="17314" y="11881"/>
                </a:cubicBezTo>
                <a:cubicBezTo>
                  <a:pt x="17269" y="11881"/>
                  <a:pt x="17256" y="11885"/>
                  <a:pt x="17239" y="11857"/>
                </a:cubicBezTo>
              </a:path>
              <a:path w="1589" h="918">
                <a:moveTo>
                  <a:pt x="17562" y="11509"/>
                </a:moveTo>
                <a:cubicBezTo>
                  <a:pt x="17577" y="11501"/>
                  <a:pt x="17743" y="11435"/>
                  <a:pt x="17686" y="11435"/>
                </a:cubicBezTo>
                <a:cubicBezTo>
                  <a:pt x="17612" y="11500"/>
                  <a:pt x="17557" y="11528"/>
                  <a:pt x="17537" y="11633"/>
                </a:cubicBezTo>
                <a:cubicBezTo>
                  <a:pt x="17525" y="11694"/>
                  <a:pt x="17600" y="11793"/>
                  <a:pt x="17661" y="11782"/>
                </a:cubicBezTo>
                <a:cubicBezTo>
                  <a:pt x="17707" y="11774"/>
                  <a:pt x="17768" y="11729"/>
                  <a:pt x="17810" y="11708"/>
                </a:cubicBezTo>
              </a:path>
              <a:path w="1589" h="918">
                <a:moveTo>
                  <a:pt x="18033" y="11311"/>
                </a:moveTo>
                <a:cubicBezTo>
                  <a:pt x="18008" y="11311"/>
                  <a:pt x="18000" y="11311"/>
                  <a:pt x="17983" y="11311"/>
                </a:cubicBezTo>
                <a:cubicBezTo>
                  <a:pt x="18049" y="11311"/>
                  <a:pt x="18116" y="11311"/>
                  <a:pt x="18182" y="11311"/>
                </a:cubicBezTo>
              </a:path>
              <a:path w="1589" h="918">
                <a:moveTo>
                  <a:pt x="18529" y="10988"/>
                </a:moveTo>
                <a:cubicBezTo>
                  <a:pt x="18529" y="10980"/>
                  <a:pt x="18529" y="10972"/>
                  <a:pt x="18529" y="10964"/>
                </a:cubicBezTo>
                <a:cubicBezTo>
                  <a:pt x="18529" y="11014"/>
                  <a:pt x="18540" y="11022"/>
                  <a:pt x="18554" y="11063"/>
                </a:cubicBezTo>
                <a:cubicBezTo>
                  <a:pt x="18554" y="11071"/>
                  <a:pt x="18554" y="11080"/>
                  <a:pt x="18554" y="11088"/>
                </a:cubicBezTo>
              </a:path>
              <a:path w="1589" h="918">
                <a:moveTo>
                  <a:pt x="18628" y="11237"/>
                </a:moveTo>
                <a:lnTo>
                  <a:pt x="18628" y="11237"/>
                </a:lnTo>
                <a:lnTo>
                  <a:pt x="18628" y="11237"/>
                </a:lnTo>
                <a:lnTo>
                  <a:pt x="18628" y="11237"/>
                </a:lnTo>
              </a:path>
              <a:path w="1589" h="918">
                <a:moveTo>
                  <a:pt x="18802" y="11212"/>
                </a:moveTo>
                <a:cubicBezTo>
                  <a:pt x="18810" y="11212"/>
                  <a:pt x="18819" y="11212"/>
                  <a:pt x="18827" y="11212"/>
                </a:cubicBezTo>
                <a:cubicBezTo>
                  <a:pt x="18789" y="11199"/>
                  <a:pt x="18806" y="11187"/>
                  <a:pt x="18752" y="11187"/>
                </a:cubicBezTo>
                <a:cubicBezTo>
                  <a:pt x="18612" y="11187"/>
                  <a:pt x="18471" y="11187"/>
                  <a:pt x="18331" y="11187"/>
                </a:cubicBezTo>
              </a:path>
              <a:path w="1589" h="918">
                <a:moveTo>
                  <a:pt x="18529" y="11336"/>
                </a:moveTo>
                <a:cubicBezTo>
                  <a:pt x="18529" y="11376"/>
                  <a:pt x="18508" y="11414"/>
                  <a:pt x="18529" y="11385"/>
                </a:cubicBezTo>
                <a:cubicBezTo>
                  <a:pt x="18551" y="11355"/>
                  <a:pt x="18580" y="11314"/>
                  <a:pt x="18604" y="11311"/>
                </a:cubicBezTo>
                <a:cubicBezTo>
                  <a:pt x="18669" y="11303"/>
                  <a:pt x="18658" y="11336"/>
                  <a:pt x="18678" y="11385"/>
                </a:cubicBezTo>
                <a:cubicBezTo>
                  <a:pt x="18698" y="11435"/>
                  <a:pt x="18703" y="11436"/>
                  <a:pt x="18703" y="114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46920" y="3840120"/>
            <a:ext cx="857160" cy="1000080"/>
          </a:xfrm>
          <a:custGeom>
            <a:avLst/>
            <a:gdLst/>
            <a:ahLst/>
            <a:rect l="l" t="t" r="r" b="b"/>
            <a:pathLst>
              <a:path w="2382" h="2779">
                <a:moveTo>
                  <a:pt x="19621" y="11485"/>
                </a:moveTo>
                <a:cubicBezTo>
                  <a:pt x="19637" y="11485"/>
                  <a:pt x="19654" y="11485"/>
                  <a:pt x="19670" y="11485"/>
                </a:cubicBezTo>
                <a:cubicBezTo>
                  <a:pt x="19619" y="11485"/>
                  <a:pt x="19587" y="11497"/>
                  <a:pt x="19546" y="11509"/>
                </a:cubicBezTo>
                <a:cubicBezTo>
                  <a:pt x="19510" y="11519"/>
                  <a:pt x="19460" y="11509"/>
                  <a:pt x="19422" y="11509"/>
                </a:cubicBezTo>
              </a:path>
              <a:path w="2382" h="2779">
                <a:moveTo>
                  <a:pt x="19695" y="11658"/>
                </a:moveTo>
                <a:cubicBezTo>
                  <a:pt x="19774" y="11692"/>
                  <a:pt x="19783" y="11683"/>
                  <a:pt x="19695" y="11683"/>
                </a:cubicBezTo>
                <a:cubicBezTo>
                  <a:pt x="19662" y="11683"/>
                  <a:pt x="19629" y="11683"/>
                  <a:pt x="19596" y="11683"/>
                </a:cubicBezTo>
              </a:path>
              <a:path w="2382" h="2779">
                <a:moveTo>
                  <a:pt x="20985" y="10666"/>
                </a:moveTo>
                <a:cubicBezTo>
                  <a:pt x="20985" y="10778"/>
                  <a:pt x="20977" y="10883"/>
                  <a:pt x="20960" y="10988"/>
                </a:cubicBezTo>
                <a:cubicBezTo>
                  <a:pt x="20960" y="11030"/>
                  <a:pt x="20960" y="11038"/>
                  <a:pt x="20960" y="11063"/>
                </a:cubicBezTo>
              </a:path>
              <a:path w="2382" h="2779">
                <a:moveTo>
                  <a:pt x="21679" y="11237"/>
                </a:moveTo>
                <a:cubicBezTo>
                  <a:pt x="21340" y="11237"/>
                  <a:pt x="20994" y="11219"/>
                  <a:pt x="20662" y="11261"/>
                </a:cubicBezTo>
                <a:cubicBezTo>
                  <a:pt x="20598" y="11269"/>
                  <a:pt x="20563" y="11248"/>
                  <a:pt x="20513" y="11286"/>
                </a:cubicBezTo>
              </a:path>
              <a:path w="2382" h="2779">
                <a:moveTo>
                  <a:pt x="20538" y="11757"/>
                </a:moveTo>
                <a:cubicBezTo>
                  <a:pt x="20513" y="11757"/>
                  <a:pt x="20505" y="11757"/>
                  <a:pt x="20489" y="11757"/>
                </a:cubicBezTo>
                <a:cubicBezTo>
                  <a:pt x="20504" y="11698"/>
                  <a:pt x="20527" y="11688"/>
                  <a:pt x="20588" y="11683"/>
                </a:cubicBezTo>
                <a:cubicBezTo>
                  <a:pt x="20662" y="11677"/>
                  <a:pt x="20715" y="11695"/>
                  <a:pt x="20762" y="11757"/>
                </a:cubicBezTo>
                <a:cubicBezTo>
                  <a:pt x="20792" y="11797"/>
                  <a:pt x="20805" y="11891"/>
                  <a:pt x="20762" y="11931"/>
                </a:cubicBezTo>
                <a:cubicBezTo>
                  <a:pt x="20705" y="11984"/>
                  <a:pt x="20622" y="11953"/>
                  <a:pt x="20563" y="11931"/>
                </a:cubicBezTo>
              </a:path>
              <a:path w="2382" h="2779">
                <a:moveTo>
                  <a:pt x="20861" y="11683"/>
                </a:moveTo>
                <a:cubicBezTo>
                  <a:pt x="20877" y="11683"/>
                  <a:pt x="20894" y="11683"/>
                  <a:pt x="20910" y="11683"/>
                </a:cubicBezTo>
                <a:cubicBezTo>
                  <a:pt x="20861" y="11683"/>
                  <a:pt x="20830" y="11678"/>
                  <a:pt x="20786" y="11708"/>
                </a:cubicBezTo>
                <a:cubicBezTo>
                  <a:pt x="20744" y="11737"/>
                  <a:pt x="20752" y="11823"/>
                  <a:pt x="20786" y="11857"/>
                </a:cubicBezTo>
                <a:cubicBezTo>
                  <a:pt x="20831" y="11901"/>
                  <a:pt x="20903" y="11906"/>
                  <a:pt x="20960" y="11906"/>
                </a:cubicBezTo>
              </a:path>
              <a:path w="2382" h="2779">
                <a:moveTo>
                  <a:pt x="21431" y="11336"/>
                </a:moveTo>
                <a:cubicBezTo>
                  <a:pt x="21431" y="11377"/>
                  <a:pt x="21431" y="11419"/>
                  <a:pt x="21431" y="11460"/>
                </a:cubicBezTo>
              </a:path>
              <a:path w="2382" h="2779">
                <a:moveTo>
                  <a:pt x="21580" y="11534"/>
                </a:moveTo>
                <a:cubicBezTo>
                  <a:pt x="21580" y="11542"/>
                  <a:pt x="21580" y="11551"/>
                  <a:pt x="21580" y="11559"/>
                </a:cubicBezTo>
                <a:cubicBezTo>
                  <a:pt x="21497" y="11559"/>
                  <a:pt x="21415" y="11559"/>
                  <a:pt x="21332" y="11559"/>
                </a:cubicBezTo>
              </a:path>
              <a:path w="2382" h="2779">
                <a:moveTo>
                  <a:pt x="21332" y="11633"/>
                </a:moveTo>
                <a:cubicBezTo>
                  <a:pt x="21332" y="11658"/>
                  <a:pt x="21332" y="11683"/>
                  <a:pt x="21332" y="11708"/>
                </a:cubicBezTo>
                <a:cubicBezTo>
                  <a:pt x="21354" y="11679"/>
                  <a:pt x="21367" y="11626"/>
                  <a:pt x="21406" y="11609"/>
                </a:cubicBezTo>
                <a:cubicBezTo>
                  <a:pt x="21439" y="11609"/>
                  <a:pt x="21456" y="11609"/>
                  <a:pt x="21481" y="11609"/>
                </a:cubicBezTo>
                <a:cubicBezTo>
                  <a:pt x="21489" y="11664"/>
                  <a:pt x="21498" y="11678"/>
                  <a:pt x="21506" y="11733"/>
                </a:cubicBezTo>
              </a:path>
              <a:path w="2382" h="2779">
                <a:moveTo>
                  <a:pt x="19521" y="12477"/>
                </a:moveTo>
                <a:cubicBezTo>
                  <a:pt x="19529" y="12477"/>
                  <a:pt x="19538" y="12477"/>
                  <a:pt x="19546" y="12477"/>
                </a:cubicBezTo>
                <a:cubicBezTo>
                  <a:pt x="19463" y="12477"/>
                  <a:pt x="19381" y="12477"/>
                  <a:pt x="19298" y="12477"/>
                </a:cubicBezTo>
              </a:path>
              <a:path w="2382" h="2779">
                <a:moveTo>
                  <a:pt x="19596" y="12626"/>
                </a:moveTo>
                <a:cubicBezTo>
                  <a:pt x="19604" y="12626"/>
                  <a:pt x="19613" y="12626"/>
                  <a:pt x="19621" y="12626"/>
                </a:cubicBezTo>
                <a:cubicBezTo>
                  <a:pt x="19563" y="12626"/>
                  <a:pt x="19505" y="12626"/>
                  <a:pt x="19447" y="12626"/>
                </a:cubicBezTo>
              </a:path>
              <a:path w="2382" h="2779">
                <a:moveTo>
                  <a:pt x="20712" y="12179"/>
                </a:moveTo>
                <a:cubicBezTo>
                  <a:pt x="20720" y="12179"/>
                  <a:pt x="20729" y="12179"/>
                  <a:pt x="20737" y="12179"/>
                </a:cubicBezTo>
                <a:cubicBezTo>
                  <a:pt x="20737" y="12275"/>
                  <a:pt x="20715" y="12399"/>
                  <a:pt x="20762" y="12477"/>
                </a:cubicBezTo>
              </a:path>
              <a:path w="2382" h="2779">
                <a:moveTo>
                  <a:pt x="21506" y="12576"/>
                </a:moveTo>
                <a:cubicBezTo>
                  <a:pt x="21493" y="12536"/>
                  <a:pt x="21457" y="12551"/>
                  <a:pt x="21406" y="12551"/>
                </a:cubicBezTo>
                <a:cubicBezTo>
                  <a:pt x="21034" y="12551"/>
                  <a:pt x="20655" y="12535"/>
                  <a:pt x="20290" y="12576"/>
                </a:cubicBezTo>
                <a:cubicBezTo>
                  <a:pt x="20212" y="12585"/>
                  <a:pt x="20158" y="12606"/>
                  <a:pt x="20092" y="12626"/>
                </a:cubicBezTo>
                <a:cubicBezTo>
                  <a:pt x="20084" y="12626"/>
                  <a:pt x="20075" y="12626"/>
                  <a:pt x="20067" y="12626"/>
                </a:cubicBezTo>
              </a:path>
              <a:path w="2382" h="2779">
                <a:moveTo>
                  <a:pt x="21382" y="12725"/>
                </a:moveTo>
                <a:cubicBezTo>
                  <a:pt x="21330" y="12718"/>
                  <a:pt x="21346" y="12708"/>
                  <a:pt x="21307" y="12700"/>
                </a:cubicBezTo>
                <a:cubicBezTo>
                  <a:pt x="21257" y="12690"/>
                  <a:pt x="21210" y="12678"/>
                  <a:pt x="21158" y="12675"/>
                </a:cubicBezTo>
                <a:cubicBezTo>
                  <a:pt x="20961" y="12664"/>
                  <a:pt x="20760" y="12675"/>
                  <a:pt x="20563" y="12675"/>
                </a:cubicBezTo>
                <a:cubicBezTo>
                  <a:pt x="20557" y="12716"/>
                  <a:pt x="20551" y="12737"/>
                  <a:pt x="20538" y="12774"/>
                </a:cubicBezTo>
                <a:cubicBezTo>
                  <a:pt x="20515" y="12841"/>
                  <a:pt x="20475" y="12926"/>
                  <a:pt x="20464" y="12998"/>
                </a:cubicBezTo>
                <a:cubicBezTo>
                  <a:pt x="20449" y="13101"/>
                  <a:pt x="20408" y="13193"/>
                  <a:pt x="20389" y="13295"/>
                </a:cubicBezTo>
                <a:cubicBezTo>
                  <a:pt x="20378" y="13356"/>
                  <a:pt x="20373" y="13395"/>
                  <a:pt x="20340" y="13444"/>
                </a:cubicBezTo>
                <a:cubicBezTo>
                  <a:pt x="20319" y="13381"/>
                  <a:pt x="20285" y="13311"/>
                  <a:pt x="20265" y="13246"/>
                </a:cubicBezTo>
                <a:cubicBezTo>
                  <a:pt x="20235" y="13148"/>
                  <a:pt x="20176" y="13109"/>
                  <a:pt x="20141" y="13022"/>
                </a:cubicBezTo>
                <a:cubicBezTo>
                  <a:pt x="20141" y="13014"/>
                  <a:pt x="20141" y="13006"/>
                  <a:pt x="20141" y="12998"/>
                </a:cubicBezTo>
              </a:path>
              <a:path w="2382" h="2779">
                <a:moveTo>
                  <a:pt x="20092" y="12725"/>
                </a:moveTo>
                <a:cubicBezTo>
                  <a:pt x="20092" y="12762"/>
                  <a:pt x="20092" y="12916"/>
                  <a:pt x="20092" y="12874"/>
                </a:cubicBezTo>
                <a:cubicBezTo>
                  <a:pt x="20092" y="12826"/>
                  <a:pt x="20149" y="12788"/>
                  <a:pt x="20191" y="12774"/>
                </a:cubicBezTo>
                <a:cubicBezTo>
                  <a:pt x="20245" y="12756"/>
                  <a:pt x="20275" y="12804"/>
                  <a:pt x="20290" y="12849"/>
                </a:cubicBezTo>
                <a:cubicBezTo>
                  <a:pt x="20290" y="12884"/>
                  <a:pt x="20295" y="12901"/>
                  <a:pt x="20315" y="12923"/>
                </a:cubicBezTo>
              </a:path>
              <a:path w="2382" h="2779">
                <a:moveTo>
                  <a:pt x="20861" y="13097"/>
                </a:moveTo>
                <a:cubicBezTo>
                  <a:pt x="20830" y="13097"/>
                  <a:pt x="20794" y="13089"/>
                  <a:pt x="20786" y="13072"/>
                </a:cubicBezTo>
                <a:cubicBezTo>
                  <a:pt x="20786" y="13064"/>
                  <a:pt x="20786" y="13055"/>
                  <a:pt x="20786" y="13047"/>
                </a:cubicBezTo>
                <a:cubicBezTo>
                  <a:pt x="20842" y="13047"/>
                  <a:pt x="20891" y="13037"/>
                  <a:pt x="20935" y="13072"/>
                </a:cubicBezTo>
                <a:cubicBezTo>
                  <a:pt x="20992" y="13118"/>
                  <a:pt x="21000" y="13156"/>
                  <a:pt x="20960" y="13221"/>
                </a:cubicBezTo>
                <a:cubicBezTo>
                  <a:pt x="20924" y="13280"/>
                  <a:pt x="20808" y="13239"/>
                  <a:pt x="20762" y="13221"/>
                </a:cubicBezTo>
                <a:cubicBezTo>
                  <a:pt x="20715" y="13203"/>
                  <a:pt x="20676" y="13177"/>
                  <a:pt x="20638" y="13146"/>
                </a:cubicBezTo>
              </a:path>
              <a:path w="2382" h="2779">
                <a:moveTo>
                  <a:pt x="20786" y="13072"/>
                </a:moveTo>
                <a:cubicBezTo>
                  <a:pt x="20884" y="13056"/>
                  <a:pt x="20966" y="13066"/>
                  <a:pt x="21034" y="12998"/>
                </a:cubicBezTo>
                <a:cubicBezTo>
                  <a:pt x="20978" y="12998"/>
                  <a:pt x="20964" y="13011"/>
                  <a:pt x="20960" y="13072"/>
                </a:cubicBezTo>
                <a:cubicBezTo>
                  <a:pt x="20954" y="13158"/>
                  <a:pt x="21055" y="13231"/>
                  <a:pt x="21134" y="13246"/>
                </a:cubicBezTo>
                <a:cubicBezTo>
                  <a:pt x="21211" y="13261"/>
                  <a:pt x="21287" y="13220"/>
                  <a:pt x="21357" y="131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19120" y="3840120"/>
            <a:ext cx="152640" cy="61920"/>
          </a:xfrm>
          <a:custGeom>
            <a:avLst/>
            <a:gdLst/>
            <a:ahLst/>
            <a:rect l="l" t="t" r="r" b="b"/>
            <a:pathLst>
              <a:path w="423" h="175">
                <a:moveTo>
                  <a:pt x="4167" y="10716"/>
                </a:moveTo>
                <a:cubicBezTo>
                  <a:pt x="4219" y="10694"/>
                  <a:pt x="4230" y="10702"/>
                  <a:pt x="4242" y="10666"/>
                </a:cubicBezTo>
                <a:cubicBezTo>
                  <a:pt x="4144" y="10666"/>
                  <a:pt x="4054" y="10665"/>
                  <a:pt x="3969" y="10691"/>
                </a:cubicBezTo>
                <a:cubicBezTo>
                  <a:pt x="3961" y="10691"/>
                  <a:pt x="3952" y="10691"/>
                  <a:pt x="3944" y="10691"/>
                </a:cubicBezTo>
              </a:path>
              <a:path w="423" h="175">
                <a:moveTo>
                  <a:pt x="4316" y="10840"/>
                </a:moveTo>
                <a:cubicBezTo>
                  <a:pt x="4341" y="10840"/>
                  <a:pt x="4349" y="10840"/>
                  <a:pt x="4366" y="10840"/>
                </a:cubicBezTo>
                <a:cubicBezTo>
                  <a:pt x="4275" y="10840"/>
                  <a:pt x="4184" y="10840"/>
                  <a:pt x="4093" y="108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38240" y="3589200"/>
            <a:ext cx="258840" cy="492120"/>
          </a:xfrm>
          <a:custGeom>
            <a:avLst/>
            <a:gdLst/>
            <a:ahLst/>
            <a:rect l="l" t="t" r="r" b="b"/>
            <a:pathLst>
              <a:path w="720" h="1366">
                <a:moveTo>
                  <a:pt x="5655" y="10096"/>
                </a:moveTo>
                <a:cubicBezTo>
                  <a:pt x="5655" y="10038"/>
                  <a:pt x="5647" y="10015"/>
                  <a:pt x="5680" y="9971"/>
                </a:cubicBezTo>
                <a:cubicBezTo>
                  <a:pt x="5720" y="10038"/>
                  <a:pt x="5690" y="10092"/>
                  <a:pt x="5705" y="10170"/>
                </a:cubicBezTo>
                <a:cubicBezTo>
                  <a:pt x="5721" y="10251"/>
                  <a:pt x="5730" y="10309"/>
                  <a:pt x="5730" y="10393"/>
                </a:cubicBezTo>
              </a:path>
              <a:path w="720" h="1366">
                <a:moveTo>
                  <a:pt x="6102" y="10567"/>
                </a:moveTo>
                <a:cubicBezTo>
                  <a:pt x="6074" y="10610"/>
                  <a:pt x="5969" y="10592"/>
                  <a:pt x="5904" y="10592"/>
                </a:cubicBezTo>
                <a:cubicBezTo>
                  <a:pt x="5769" y="10592"/>
                  <a:pt x="5553" y="10552"/>
                  <a:pt x="5432" y="10616"/>
                </a:cubicBezTo>
                <a:cubicBezTo>
                  <a:pt x="5424" y="10624"/>
                  <a:pt x="5415" y="10633"/>
                  <a:pt x="5407" y="10641"/>
                </a:cubicBezTo>
              </a:path>
              <a:path w="720" h="1366">
                <a:moveTo>
                  <a:pt x="5383" y="10988"/>
                </a:moveTo>
                <a:cubicBezTo>
                  <a:pt x="5438" y="10945"/>
                  <a:pt x="5463" y="10939"/>
                  <a:pt x="5531" y="10939"/>
                </a:cubicBezTo>
                <a:cubicBezTo>
                  <a:pt x="5591" y="10939"/>
                  <a:pt x="5588" y="10932"/>
                  <a:pt x="5631" y="10964"/>
                </a:cubicBezTo>
                <a:cubicBezTo>
                  <a:pt x="5614" y="11029"/>
                  <a:pt x="5560" y="11026"/>
                  <a:pt x="5507" y="11063"/>
                </a:cubicBezTo>
                <a:cubicBezTo>
                  <a:pt x="5482" y="11088"/>
                  <a:pt x="5474" y="11096"/>
                  <a:pt x="5457" y="11112"/>
                </a:cubicBezTo>
                <a:cubicBezTo>
                  <a:pt x="5519" y="11162"/>
                  <a:pt x="5587" y="11173"/>
                  <a:pt x="5655" y="11212"/>
                </a:cubicBezTo>
                <a:cubicBezTo>
                  <a:pt x="5689" y="11231"/>
                  <a:pt x="5696" y="11234"/>
                  <a:pt x="5705" y="11261"/>
                </a:cubicBezTo>
                <a:cubicBezTo>
                  <a:pt x="5672" y="11327"/>
                  <a:pt x="5608" y="11332"/>
                  <a:pt x="5531" y="11336"/>
                </a:cubicBezTo>
                <a:cubicBezTo>
                  <a:pt x="5490" y="11336"/>
                  <a:pt x="5482" y="11336"/>
                  <a:pt x="5457" y="11336"/>
                </a:cubicBezTo>
              </a:path>
              <a:path w="720" h="1366">
                <a:moveTo>
                  <a:pt x="5854" y="10815"/>
                </a:moveTo>
                <a:cubicBezTo>
                  <a:pt x="5846" y="10807"/>
                  <a:pt x="5837" y="10798"/>
                  <a:pt x="5829" y="10790"/>
                </a:cubicBezTo>
                <a:cubicBezTo>
                  <a:pt x="5842" y="10751"/>
                  <a:pt x="5869" y="10763"/>
                  <a:pt x="5904" y="10740"/>
                </a:cubicBezTo>
                <a:cubicBezTo>
                  <a:pt x="5940" y="10716"/>
                  <a:pt x="5934" y="10716"/>
                  <a:pt x="5978" y="10716"/>
                </a:cubicBezTo>
                <a:cubicBezTo>
                  <a:pt x="5978" y="10776"/>
                  <a:pt x="5948" y="10782"/>
                  <a:pt x="5928" y="10840"/>
                </a:cubicBezTo>
                <a:cubicBezTo>
                  <a:pt x="5911" y="10892"/>
                  <a:pt x="5890" y="10921"/>
                  <a:pt x="5928" y="10964"/>
                </a:cubicBezTo>
                <a:cubicBezTo>
                  <a:pt x="5974" y="11015"/>
                  <a:pt x="6044" y="10971"/>
                  <a:pt x="6102" y="109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84280" y="3848040"/>
            <a:ext cx="88920" cy="63720"/>
          </a:xfrm>
          <a:custGeom>
            <a:avLst/>
            <a:gdLst/>
            <a:ahLst/>
            <a:rect l="l" t="t" r="r" b="b"/>
            <a:pathLst>
              <a:path w="249" h="174">
                <a:moveTo>
                  <a:pt x="6846" y="10716"/>
                </a:moveTo>
                <a:cubicBezTo>
                  <a:pt x="6854" y="10708"/>
                  <a:pt x="6863" y="10699"/>
                  <a:pt x="6871" y="10691"/>
                </a:cubicBezTo>
                <a:cubicBezTo>
                  <a:pt x="6790" y="10691"/>
                  <a:pt x="6723" y="10700"/>
                  <a:pt x="6648" y="10716"/>
                </a:cubicBezTo>
                <a:cubicBezTo>
                  <a:pt x="6640" y="10716"/>
                  <a:pt x="6631" y="10716"/>
                  <a:pt x="6623" y="10716"/>
                </a:cubicBezTo>
              </a:path>
              <a:path w="249" h="174">
                <a:moveTo>
                  <a:pt x="6821" y="10840"/>
                </a:moveTo>
                <a:cubicBezTo>
                  <a:pt x="6838" y="10840"/>
                  <a:pt x="6854" y="10840"/>
                  <a:pt x="6871" y="10840"/>
                </a:cubicBezTo>
                <a:cubicBezTo>
                  <a:pt x="6816" y="10851"/>
                  <a:pt x="6781" y="10864"/>
                  <a:pt x="6722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52840" y="3660840"/>
            <a:ext cx="196560" cy="384120"/>
          </a:xfrm>
          <a:custGeom>
            <a:avLst/>
            <a:gdLst/>
            <a:ahLst/>
            <a:rect l="l" t="t" r="r" b="b"/>
            <a:pathLst>
              <a:path w="547" h="1068">
                <a:moveTo>
                  <a:pt x="7466" y="10269"/>
                </a:moveTo>
                <a:cubicBezTo>
                  <a:pt x="7486" y="10209"/>
                  <a:pt x="7485" y="10194"/>
                  <a:pt x="7516" y="10170"/>
                </a:cubicBezTo>
                <a:cubicBezTo>
                  <a:pt x="7516" y="10289"/>
                  <a:pt x="7527" y="10405"/>
                  <a:pt x="7541" y="10517"/>
                </a:cubicBezTo>
                <a:cubicBezTo>
                  <a:pt x="7541" y="10542"/>
                  <a:pt x="7541" y="10567"/>
                  <a:pt x="7541" y="10592"/>
                </a:cubicBezTo>
              </a:path>
              <a:path w="547" h="1068">
                <a:moveTo>
                  <a:pt x="7888" y="10616"/>
                </a:moveTo>
                <a:cubicBezTo>
                  <a:pt x="7896" y="10624"/>
                  <a:pt x="7905" y="10633"/>
                  <a:pt x="7913" y="10641"/>
                </a:cubicBezTo>
                <a:cubicBezTo>
                  <a:pt x="7895" y="10696"/>
                  <a:pt x="7851" y="10676"/>
                  <a:pt x="7789" y="10691"/>
                </a:cubicBezTo>
                <a:cubicBezTo>
                  <a:pt x="7693" y="10714"/>
                  <a:pt x="7586" y="10729"/>
                  <a:pt x="7491" y="10740"/>
                </a:cubicBezTo>
                <a:cubicBezTo>
                  <a:pt x="7420" y="10748"/>
                  <a:pt x="7421" y="10751"/>
                  <a:pt x="7367" y="10765"/>
                </a:cubicBezTo>
              </a:path>
              <a:path w="547" h="1068">
                <a:moveTo>
                  <a:pt x="7714" y="10988"/>
                </a:moveTo>
                <a:cubicBezTo>
                  <a:pt x="7777" y="10962"/>
                  <a:pt x="7789" y="10976"/>
                  <a:pt x="7789" y="10914"/>
                </a:cubicBezTo>
                <a:cubicBezTo>
                  <a:pt x="7743" y="10879"/>
                  <a:pt x="7676" y="10876"/>
                  <a:pt x="7615" y="10889"/>
                </a:cubicBezTo>
                <a:cubicBezTo>
                  <a:pt x="7508" y="10911"/>
                  <a:pt x="7495" y="10978"/>
                  <a:pt x="7516" y="11063"/>
                </a:cubicBezTo>
                <a:cubicBezTo>
                  <a:pt x="7612" y="11063"/>
                  <a:pt x="7609" y="11032"/>
                  <a:pt x="7665" y="10964"/>
                </a:cubicBezTo>
                <a:cubicBezTo>
                  <a:pt x="7698" y="10924"/>
                  <a:pt x="7728" y="10882"/>
                  <a:pt x="7764" y="10864"/>
                </a:cubicBezTo>
                <a:cubicBezTo>
                  <a:pt x="7810" y="10968"/>
                  <a:pt x="7825" y="11074"/>
                  <a:pt x="7838" y="11187"/>
                </a:cubicBezTo>
                <a:cubicBezTo>
                  <a:pt x="7838" y="11204"/>
                  <a:pt x="7838" y="11220"/>
                  <a:pt x="7838" y="112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62040" y="4964040"/>
            <a:ext cx="822240" cy="519120"/>
          </a:xfrm>
          <a:custGeom>
            <a:avLst/>
            <a:gdLst/>
            <a:ahLst/>
            <a:rect l="l" t="t" r="r" b="b"/>
            <a:pathLst>
              <a:path w="2283" h="1440">
                <a:moveTo>
                  <a:pt x="4589" y="14312"/>
                </a:moveTo>
                <a:cubicBezTo>
                  <a:pt x="4597" y="14312"/>
                  <a:pt x="4606" y="14312"/>
                  <a:pt x="4614" y="14312"/>
                </a:cubicBezTo>
                <a:cubicBezTo>
                  <a:pt x="4555" y="14312"/>
                  <a:pt x="4511" y="14327"/>
                  <a:pt x="4465" y="14337"/>
                </a:cubicBezTo>
                <a:cubicBezTo>
                  <a:pt x="4415" y="14348"/>
                  <a:pt x="4386" y="14351"/>
                  <a:pt x="4341" y="14362"/>
                </a:cubicBezTo>
              </a:path>
              <a:path w="2283" h="1440">
                <a:moveTo>
                  <a:pt x="4564" y="14436"/>
                </a:moveTo>
                <a:cubicBezTo>
                  <a:pt x="4589" y="14436"/>
                  <a:pt x="4597" y="14436"/>
                  <a:pt x="4614" y="14436"/>
                </a:cubicBezTo>
                <a:cubicBezTo>
                  <a:pt x="4573" y="14467"/>
                  <a:pt x="4517" y="14482"/>
                  <a:pt x="4465" y="14486"/>
                </a:cubicBezTo>
                <a:cubicBezTo>
                  <a:pt x="4440" y="14486"/>
                  <a:pt x="4432" y="14486"/>
                  <a:pt x="4415" y="14486"/>
                </a:cubicBezTo>
              </a:path>
              <a:path w="2283" h="1440">
                <a:moveTo>
                  <a:pt x="5730" y="13940"/>
                </a:moveTo>
                <a:cubicBezTo>
                  <a:pt x="5730" y="13915"/>
                  <a:pt x="5730" y="13907"/>
                  <a:pt x="5755" y="13915"/>
                </a:cubicBezTo>
                <a:cubicBezTo>
                  <a:pt x="5755" y="14031"/>
                  <a:pt x="5755" y="14147"/>
                  <a:pt x="5755" y="14263"/>
                </a:cubicBezTo>
              </a:path>
              <a:path w="2283" h="1440">
                <a:moveTo>
                  <a:pt x="5978" y="13915"/>
                </a:moveTo>
                <a:cubicBezTo>
                  <a:pt x="6003" y="13915"/>
                  <a:pt x="6011" y="13915"/>
                  <a:pt x="6003" y="13891"/>
                </a:cubicBezTo>
                <a:cubicBezTo>
                  <a:pt x="6003" y="13927"/>
                  <a:pt x="5996" y="13964"/>
                  <a:pt x="5978" y="13990"/>
                </a:cubicBezTo>
                <a:cubicBezTo>
                  <a:pt x="5956" y="14024"/>
                  <a:pt x="5936" y="14095"/>
                  <a:pt x="5928" y="14139"/>
                </a:cubicBezTo>
                <a:cubicBezTo>
                  <a:pt x="5920" y="14183"/>
                  <a:pt x="5960" y="14244"/>
                  <a:pt x="6003" y="14263"/>
                </a:cubicBezTo>
                <a:cubicBezTo>
                  <a:pt x="6030" y="14275"/>
                  <a:pt x="6088" y="14265"/>
                  <a:pt x="6102" y="14238"/>
                </a:cubicBezTo>
                <a:cubicBezTo>
                  <a:pt x="6119" y="14205"/>
                  <a:pt x="6115" y="14224"/>
                  <a:pt x="6127" y="14188"/>
                </a:cubicBezTo>
                <a:cubicBezTo>
                  <a:pt x="6114" y="14150"/>
                  <a:pt x="6097" y="14163"/>
                  <a:pt x="6052" y="14163"/>
                </a:cubicBezTo>
                <a:cubicBezTo>
                  <a:pt x="6009" y="14163"/>
                  <a:pt x="6013" y="14162"/>
                  <a:pt x="5978" y="14188"/>
                </a:cubicBezTo>
              </a:path>
              <a:path w="2283" h="1440">
                <a:moveTo>
                  <a:pt x="6251" y="14412"/>
                </a:moveTo>
                <a:cubicBezTo>
                  <a:pt x="6201" y="14424"/>
                  <a:pt x="6186" y="14436"/>
                  <a:pt x="6127" y="14436"/>
                </a:cubicBezTo>
                <a:cubicBezTo>
                  <a:pt x="6087" y="14436"/>
                  <a:pt x="5994" y="14449"/>
                  <a:pt x="5953" y="14461"/>
                </a:cubicBezTo>
                <a:cubicBezTo>
                  <a:pt x="5895" y="14477"/>
                  <a:pt x="5808" y="14465"/>
                  <a:pt x="5755" y="14486"/>
                </a:cubicBezTo>
                <a:cubicBezTo>
                  <a:pt x="5712" y="14503"/>
                  <a:pt x="5684" y="14511"/>
                  <a:pt x="5631" y="14511"/>
                </a:cubicBezTo>
                <a:cubicBezTo>
                  <a:pt x="5623" y="14511"/>
                  <a:pt x="5614" y="14511"/>
                  <a:pt x="5606" y="14511"/>
                </a:cubicBezTo>
              </a:path>
              <a:path w="2283" h="1440">
                <a:moveTo>
                  <a:pt x="6077" y="14684"/>
                </a:moveTo>
                <a:cubicBezTo>
                  <a:pt x="6106" y="14675"/>
                  <a:pt x="6124" y="14634"/>
                  <a:pt x="6077" y="14610"/>
                </a:cubicBezTo>
                <a:cubicBezTo>
                  <a:pt x="6037" y="14590"/>
                  <a:pt x="5936" y="14614"/>
                  <a:pt x="5904" y="14635"/>
                </a:cubicBezTo>
                <a:cubicBezTo>
                  <a:pt x="5878" y="14653"/>
                  <a:pt x="5857" y="14705"/>
                  <a:pt x="5854" y="14734"/>
                </a:cubicBezTo>
                <a:cubicBezTo>
                  <a:pt x="5848" y="14787"/>
                  <a:pt x="5890" y="14784"/>
                  <a:pt x="5928" y="14784"/>
                </a:cubicBezTo>
                <a:cubicBezTo>
                  <a:pt x="5994" y="14784"/>
                  <a:pt x="5987" y="14716"/>
                  <a:pt x="6028" y="14684"/>
                </a:cubicBezTo>
                <a:cubicBezTo>
                  <a:pt x="6061" y="14658"/>
                  <a:pt x="6052" y="14662"/>
                  <a:pt x="6052" y="14709"/>
                </a:cubicBezTo>
                <a:cubicBezTo>
                  <a:pt x="6052" y="14791"/>
                  <a:pt x="6073" y="14852"/>
                  <a:pt x="6077" y="14932"/>
                </a:cubicBezTo>
                <a:cubicBezTo>
                  <a:pt x="6079" y="14984"/>
                  <a:pt x="6091" y="14989"/>
                  <a:pt x="6102" y="15032"/>
                </a:cubicBezTo>
              </a:path>
              <a:path w="2283" h="1440">
                <a:moveTo>
                  <a:pt x="6424" y="13841"/>
                </a:moveTo>
                <a:cubicBezTo>
                  <a:pt x="6457" y="13852"/>
                  <a:pt x="6454" y="13881"/>
                  <a:pt x="6474" y="13891"/>
                </a:cubicBezTo>
                <a:cubicBezTo>
                  <a:pt x="6532" y="13920"/>
                  <a:pt x="6507" y="13939"/>
                  <a:pt x="6548" y="13990"/>
                </a:cubicBezTo>
                <a:cubicBezTo>
                  <a:pt x="6583" y="14034"/>
                  <a:pt x="6595" y="14080"/>
                  <a:pt x="6598" y="14139"/>
                </a:cubicBezTo>
                <a:cubicBezTo>
                  <a:pt x="6602" y="14211"/>
                  <a:pt x="6619" y="14268"/>
                  <a:pt x="6623" y="14337"/>
                </a:cubicBezTo>
                <a:cubicBezTo>
                  <a:pt x="6629" y="14443"/>
                  <a:pt x="6615" y="14537"/>
                  <a:pt x="6598" y="14635"/>
                </a:cubicBezTo>
                <a:cubicBezTo>
                  <a:pt x="6585" y="14711"/>
                  <a:pt x="6578" y="14785"/>
                  <a:pt x="6548" y="14858"/>
                </a:cubicBezTo>
                <a:cubicBezTo>
                  <a:pt x="6515" y="14938"/>
                  <a:pt x="6466" y="15009"/>
                  <a:pt x="6424" y="15081"/>
                </a:cubicBezTo>
                <a:cubicBezTo>
                  <a:pt x="6403" y="15125"/>
                  <a:pt x="6400" y="15137"/>
                  <a:pt x="6375" y="15156"/>
                </a:cubicBezTo>
              </a:path>
              <a:path w="2283" h="1440">
                <a:moveTo>
                  <a:pt x="5457" y="13791"/>
                </a:moveTo>
                <a:cubicBezTo>
                  <a:pt x="5436" y="13808"/>
                  <a:pt x="5405" y="13806"/>
                  <a:pt x="5383" y="13841"/>
                </a:cubicBezTo>
                <a:cubicBezTo>
                  <a:pt x="5359" y="13879"/>
                  <a:pt x="5340" y="13929"/>
                  <a:pt x="5308" y="13965"/>
                </a:cubicBezTo>
                <a:cubicBezTo>
                  <a:pt x="5274" y="14003"/>
                  <a:pt x="5283" y="14049"/>
                  <a:pt x="5259" y="14089"/>
                </a:cubicBezTo>
                <a:cubicBezTo>
                  <a:pt x="5236" y="14127"/>
                  <a:pt x="5216" y="14169"/>
                  <a:pt x="5209" y="14213"/>
                </a:cubicBezTo>
                <a:cubicBezTo>
                  <a:pt x="5201" y="14264"/>
                  <a:pt x="5198" y="14310"/>
                  <a:pt x="5184" y="14362"/>
                </a:cubicBezTo>
                <a:cubicBezTo>
                  <a:pt x="5170" y="14417"/>
                  <a:pt x="5161" y="14453"/>
                  <a:pt x="5159" y="14511"/>
                </a:cubicBezTo>
                <a:cubicBezTo>
                  <a:pt x="5156" y="14588"/>
                  <a:pt x="5173" y="14640"/>
                  <a:pt x="5184" y="14709"/>
                </a:cubicBezTo>
                <a:cubicBezTo>
                  <a:pt x="5194" y="14773"/>
                  <a:pt x="5206" y="14824"/>
                  <a:pt x="5234" y="14883"/>
                </a:cubicBezTo>
                <a:cubicBezTo>
                  <a:pt x="5271" y="14960"/>
                  <a:pt x="5318" y="14988"/>
                  <a:pt x="5358" y="15056"/>
                </a:cubicBezTo>
                <a:cubicBezTo>
                  <a:pt x="5386" y="15103"/>
                  <a:pt x="5418" y="15159"/>
                  <a:pt x="5432" y="15205"/>
                </a:cubicBezTo>
                <a:cubicBezTo>
                  <a:pt x="5432" y="15213"/>
                  <a:pt x="5432" y="15222"/>
                  <a:pt x="5432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7840" y="4776840"/>
            <a:ext cx="144360" cy="250920"/>
          </a:xfrm>
          <a:custGeom>
            <a:avLst/>
            <a:gdLst/>
            <a:ahLst/>
            <a:rect l="l" t="t" r="r" b="b"/>
            <a:pathLst>
              <a:path w="398" h="695">
                <a:moveTo>
                  <a:pt x="7045" y="13345"/>
                </a:moveTo>
                <a:cubicBezTo>
                  <a:pt x="7049" y="13321"/>
                  <a:pt x="7069" y="13245"/>
                  <a:pt x="7069" y="13295"/>
                </a:cubicBezTo>
                <a:cubicBezTo>
                  <a:pt x="7069" y="13358"/>
                  <a:pt x="7089" y="13386"/>
                  <a:pt x="7094" y="13444"/>
                </a:cubicBezTo>
                <a:cubicBezTo>
                  <a:pt x="7094" y="13469"/>
                  <a:pt x="7094" y="13477"/>
                  <a:pt x="7094" y="13494"/>
                </a:cubicBezTo>
              </a:path>
              <a:path w="398" h="695">
                <a:moveTo>
                  <a:pt x="7243" y="13593"/>
                </a:moveTo>
                <a:cubicBezTo>
                  <a:pt x="7161" y="13593"/>
                  <a:pt x="7089" y="13595"/>
                  <a:pt x="7020" y="13618"/>
                </a:cubicBezTo>
                <a:cubicBezTo>
                  <a:pt x="7012" y="13618"/>
                  <a:pt x="7003" y="13618"/>
                  <a:pt x="6995" y="13618"/>
                </a:cubicBezTo>
              </a:path>
              <a:path w="398" h="695">
                <a:moveTo>
                  <a:pt x="7094" y="13767"/>
                </a:moveTo>
                <a:cubicBezTo>
                  <a:pt x="7104" y="13738"/>
                  <a:pt x="7128" y="13722"/>
                  <a:pt x="7169" y="13717"/>
                </a:cubicBezTo>
                <a:cubicBezTo>
                  <a:pt x="7193" y="13717"/>
                  <a:pt x="7202" y="13717"/>
                  <a:pt x="7218" y="13717"/>
                </a:cubicBezTo>
                <a:cubicBezTo>
                  <a:pt x="7218" y="13768"/>
                  <a:pt x="7227" y="13802"/>
                  <a:pt x="7193" y="13841"/>
                </a:cubicBezTo>
                <a:cubicBezTo>
                  <a:pt x="7163" y="13876"/>
                  <a:pt x="7169" y="13895"/>
                  <a:pt x="7169" y="13940"/>
                </a:cubicBezTo>
                <a:cubicBezTo>
                  <a:pt x="7169" y="13948"/>
                  <a:pt x="7169" y="13957"/>
                  <a:pt x="7169" y="13965"/>
                </a:cubicBezTo>
                <a:cubicBezTo>
                  <a:pt x="7237" y="13965"/>
                  <a:pt x="7287" y="13951"/>
                  <a:pt x="7342" y="13940"/>
                </a:cubicBezTo>
                <a:cubicBezTo>
                  <a:pt x="7359" y="13940"/>
                  <a:pt x="7375" y="13940"/>
                  <a:pt x="7392" y="139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08120" y="5626080"/>
            <a:ext cx="812880" cy="660600"/>
          </a:xfrm>
          <a:custGeom>
            <a:avLst/>
            <a:gdLst/>
            <a:ahLst/>
            <a:rect l="l" t="t" r="r" b="b"/>
            <a:pathLst>
              <a:path w="2258" h="1836">
                <a:moveTo>
                  <a:pt x="4638" y="16123"/>
                </a:moveTo>
                <a:cubicBezTo>
                  <a:pt x="4655" y="16123"/>
                  <a:pt x="4671" y="16123"/>
                  <a:pt x="4688" y="16123"/>
                </a:cubicBezTo>
                <a:cubicBezTo>
                  <a:pt x="4628" y="16123"/>
                  <a:pt x="4589" y="16133"/>
                  <a:pt x="4539" y="16148"/>
                </a:cubicBezTo>
                <a:cubicBezTo>
                  <a:pt x="4510" y="16157"/>
                  <a:pt x="4494" y="16166"/>
                  <a:pt x="4465" y="16173"/>
                </a:cubicBezTo>
              </a:path>
              <a:path w="2258" h="1836">
                <a:moveTo>
                  <a:pt x="4688" y="16272"/>
                </a:moveTo>
                <a:cubicBezTo>
                  <a:pt x="4647" y="16282"/>
                  <a:pt x="4603" y="16314"/>
                  <a:pt x="4564" y="16321"/>
                </a:cubicBezTo>
                <a:cubicBezTo>
                  <a:pt x="4547" y="16321"/>
                  <a:pt x="4531" y="16321"/>
                  <a:pt x="4514" y="16321"/>
                </a:cubicBezTo>
              </a:path>
              <a:path w="2258" h="1836">
                <a:moveTo>
                  <a:pt x="6697" y="15627"/>
                </a:moveTo>
                <a:cubicBezTo>
                  <a:pt x="6631" y="15627"/>
                  <a:pt x="6614" y="15627"/>
                  <a:pt x="6548" y="15627"/>
                </a:cubicBezTo>
                <a:cubicBezTo>
                  <a:pt x="6430" y="15627"/>
                  <a:pt x="6318" y="15667"/>
                  <a:pt x="6201" y="15677"/>
                </a:cubicBezTo>
                <a:cubicBezTo>
                  <a:pt x="6053" y="15689"/>
                  <a:pt x="5918" y="15719"/>
                  <a:pt x="5779" y="15776"/>
                </a:cubicBezTo>
                <a:cubicBezTo>
                  <a:pt x="5729" y="15797"/>
                  <a:pt x="5677" y="15829"/>
                  <a:pt x="5631" y="15850"/>
                </a:cubicBezTo>
                <a:cubicBezTo>
                  <a:pt x="5582" y="15873"/>
                  <a:pt x="5549" y="15903"/>
                  <a:pt x="5531" y="15949"/>
                </a:cubicBezTo>
                <a:cubicBezTo>
                  <a:pt x="5507" y="16011"/>
                  <a:pt x="5488" y="16123"/>
                  <a:pt x="5482" y="16197"/>
                </a:cubicBezTo>
                <a:cubicBezTo>
                  <a:pt x="5457" y="16510"/>
                  <a:pt x="5481" y="16828"/>
                  <a:pt x="5457" y="17140"/>
                </a:cubicBezTo>
                <a:cubicBezTo>
                  <a:pt x="5449" y="17243"/>
                  <a:pt x="5445" y="17337"/>
                  <a:pt x="5432" y="17438"/>
                </a:cubicBezTo>
                <a:cubicBezTo>
                  <a:pt x="5432" y="17446"/>
                  <a:pt x="5432" y="17454"/>
                  <a:pt x="5432" y="17462"/>
                </a:cubicBezTo>
                <a:cubicBezTo>
                  <a:pt x="5417" y="17433"/>
                  <a:pt x="5352" y="17319"/>
                  <a:pt x="5333" y="17264"/>
                </a:cubicBezTo>
                <a:cubicBezTo>
                  <a:pt x="5291" y="17145"/>
                  <a:pt x="5228" y="17033"/>
                  <a:pt x="5184" y="16917"/>
                </a:cubicBezTo>
                <a:cubicBezTo>
                  <a:pt x="5184" y="16865"/>
                  <a:pt x="5183" y="16847"/>
                  <a:pt x="5159" y="16818"/>
                </a:cubicBezTo>
              </a:path>
              <a:path w="2258" h="1836">
                <a:moveTo>
                  <a:pt x="5978" y="15875"/>
                </a:moveTo>
                <a:cubicBezTo>
                  <a:pt x="5920" y="15894"/>
                  <a:pt x="5971" y="15924"/>
                  <a:pt x="5978" y="15974"/>
                </a:cubicBezTo>
                <a:cubicBezTo>
                  <a:pt x="5992" y="16073"/>
                  <a:pt x="6003" y="16171"/>
                  <a:pt x="6003" y="16272"/>
                </a:cubicBezTo>
                <a:cubicBezTo>
                  <a:pt x="6003" y="16280"/>
                  <a:pt x="6003" y="16289"/>
                  <a:pt x="6003" y="16297"/>
                </a:cubicBezTo>
              </a:path>
              <a:path w="2258" h="1836">
                <a:moveTo>
                  <a:pt x="6152" y="15949"/>
                </a:moveTo>
                <a:cubicBezTo>
                  <a:pt x="6172" y="15909"/>
                  <a:pt x="6180" y="15902"/>
                  <a:pt x="6176" y="15875"/>
                </a:cubicBezTo>
                <a:cubicBezTo>
                  <a:pt x="6139" y="15938"/>
                  <a:pt x="6141" y="16046"/>
                  <a:pt x="6152" y="16123"/>
                </a:cubicBezTo>
                <a:cubicBezTo>
                  <a:pt x="6165" y="16214"/>
                  <a:pt x="6192" y="16353"/>
                  <a:pt x="6276" y="16396"/>
                </a:cubicBezTo>
                <a:cubicBezTo>
                  <a:pt x="6284" y="16396"/>
                  <a:pt x="6292" y="16396"/>
                  <a:pt x="6300" y="16396"/>
                </a:cubicBezTo>
                <a:cubicBezTo>
                  <a:pt x="6331" y="16344"/>
                  <a:pt x="6337" y="16304"/>
                  <a:pt x="6300" y="16247"/>
                </a:cubicBezTo>
                <a:cubicBezTo>
                  <a:pt x="6266" y="16194"/>
                  <a:pt x="6233" y="16197"/>
                  <a:pt x="6176" y="16197"/>
                </a:cubicBezTo>
              </a:path>
              <a:path w="2258" h="1836">
                <a:moveTo>
                  <a:pt x="6548" y="16520"/>
                </a:moveTo>
                <a:cubicBezTo>
                  <a:pt x="6528" y="16459"/>
                  <a:pt x="6474" y="16513"/>
                  <a:pt x="6424" y="16520"/>
                </a:cubicBezTo>
                <a:cubicBezTo>
                  <a:pt x="6318" y="16534"/>
                  <a:pt x="6207" y="16531"/>
                  <a:pt x="6102" y="16545"/>
                </a:cubicBezTo>
                <a:cubicBezTo>
                  <a:pt x="6057" y="16545"/>
                  <a:pt x="6044" y="16541"/>
                  <a:pt x="6028" y="16570"/>
                </a:cubicBezTo>
              </a:path>
              <a:path w="2258" h="1836">
                <a:moveTo>
                  <a:pt x="6424" y="16793"/>
                </a:moveTo>
                <a:cubicBezTo>
                  <a:pt x="6447" y="16770"/>
                  <a:pt x="6455" y="16766"/>
                  <a:pt x="6449" y="16743"/>
                </a:cubicBezTo>
                <a:cubicBezTo>
                  <a:pt x="6369" y="16695"/>
                  <a:pt x="6371" y="16722"/>
                  <a:pt x="6300" y="16768"/>
                </a:cubicBezTo>
                <a:cubicBezTo>
                  <a:pt x="6244" y="16805"/>
                  <a:pt x="6181" y="16872"/>
                  <a:pt x="6251" y="16942"/>
                </a:cubicBezTo>
                <a:cubicBezTo>
                  <a:pt x="6295" y="16986"/>
                  <a:pt x="6340" y="16880"/>
                  <a:pt x="6350" y="16867"/>
                </a:cubicBezTo>
                <a:cubicBezTo>
                  <a:pt x="6383" y="16822"/>
                  <a:pt x="6406" y="16803"/>
                  <a:pt x="6449" y="16842"/>
                </a:cubicBezTo>
                <a:cubicBezTo>
                  <a:pt x="6525" y="16912"/>
                  <a:pt x="6556" y="17022"/>
                  <a:pt x="6598" y="17115"/>
                </a:cubicBezTo>
                <a:cubicBezTo>
                  <a:pt x="6606" y="17132"/>
                  <a:pt x="6615" y="17148"/>
                  <a:pt x="6623" y="171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41760" y="5581800"/>
            <a:ext cx="965160" cy="722160"/>
          </a:xfrm>
          <a:custGeom>
            <a:avLst/>
            <a:gdLst/>
            <a:ahLst/>
            <a:rect l="l" t="t" r="r" b="b"/>
            <a:pathLst>
              <a:path w="2680" h="2010">
                <a:moveTo>
                  <a:pt x="7838" y="16396"/>
                </a:moveTo>
                <a:cubicBezTo>
                  <a:pt x="7898" y="16441"/>
                  <a:pt x="7887" y="16412"/>
                  <a:pt x="7838" y="16396"/>
                </a:cubicBezTo>
                <a:cubicBezTo>
                  <a:pt x="7779" y="16376"/>
                  <a:pt x="7678" y="16396"/>
                  <a:pt x="7615" y="16396"/>
                </a:cubicBezTo>
              </a:path>
              <a:path w="2680" h="2010">
                <a:moveTo>
                  <a:pt x="7764" y="16520"/>
                </a:moveTo>
                <a:cubicBezTo>
                  <a:pt x="7821" y="16520"/>
                  <a:pt x="7865" y="16529"/>
                  <a:pt x="7789" y="16545"/>
                </a:cubicBezTo>
                <a:cubicBezTo>
                  <a:pt x="7744" y="16545"/>
                  <a:pt x="7731" y="16542"/>
                  <a:pt x="7714" y="16570"/>
                </a:cubicBezTo>
              </a:path>
              <a:path w="2680" h="2010">
                <a:moveTo>
                  <a:pt x="9277" y="15528"/>
                </a:moveTo>
                <a:cubicBezTo>
                  <a:pt x="9302" y="15528"/>
                  <a:pt x="9310" y="15528"/>
                  <a:pt x="9302" y="15503"/>
                </a:cubicBezTo>
                <a:cubicBezTo>
                  <a:pt x="9175" y="15503"/>
                  <a:pt x="9054" y="15518"/>
                  <a:pt x="8930" y="15528"/>
                </a:cubicBezTo>
                <a:cubicBezTo>
                  <a:pt x="8822" y="15537"/>
                  <a:pt x="8684" y="15538"/>
                  <a:pt x="8632" y="15652"/>
                </a:cubicBezTo>
                <a:cubicBezTo>
                  <a:pt x="8585" y="15756"/>
                  <a:pt x="8562" y="15862"/>
                  <a:pt x="8558" y="15974"/>
                </a:cubicBezTo>
                <a:cubicBezTo>
                  <a:pt x="8556" y="16044"/>
                  <a:pt x="8601" y="16300"/>
                  <a:pt x="8533" y="16346"/>
                </a:cubicBezTo>
                <a:cubicBezTo>
                  <a:pt x="8478" y="16383"/>
                  <a:pt x="8353" y="16220"/>
                  <a:pt x="8334" y="16197"/>
                </a:cubicBezTo>
                <a:cubicBezTo>
                  <a:pt x="8289" y="16141"/>
                  <a:pt x="8273" y="16080"/>
                  <a:pt x="8235" y="16024"/>
                </a:cubicBezTo>
              </a:path>
              <a:path w="2680" h="2010">
                <a:moveTo>
                  <a:pt x="8706" y="15801"/>
                </a:moveTo>
                <a:cubicBezTo>
                  <a:pt x="8714" y="15793"/>
                  <a:pt x="8723" y="15784"/>
                  <a:pt x="8731" y="15776"/>
                </a:cubicBezTo>
                <a:cubicBezTo>
                  <a:pt x="8745" y="15830"/>
                  <a:pt x="8774" y="15885"/>
                  <a:pt x="8781" y="15949"/>
                </a:cubicBezTo>
                <a:cubicBezTo>
                  <a:pt x="8781" y="16015"/>
                  <a:pt x="8781" y="16032"/>
                  <a:pt x="8781" y="16073"/>
                </a:cubicBezTo>
              </a:path>
              <a:path w="2680" h="2010">
                <a:moveTo>
                  <a:pt x="9004" y="15701"/>
                </a:moveTo>
                <a:cubicBezTo>
                  <a:pt x="9004" y="15649"/>
                  <a:pt x="8986" y="15756"/>
                  <a:pt x="8979" y="15776"/>
                </a:cubicBezTo>
                <a:cubicBezTo>
                  <a:pt x="8951" y="15851"/>
                  <a:pt x="8921" y="16022"/>
                  <a:pt x="8954" y="16098"/>
                </a:cubicBezTo>
                <a:cubicBezTo>
                  <a:pt x="8978" y="16153"/>
                  <a:pt x="9058" y="16207"/>
                  <a:pt x="9103" y="16148"/>
                </a:cubicBezTo>
                <a:cubicBezTo>
                  <a:pt x="9138" y="16102"/>
                  <a:pt x="9137" y="15982"/>
                  <a:pt x="9079" y="15949"/>
                </a:cubicBezTo>
                <a:cubicBezTo>
                  <a:pt x="9029" y="15949"/>
                  <a:pt x="9012" y="15949"/>
                  <a:pt x="8979" y="15949"/>
                </a:cubicBezTo>
              </a:path>
              <a:path w="2680" h="2010">
                <a:moveTo>
                  <a:pt x="9451" y="16371"/>
                </a:moveTo>
                <a:cubicBezTo>
                  <a:pt x="9491" y="16391"/>
                  <a:pt x="9497" y="16400"/>
                  <a:pt x="9525" y="16396"/>
                </a:cubicBezTo>
                <a:cubicBezTo>
                  <a:pt x="9505" y="16457"/>
                  <a:pt x="9415" y="16435"/>
                  <a:pt x="9351" y="16446"/>
                </a:cubicBezTo>
                <a:cubicBezTo>
                  <a:pt x="9173" y="16477"/>
                  <a:pt x="9003" y="16525"/>
                  <a:pt x="8830" y="16570"/>
                </a:cubicBezTo>
                <a:cubicBezTo>
                  <a:pt x="8725" y="16597"/>
                  <a:pt x="8576" y="16591"/>
                  <a:pt x="8483" y="16644"/>
                </a:cubicBezTo>
                <a:cubicBezTo>
                  <a:pt x="8475" y="16652"/>
                  <a:pt x="8466" y="16661"/>
                  <a:pt x="8458" y="16669"/>
                </a:cubicBezTo>
              </a:path>
              <a:path w="2680" h="2010">
                <a:moveTo>
                  <a:pt x="9327" y="16793"/>
                </a:moveTo>
                <a:cubicBezTo>
                  <a:pt x="9388" y="16776"/>
                  <a:pt x="9447" y="16760"/>
                  <a:pt x="9475" y="16743"/>
                </a:cubicBezTo>
                <a:cubicBezTo>
                  <a:pt x="9334" y="16743"/>
                  <a:pt x="9189" y="16728"/>
                  <a:pt x="9054" y="16768"/>
                </a:cubicBezTo>
                <a:cubicBezTo>
                  <a:pt x="8985" y="16788"/>
                  <a:pt x="8899" y="16811"/>
                  <a:pt x="8880" y="16892"/>
                </a:cubicBezTo>
                <a:cubicBezTo>
                  <a:pt x="8860" y="16978"/>
                  <a:pt x="8838" y="17076"/>
                  <a:pt x="8830" y="17165"/>
                </a:cubicBezTo>
                <a:cubicBezTo>
                  <a:pt x="8819" y="17280"/>
                  <a:pt x="8854" y="17412"/>
                  <a:pt x="8806" y="17512"/>
                </a:cubicBezTo>
                <a:cubicBezTo>
                  <a:pt x="8732" y="17451"/>
                  <a:pt x="8669" y="17379"/>
                  <a:pt x="8607" y="17289"/>
                </a:cubicBezTo>
                <a:cubicBezTo>
                  <a:pt x="8556" y="17216"/>
                  <a:pt x="8531" y="17185"/>
                  <a:pt x="8458" y="17140"/>
                </a:cubicBezTo>
              </a:path>
              <a:path w="2680" h="2010">
                <a:moveTo>
                  <a:pt x="9203" y="17041"/>
                </a:moveTo>
                <a:cubicBezTo>
                  <a:pt x="9225" y="17018"/>
                  <a:pt x="9233" y="17013"/>
                  <a:pt x="9227" y="16991"/>
                </a:cubicBezTo>
                <a:cubicBezTo>
                  <a:pt x="9164" y="16991"/>
                  <a:pt x="9110" y="16981"/>
                  <a:pt x="9054" y="17016"/>
                </a:cubicBezTo>
                <a:cubicBezTo>
                  <a:pt x="9012" y="17042"/>
                  <a:pt x="9029" y="17098"/>
                  <a:pt x="9029" y="17140"/>
                </a:cubicBezTo>
                <a:cubicBezTo>
                  <a:pt x="9102" y="17125"/>
                  <a:pt x="9106" y="17093"/>
                  <a:pt x="9153" y="17041"/>
                </a:cubicBezTo>
                <a:cubicBezTo>
                  <a:pt x="9161" y="17033"/>
                  <a:pt x="9170" y="17024"/>
                  <a:pt x="9178" y="17016"/>
                </a:cubicBezTo>
                <a:cubicBezTo>
                  <a:pt x="9239" y="17093"/>
                  <a:pt x="9269" y="17145"/>
                  <a:pt x="9302" y="17239"/>
                </a:cubicBezTo>
                <a:cubicBezTo>
                  <a:pt x="9327" y="17314"/>
                  <a:pt x="9335" y="17338"/>
                  <a:pt x="9351" y="17388"/>
                </a:cubicBezTo>
              </a:path>
              <a:path w="2680" h="2010">
                <a:moveTo>
                  <a:pt x="10244" y="16421"/>
                </a:moveTo>
                <a:cubicBezTo>
                  <a:pt x="10252" y="16413"/>
                  <a:pt x="10261" y="16404"/>
                  <a:pt x="10269" y="16396"/>
                </a:cubicBezTo>
                <a:cubicBezTo>
                  <a:pt x="10215" y="16396"/>
                  <a:pt x="10173" y="16414"/>
                  <a:pt x="10120" y="16421"/>
                </a:cubicBezTo>
              </a:path>
              <a:path w="2680" h="2010">
                <a:moveTo>
                  <a:pt x="10195" y="16520"/>
                </a:moveTo>
                <a:cubicBezTo>
                  <a:pt x="10206" y="16521"/>
                  <a:pt x="10356" y="16546"/>
                  <a:pt x="10269" y="16594"/>
                </a:cubicBezTo>
                <a:cubicBezTo>
                  <a:pt x="10261" y="16594"/>
                  <a:pt x="10252" y="16594"/>
                  <a:pt x="10244" y="165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81320" y="5742000"/>
            <a:ext cx="241560" cy="473040"/>
          </a:xfrm>
          <a:custGeom>
            <a:avLst/>
            <a:gdLst/>
            <a:ahLst/>
            <a:rect l="l" t="t" r="r" b="b"/>
            <a:pathLst>
              <a:path w="670" h="1316">
                <a:moveTo>
                  <a:pt x="11336" y="16073"/>
                </a:moveTo>
                <a:cubicBezTo>
                  <a:pt x="11382" y="15995"/>
                  <a:pt x="11385" y="16016"/>
                  <a:pt x="11385" y="15949"/>
                </a:cubicBezTo>
                <a:cubicBezTo>
                  <a:pt x="11441" y="15986"/>
                  <a:pt x="11375" y="16028"/>
                  <a:pt x="11361" y="16098"/>
                </a:cubicBezTo>
                <a:cubicBezTo>
                  <a:pt x="11353" y="16141"/>
                  <a:pt x="11337" y="16342"/>
                  <a:pt x="11385" y="16371"/>
                </a:cubicBezTo>
                <a:cubicBezTo>
                  <a:pt x="11430" y="16399"/>
                  <a:pt x="11521" y="16352"/>
                  <a:pt x="11559" y="16346"/>
                </a:cubicBezTo>
                <a:cubicBezTo>
                  <a:pt x="11615" y="16337"/>
                  <a:pt x="11658" y="16302"/>
                  <a:pt x="11708" y="16297"/>
                </a:cubicBezTo>
                <a:cubicBezTo>
                  <a:pt x="11716" y="16297"/>
                  <a:pt x="11725" y="16297"/>
                  <a:pt x="11733" y="16297"/>
                </a:cubicBezTo>
              </a:path>
              <a:path w="670" h="1316">
                <a:moveTo>
                  <a:pt x="11584" y="16247"/>
                </a:moveTo>
                <a:cubicBezTo>
                  <a:pt x="11567" y="16247"/>
                  <a:pt x="11551" y="16247"/>
                  <a:pt x="11534" y="16247"/>
                </a:cubicBezTo>
                <a:cubicBezTo>
                  <a:pt x="11534" y="16321"/>
                  <a:pt x="11554" y="16377"/>
                  <a:pt x="11584" y="16446"/>
                </a:cubicBezTo>
                <a:cubicBezTo>
                  <a:pt x="11612" y="16501"/>
                  <a:pt x="11620" y="16524"/>
                  <a:pt x="11609" y="16570"/>
                </a:cubicBezTo>
              </a:path>
              <a:path w="670" h="1316">
                <a:moveTo>
                  <a:pt x="11981" y="16669"/>
                </a:moveTo>
                <a:cubicBezTo>
                  <a:pt x="11942" y="16727"/>
                  <a:pt x="11877" y="16676"/>
                  <a:pt x="11807" y="16669"/>
                </a:cubicBezTo>
                <a:cubicBezTo>
                  <a:pt x="11711" y="16660"/>
                  <a:pt x="11597" y="16658"/>
                  <a:pt x="11509" y="16694"/>
                </a:cubicBezTo>
                <a:cubicBezTo>
                  <a:pt x="11469" y="16714"/>
                  <a:pt x="11462" y="16722"/>
                  <a:pt x="11435" y="16718"/>
                </a:cubicBezTo>
              </a:path>
              <a:path w="670" h="1316">
                <a:moveTo>
                  <a:pt x="11633" y="16867"/>
                </a:moveTo>
                <a:cubicBezTo>
                  <a:pt x="11571" y="16867"/>
                  <a:pt x="11703" y="16843"/>
                  <a:pt x="11708" y="16842"/>
                </a:cubicBezTo>
                <a:cubicBezTo>
                  <a:pt x="11784" y="16829"/>
                  <a:pt x="11895" y="16831"/>
                  <a:pt x="11956" y="16867"/>
                </a:cubicBezTo>
                <a:cubicBezTo>
                  <a:pt x="11956" y="16947"/>
                  <a:pt x="11927" y="16912"/>
                  <a:pt x="11881" y="16966"/>
                </a:cubicBezTo>
                <a:cubicBezTo>
                  <a:pt x="11841" y="17013"/>
                  <a:pt x="11804" y="17045"/>
                  <a:pt x="11757" y="17090"/>
                </a:cubicBezTo>
                <a:cubicBezTo>
                  <a:pt x="11804" y="17126"/>
                  <a:pt x="11851" y="17121"/>
                  <a:pt x="11906" y="17140"/>
                </a:cubicBezTo>
                <a:cubicBezTo>
                  <a:pt x="11959" y="17158"/>
                  <a:pt x="11992" y="17163"/>
                  <a:pt x="12005" y="17214"/>
                </a:cubicBezTo>
                <a:cubicBezTo>
                  <a:pt x="11947" y="17250"/>
                  <a:pt x="11830" y="17257"/>
                  <a:pt x="11757" y="17264"/>
                </a:cubicBezTo>
                <a:cubicBezTo>
                  <a:pt x="11675" y="17264"/>
                  <a:pt x="11642" y="17264"/>
                  <a:pt x="11584" y="172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73760" y="5170320"/>
            <a:ext cx="206280" cy="330480"/>
          </a:xfrm>
          <a:custGeom>
            <a:avLst/>
            <a:gdLst/>
            <a:ahLst/>
            <a:rect l="l" t="t" r="r" b="b"/>
            <a:pathLst>
              <a:path w="572" h="919">
                <a:moveTo>
                  <a:pt x="13891" y="14585"/>
                </a:moveTo>
                <a:cubicBezTo>
                  <a:pt x="13866" y="14585"/>
                  <a:pt x="13841" y="14585"/>
                  <a:pt x="13816" y="14585"/>
                </a:cubicBezTo>
                <a:cubicBezTo>
                  <a:pt x="13829" y="14534"/>
                  <a:pt x="13875" y="14500"/>
                  <a:pt x="13915" y="14461"/>
                </a:cubicBezTo>
                <a:cubicBezTo>
                  <a:pt x="13980" y="14396"/>
                  <a:pt x="14092" y="14344"/>
                  <a:pt x="14188" y="14362"/>
                </a:cubicBezTo>
                <a:cubicBezTo>
                  <a:pt x="14266" y="14376"/>
                  <a:pt x="14300" y="14466"/>
                  <a:pt x="14288" y="14536"/>
                </a:cubicBezTo>
                <a:cubicBezTo>
                  <a:pt x="14267" y="14661"/>
                  <a:pt x="14150" y="14688"/>
                  <a:pt x="14064" y="14759"/>
                </a:cubicBezTo>
                <a:cubicBezTo>
                  <a:pt x="14001" y="14811"/>
                  <a:pt x="13984" y="14816"/>
                  <a:pt x="13965" y="14883"/>
                </a:cubicBezTo>
                <a:cubicBezTo>
                  <a:pt x="14047" y="14965"/>
                  <a:pt x="14082" y="14958"/>
                  <a:pt x="14188" y="14982"/>
                </a:cubicBezTo>
                <a:cubicBezTo>
                  <a:pt x="14263" y="14999"/>
                  <a:pt x="14356" y="15033"/>
                  <a:pt x="14387" y="15106"/>
                </a:cubicBezTo>
                <a:cubicBezTo>
                  <a:pt x="14387" y="15114"/>
                  <a:pt x="14387" y="15123"/>
                  <a:pt x="14387" y="15131"/>
                </a:cubicBezTo>
                <a:cubicBezTo>
                  <a:pt x="14324" y="15194"/>
                  <a:pt x="14278" y="15180"/>
                  <a:pt x="14188" y="15180"/>
                </a:cubicBezTo>
                <a:cubicBezTo>
                  <a:pt x="14105" y="15180"/>
                  <a:pt x="14023" y="15180"/>
                  <a:pt x="13940" y="15180"/>
                </a:cubicBezTo>
              </a:path>
              <a:path w="572" h="919">
                <a:moveTo>
                  <a:pt x="14064" y="14362"/>
                </a:moveTo>
                <a:cubicBezTo>
                  <a:pt x="14187" y="14452"/>
                  <a:pt x="14239" y="14534"/>
                  <a:pt x="14288" y="14684"/>
                </a:cubicBezTo>
                <a:cubicBezTo>
                  <a:pt x="14308" y="14768"/>
                  <a:pt x="14309" y="14788"/>
                  <a:pt x="14337" y="14833"/>
                </a:cubicBezTo>
                <a:cubicBezTo>
                  <a:pt x="14266" y="14869"/>
                  <a:pt x="14181" y="14727"/>
                  <a:pt x="14139" y="14660"/>
                </a:cubicBezTo>
                <a:cubicBezTo>
                  <a:pt x="14089" y="14560"/>
                  <a:pt x="14073" y="14527"/>
                  <a:pt x="14039" y="14461"/>
                </a:cubicBezTo>
                <a:cubicBezTo>
                  <a:pt x="13972" y="14324"/>
                  <a:pt x="14130" y="14663"/>
                  <a:pt x="14139" y="14684"/>
                </a:cubicBezTo>
                <a:cubicBezTo>
                  <a:pt x="14185" y="14796"/>
                  <a:pt x="14218" y="14914"/>
                  <a:pt x="14238" y="15032"/>
                </a:cubicBezTo>
                <a:cubicBezTo>
                  <a:pt x="14115" y="15004"/>
                  <a:pt x="14045" y="14909"/>
                  <a:pt x="13965" y="14808"/>
                </a:cubicBezTo>
                <a:cubicBezTo>
                  <a:pt x="13927" y="14752"/>
                  <a:pt x="13910" y="14749"/>
                  <a:pt x="13915" y="14709"/>
                </a:cubicBezTo>
                <a:cubicBezTo>
                  <a:pt x="13935" y="14811"/>
                  <a:pt x="14005" y="14906"/>
                  <a:pt x="14039" y="15007"/>
                </a:cubicBezTo>
                <a:cubicBezTo>
                  <a:pt x="14052" y="15045"/>
                  <a:pt x="14132" y="15253"/>
                  <a:pt x="14039" y="15131"/>
                </a:cubicBezTo>
                <a:cubicBezTo>
                  <a:pt x="13964" y="15033"/>
                  <a:pt x="13901" y="14940"/>
                  <a:pt x="13841" y="14833"/>
                </a:cubicBezTo>
                <a:cubicBezTo>
                  <a:pt x="13841" y="14817"/>
                  <a:pt x="13841" y="14800"/>
                  <a:pt x="13841" y="14784"/>
                </a:cubicBezTo>
                <a:cubicBezTo>
                  <a:pt x="13948" y="14877"/>
                  <a:pt x="14009" y="15030"/>
                  <a:pt x="14089" y="15156"/>
                </a:cubicBezTo>
                <a:cubicBezTo>
                  <a:pt x="14132" y="15219"/>
                  <a:pt x="14148" y="15231"/>
                  <a:pt x="14139" y="152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80080" y="5205240"/>
            <a:ext cx="169920" cy="312840"/>
          </a:xfrm>
          <a:custGeom>
            <a:avLst/>
            <a:gdLst/>
            <a:ahLst/>
            <a:rect l="l" t="t" r="r" b="b"/>
            <a:pathLst>
              <a:path w="472" h="869">
                <a:moveTo>
                  <a:pt x="16173" y="14560"/>
                </a:moveTo>
                <a:cubicBezTo>
                  <a:pt x="16227" y="14560"/>
                  <a:pt x="16234" y="14574"/>
                  <a:pt x="16247" y="14536"/>
                </a:cubicBezTo>
                <a:cubicBezTo>
                  <a:pt x="16189" y="14478"/>
                  <a:pt x="16136" y="14450"/>
                  <a:pt x="16049" y="14461"/>
                </a:cubicBezTo>
                <a:cubicBezTo>
                  <a:pt x="15914" y="14478"/>
                  <a:pt x="15802" y="14543"/>
                  <a:pt x="15776" y="14684"/>
                </a:cubicBezTo>
                <a:cubicBezTo>
                  <a:pt x="15759" y="14777"/>
                  <a:pt x="15792" y="14807"/>
                  <a:pt x="15850" y="14858"/>
                </a:cubicBezTo>
                <a:cubicBezTo>
                  <a:pt x="15943" y="14835"/>
                  <a:pt x="15995" y="14772"/>
                  <a:pt x="16049" y="14684"/>
                </a:cubicBezTo>
                <a:cubicBezTo>
                  <a:pt x="16057" y="14668"/>
                  <a:pt x="16065" y="14651"/>
                  <a:pt x="16073" y="14635"/>
                </a:cubicBezTo>
                <a:cubicBezTo>
                  <a:pt x="16155" y="14656"/>
                  <a:pt x="16166" y="14783"/>
                  <a:pt x="16173" y="14858"/>
                </a:cubicBezTo>
                <a:cubicBezTo>
                  <a:pt x="16188" y="15017"/>
                  <a:pt x="16194" y="15172"/>
                  <a:pt x="16222" y="153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54840" y="5037120"/>
            <a:ext cx="544320" cy="374760"/>
          </a:xfrm>
          <a:custGeom>
            <a:avLst/>
            <a:gdLst/>
            <a:ahLst/>
            <a:rect l="l" t="t" r="r" b="b"/>
            <a:pathLst>
              <a:path w="1514" h="1043">
                <a:moveTo>
                  <a:pt x="17016" y="14387"/>
                </a:moveTo>
                <a:cubicBezTo>
                  <a:pt x="16950" y="14387"/>
                  <a:pt x="16884" y="14387"/>
                  <a:pt x="16818" y="14387"/>
                </a:cubicBezTo>
              </a:path>
              <a:path w="1514" h="1043">
                <a:moveTo>
                  <a:pt x="17413" y="14015"/>
                </a:moveTo>
                <a:cubicBezTo>
                  <a:pt x="17413" y="14007"/>
                  <a:pt x="17413" y="13998"/>
                  <a:pt x="17413" y="13990"/>
                </a:cubicBezTo>
                <a:cubicBezTo>
                  <a:pt x="17413" y="14040"/>
                  <a:pt x="17424" y="14048"/>
                  <a:pt x="17438" y="14089"/>
                </a:cubicBezTo>
                <a:cubicBezTo>
                  <a:pt x="17438" y="14114"/>
                  <a:pt x="17438" y="14122"/>
                  <a:pt x="17438" y="14139"/>
                </a:cubicBezTo>
              </a:path>
              <a:path w="1514" h="1043">
                <a:moveTo>
                  <a:pt x="17587" y="14238"/>
                </a:moveTo>
                <a:cubicBezTo>
                  <a:pt x="17587" y="14246"/>
                  <a:pt x="17587" y="14255"/>
                  <a:pt x="17587" y="14263"/>
                </a:cubicBezTo>
                <a:cubicBezTo>
                  <a:pt x="17504" y="14263"/>
                  <a:pt x="17421" y="14263"/>
                  <a:pt x="17338" y="14263"/>
                </a:cubicBezTo>
              </a:path>
              <a:path w="1514" h="1043">
                <a:moveTo>
                  <a:pt x="17462" y="14337"/>
                </a:moveTo>
                <a:cubicBezTo>
                  <a:pt x="17454" y="14345"/>
                  <a:pt x="17446" y="14354"/>
                  <a:pt x="17438" y="14362"/>
                </a:cubicBezTo>
                <a:cubicBezTo>
                  <a:pt x="17447" y="14335"/>
                  <a:pt x="17455" y="14316"/>
                  <a:pt x="17487" y="14312"/>
                </a:cubicBezTo>
                <a:cubicBezTo>
                  <a:pt x="17533" y="14306"/>
                  <a:pt x="17557" y="14315"/>
                  <a:pt x="17562" y="14362"/>
                </a:cubicBezTo>
                <a:cubicBezTo>
                  <a:pt x="17565" y="14393"/>
                  <a:pt x="17516" y="14448"/>
                  <a:pt x="17487" y="14461"/>
                </a:cubicBezTo>
                <a:cubicBezTo>
                  <a:pt x="17450" y="14477"/>
                  <a:pt x="17449" y="14467"/>
                  <a:pt x="17438" y="14511"/>
                </a:cubicBezTo>
                <a:cubicBezTo>
                  <a:pt x="17521" y="14511"/>
                  <a:pt x="17603" y="14511"/>
                  <a:pt x="17686" y="14511"/>
                </a:cubicBezTo>
              </a:path>
              <a:path w="1514" h="1043">
                <a:moveTo>
                  <a:pt x="18207" y="14908"/>
                </a:moveTo>
                <a:cubicBezTo>
                  <a:pt x="18235" y="14870"/>
                  <a:pt x="18244" y="14837"/>
                  <a:pt x="18182" y="14833"/>
                </a:cubicBezTo>
                <a:cubicBezTo>
                  <a:pt x="18116" y="14828"/>
                  <a:pt x="18049" y="14833"/>
                  <a:pt x="17983" y="14833"/>
                </a:cubicBezTo>
              </a:path>
              <a:path w="1514" h="1043">
                <a:moveTo>
                  <a:pt x="18331" y="15032"/>
                </a:moveTo>
                <a:cubicBezTo>
                  <a:pt x="18289" y="15000"/>
                  <a:pt x="18263" y="15007"/>
                  <a:pt x="18207" y="15007"/>
                </a:cubicBezTo>
                <a:cubicBezTo>
                  <a:pt x="18166" y="15007"/>
                  <a:pt x="18124" y="15007"/>
                  <a:pt x="18083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54920" y="5000760"/>
            <a:ext cx="374760" cy="250560"/>
          </a:xfrm>
          <a:custGeom>
            <a:avLst/>
            <a:gdLst/>
            <a:ahLst/>
            <a:rect l="l" t="t" r="r" b="b"/>
            <a:pathLst>
              <a:path w="1043" h="695">
                <a:moveTo>
                  <a:pt x="19993" y="13965"/>
                </a:moveTo>
                <a:cubicBezTo>
                  <a:pt x="19993" y="13948"/>
                  <a:pt x="19993" y="13932"/>
                  <a:pt x="19993" y="13915"/>
                </a:cubicBezTo>
                <a:cubicBezTo>
                  <a:pt x="19993" y="13836"/>
                  <a:pt x="19993" y="14013"/>
                  <a:pt x="19993" y="14015"/>
                </a:cubicBezTo>
                <a:cubicBezTo>
                  <a:pt x="19993" y="14106"/>
                  <a:pt x="19993" y="14197"/>
                  <a:pt x="19993" y="14288"/>
                </a:cubicBezTo>
              </a:path>
              <a:path w="1043" h="695">
                <a:moveTo>
                  <a:pt x="20638" y="14560"/>
                </a:moveTo>
                <a:cubicBezTo>
                  <a:pt x="20534" y="14560"/>
                  <a:pt x="20441" y="14576"/>
                  <a:pt x="20340" y="14585"/>
                </a:cubicBezTo>
                <a:cubicBezTo>
                  <a:pt x="20172" y="14600"/>
                  <a:pt x="20010" y="14564"/>
                  <a:pt x="19844" y="14560"/>
                </a:cubicBezTo>
                <a:cubicBezTo>
                  <a:pt x="19762" y="14558"/>
                  <a:pt x="19679" y="14560"/>
                  <a:pt x="19596" y="145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81920" y="5286240"/>
            <a:ext cx="295200" cy="258840"/>
          </a:xfrm>
          <a:custGeom>
            <a:avLst/>
            <a:gdLst/>
            <a:ahLst/>
            <a:rect l="l" t="t" r="r" b="b"/>
            <a:pathLst>
              <a:path w="820" h="721">
                <a:moveTo>
                  <a:pt x="19943" y="14908"/>
                </a:moveTo>
                <a:cubicBezTo>
                  <a:pt x="19951" y="14908"/>
                  <a:pt x="19960" y="14908"/>
                  <a:pt x="19968" y="14908"/>
                </a:cubicBezTo>
                <a:cubicBezTo>
                  <a:pt x="19963" y="14892"/>
                  <a:pt x="19945" y="14846"/>
                  <a:pt x="19918" y="14833"/>
                </a:cubicBezTo>
                <a:cubicBezTo>
                  <a:pt x="19869" y="14809"/>
                  <a:pt x="19729" y="14831"/>
                  <a:pt x="19695" y="14858"/>
                </a:cubicBezTo>
                <a:cubicBezTo>
                  <a:pt x="19669" y="14879"/>
                  <a:pt x="19658" y="14924"/>
                  <a:pt x="19670" y="14957"/>
                </a:cubicBezTo>
                <a:cubicBezTo>
                  <a:pt x="19686" y="15001"/>
                  <a:pt x="19723" y="15029"/>
                  <a:pt x="19769" y="15032"/>
                </a:cubicBezTo>
                <a:cubicBezTo>
                  <a:pt x="19834" y="15037"/>
                  <a:pt x="19873" y="14993"/>
                  <a:pt x="19893" y="14932"/>
                </a:cubicBezTo>
                <a:cubicBezTo>
                  <a:pt x="19900" y="14912"/>
                  <a:pt x="19918" y="14828"/>
                  <a:pt x="19918" y="14883"/>
                </a:cubicBezTo>
                <a:cubicBezTo>
                  <a:pt x="19918" y="14963"/>
                  <a:pt x="19952" y="15078"/>
                  <a:pt x="19968" y="15156"/>
                </a:cubicBezTo>
                <a:cubicBezTo>
                  <a:pt x="19984" y="15236"/>
                  <a:pt x="20017" y="15295"/>
                  <a:pt x="20017" y="15379"/>
                </a:cubicBezTo>
                <a:cubicBezTo>
                  <a:pt x="20017" y="15387"/>
                  <a:pt x="20017" y="15396"/>
                  <a:pt x="20017" y="15404"/>
                </a:cubicBezTo>
              </a:path>
              <a:path w="820" h="721">
                <a:moveTo>
                  <a:pt x="20365" y="14684"/>
                </a:moveTo>
                <a:cubicBezTo>
                  <a:pt x="20365" y="14725"/>
                  <a:pt x="20365" y="14767"/>
                  <a:pt x="20365" y="14808"/>
                </a:cubicBezTo>
              </a:path>
              <a:path w="820" h="721">
                <a:moveTo>
                  <a:pt x="20464" y="14858"/>
                </a:moveTo>
                <a:cubicBezTo>
                  <a:pt x="20381" y="14858"/>
                  <a:pt x="20299" y="14858"/>
                  <a:pt x="20216" y="14858"/>
                </a:cubicBezTo>
              </a:path>
              <a:path w="820" h="721">
                <a:moveTo>
                  <a:pt x="20290" y="15032"/>
                </a:moveTo>
                <a:cubicBezTo>
                  <a:pt x="20328" y="15019"/>
                  <a:pt x="20311" y="15007"/>
                  <a:pt x="20365" y="15007"/>
                </a:cubicBezTo>
                <a:cubicBezTo>
                  <a:pt x="20373" y="15007"/>
                  <a:pt x="20381" y="15007"/>
                  <a:pt x="20389" y="15007"/>
                </a:cubicBezTo>
                <a:cubicBezTo>
                  <a:pt x="20386" y="15016"/>
                  <a:pt x="20348" y="15076"/>
                  <a:pt x="20340" y="15081"/>
                </a:cubicBezTo>
                <a:cubicBezTo>
                  <a:pt x="20315" y="15081"/>
                  <a:pt x="20307" y="15081"/>
                  <a:pt x="20315" y="15106"/>
                </a:cubicBezTo>
                <a:cubicBezTo>
                  <a:pt x="20328" y="15144"/>
                  <a:pt x="20344" y="15131"/>
                  <a:pt x="20389" y="15131"/>
                </a:cubicBezTo>
                <a:cubicBezTo>
                  <a:pt x="20436" y="15131"/>
                  <a:pt x="20476" y="15116"/>
                  <a:pt x="20489" y="151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4880" y="5742000"/>
            <a:ext cx="106200" cy="98280"/>
          </a:xfrm>
          <a:custGeom>
            <a:avLst/>
            <a:gdLst/>
            <a:ahLst/>
            <a:rect l="l" t="t" r="r" b="b"/>
            <a:pathLst>
              <a:path w="298" h="274">
                <a:moveTo>
                  <a:pt x="18455" y="15949"/>
                </a:moveTo>
                <a:cubicBezTo>
                  <a:pt x="18479" y="15949"/>
                  <a:pt x="18488" y="15949"/>
                  <a:pt x="18504" y="15949"/>
                </a:cubicBezTo>
                <a:cubicBezTo>
                  <a:pt x="18491" y="15987"/>
                  <a:pt x="18475" y="15974"/>
                  <a:pt x="18430" y="15974"/>
                </a:cubicBezTo>
                <a:cubicBezTo>
                  <a:pt x="18368" y="15974"/>
                  <a:pt x="18331" y="15966"/>
                  <a:pt x="18281" y="15949"/>
                </a:cubicBezTo>
                <a:cubicBezTo>
                  <a:pt x="18262" y="15943"/>
                  <a:pt x="18227" y="15949"/>
                  <a:pt x="18207" y="15949"/>
                </a:cubicBezTo>
              </a:path>
              <a:path w="298" h="274">
                <a:moveTo>
                  <a:pt x="18479" y="16222"/>
                </a:moveTo>
                <a:cubicBezTo>
                  <a:pt x="18487" y="16222"/>
                  <a:pt x="18496" y="16222"/>
                  <a:pt x="18504" y="16222"/>
                </a:cubicBezTo>
                <a:cubicBezTo>
                  <a:pt x="18494" y="16193"/>
                  <a:pt x="18471" y="16177"/>
                  <a:pt x="18430" y="16173"/>
                </a:cubicBezTo>
                <a:cubicBezTo>
                  <a:pt x="18385" y="16168"/>
                  <a:pt x="18338" y="16198"/>
                  <a:pt x="18306" y="162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62840" y="5643720"/>
            <a:ext cx="384120" cy="438120"/>
          </a:xfrm>
          <a:custGeom>
            <a:avLst/>
            <a:gdLst/>
            <a:ahLst/>
            <a:rect l="l" t="t" r="r" b="b"/>
            <a:pathLst>
              <a:path w="1067" h="1216">
                <a:moveTo>
                  <a:pt x="19943" y="15701"/>
                </a:moveTo>
                <a:cubicBezTo>
                  <a:pt x="19943" y="15660"/>
                  <a:pt x="19943" y="15735"/>
                  <a:pt x="19943" y="15776"/>
                </a:cubicBezTo>
                <a:cubicBezTo>
                  <a:pt x="19943" y="15872"/>
                  <a:pt x="19964" y="15955"/>
                  <a:pt x="19968" y="16049"/>
                </a:cubicBezTo>
                <a:cubicBezTo>
                  <a:pt x="19968" y="16065"/>
                  <a:pt x="19968" y="16082"/>
                  <a:pt x="19968" y="16098"/>
                </a:cubicBezTo>
              </a:path>
              <a:path w="1067" h="1216">
                <a:moveTo>
                  <a:pt x="20687" y="16272"/>
                </a:moveTo>
                <a:cubicBezTo>
                  <a:pt x="20617" y="16272"/>
                  <a:pt x="20556" y="16253"/>
                  <a:pt x="20489" y="16247"/>
                </a:cubicBezTo>
                <a:cubicBezTo>
                  <a:pt x="20331" y="16232"/>
                  <a:pt x="20176" y="16202"/>
                  <a:pt x="20017" y="16197"/>
                </a:cubicBezTo>
                <a:cubicBezTo>
                  <a:pt x="19943" y="16195"/>
                  <a:pt x="19868" y="16197"/>
                  <a:pt x="19794" y="16197"/>
                </a:cubicBezTo>
              </a:path>
              <a:path w="1067" h="1216">
                <a:moveTo>
                  <a:pt x="20464" y="16421"/>
                </a:moveTo>
                <a:cubicBezTo>
                  <a:pt x="20489" y="16421"/>
                  <a:pt x="20497" y="16421"/>
                  <a:pt x="20513" y="16421"/>
                </a:cubicBezTo>
                <a:cubicBezTo>
                  <a:pt x="20477" y="16477"/>
                  <a:pt x="20434" y="16429"/>
                  <a:pt x="20365" y="16421"/>
                </a:cubicBezTo>
                <a:cubicBezTo>
                  <a:pt x="20231" y="16405"/>
                  <a:pt x="20104" y="16371"/>
                  <a:pt x="19968" y="16371"/>
                </a:cubicBezTo>
                <a:cubicBezTo>
                  <a:pt x="19894" y="16371"/>
                  <a:pt x="19873" y="16400"/>
                  <a:pt x="19869" y="16470"/>
                </a:cubicBezTo>
                <a:cubicBezTo>
                  <a:pt x="19864" y="16564"/>
                  <a:pt x="19832" y="16651"/>
                  <a:pt x="19819" y="16743"/>
                </a:cubicBezTo>
                <a:cubicBezTo>
                  <a:pt x="19811" y="16803"/>
                  <a:pt x="19804" y="16846"/>
                  <a:pt x="19769" y="16892"/>
                </a:cubicBezTo>
                <a:cubicBezTo>
                  <a:pt x="19734" y="16831"/>
                  <a:pt x="19710" y="16763"/>
                  <a:pt x="19670" y="16694"/>
                </a:cubicBezTo>
                <a:cubicBezTo>
                  <a:pt x="19648" y="16657"/>
                  <a:pt x="19630" y="16631"/>
                  <a:pt x="19621" y="16594"/>
                </a:cubicBezTo>
              </a:path>
              <a:path w="1067" h="1216">
                <a:moveTo>
                  <a:pt x="20340" y="16619"/>
                </a:moveTo>
                <a:cubicBezTo>
                  <a:pt x="20353" y="16580"/>
                  <a:pt x="20352" y="16609"/>
                  <a:pt x="20365" y="16570"/>
                </a:cubicBezTo>
                <a:cubicBezTo>
                  <a:pt x="20330" y="16535"/>
                  <a:pt x="20292" y="16482"/>
                  <a:pt x="20241" y="16470"/>
                </a:cubicBezTo>
                <a:cubicBezTo>
                  <a:pt x="20165" y="16452"/>
                  <a:pt x="20097" y="16472"/>
                  <a:pt x="20067" y="16545"/>
                </a:cubicBezTo>
                <a:cubicBezTo>
                  <a:pt x="20037" y="16618"/>
                  <a:pt x="20084" y="16639"/>
                  <a:pt x="20141" y="16644"/>
                </a:cubicBezTo>
                <a:cubicBezTo>
                  <a:pt x="20178" y="16647"/>
                  <a:pt x="20284" y="16559"/>
                  <a:pt x="20315" y="16594"/>
                </a:cubicBezTo>
                <a:cubicBezTo>
                  <a:pt x="20377" y="16663"/>
                  <a:pt x="20365" y="16757"/>
                  <a:pt x="20365" y="16842"/>
                </a:cubicBezTo>
                <a:cubicBezTo>
                  <a:pt x="20365" y="16850"/>
                  <a:pt x="20365" y="16859"/>
                  <a:pt x="20365" y="168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732800" y="5840280"/>
            <a:ext cx="81000" cy="71640"/>
          </a:xfrm>
          <a:custGeom>
            <a:avLst/>
            <a:gdLst/>
            <a:ahLst/>
            <a:rect l="l" t="t" r="r" b="b"/>
            <a:pathLst>
              <a:path w="224" h="200">
                <a:moveTo>
                  <a:pt x="21654" y="16222"/>
                </a:moveTo>
                <a:cubicBezTo>
                  <a:pt x="21679" y="16222"/>
                  <a:pt x="21687" y="16222"/>
                  <a:pt x="21704" y="16222"/>
                </a:cubicBezTo>
                <a:cubicBezTo>
                  <a:pt x="21691" y="16262"/>
                  <a:pt x="21656" y="16247"/>
                  <a:pt x="21605" y="16247"/>
                </a:cubicBezTo>
                <a:cubicBezTo>
                  <a:pt x="21564" y="16247"/>
                  <a:pt x="21522" y="16247"/>
                  <a:pt x="21481" y="16247"/>
                </a:cubicBezTo>
              </a:path>
              <a:path w="224" h="200">
                <a:moveTo>
                  <a:pt x="21630" y="16396"/>
                </a:moveTo>
                <a:cubicBezTo>
                  <a:pt x="21674" y="16396"/>
                  <a:pt x="21688" y="16393"/>
                  <a:pt x="21704" y="16421"/>
                </a:cubicBezTo>
                <a:cubicBezTo>
                  <a:pt x="21663" y="16421"/>
                  <a:pt x="21621" y="16421"/>
                  <a:pt x="21580" y="164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099280" y="5634000"/>
            <a:ext cx="330480" cy="430200"/>
          </a:xfrm>
          <a:custGeom>
            <a:avLst/>
            <a:gdLst/>
            <a:ahLst/>
            <a:rect l="l" t="t" r="r" b="b"/>
            <a:pathLst>
              <a:path w="919" h="1191">
                <a:moveTo>
                  <a:pt x="22796" y="15677"/>
                </a:moveTo>
                <a:cubicBezTo>
                  <a:pt x="22796" y="15627"/>
                  <a:pt x="22796" y="15726"/>
                  <a:pt x="22796" y="15776"/>
                </a:cubicBezTo>
                <a:cubicBezTo>
                  <a:pt x="22796" y="15850"/>
                  <a:pt x="22796" y="15875"/>
                  <a:pt x="22796" y="15925"/>
                </a:cubicBezTo>
              </a:path>
              <a:path w="919" h="1191">
                <a:moveTo>
                  <a:pt x="23093" y="16346"/>
                </a:moveTo>
                <a:cubicBezTo>
                  <a:pt x="23026" y="16306"/>
                  <a:pt x="22949" y="16312"/>
                  <a:pt x="22870" y="16297"/>
                </a:cubicBezTo>
                <a:cubicBezTo>
                  <a:pt x="22769" y="16278"/>
                  <a:pt x="22673" y="16266"/>
                  <a:pt x="22572" y="16247"/>
                </a:cubicBezTo>
              </a:path>
              <a:path w="919" h="1191">
                <a:moveTo>
                  <a:pt x="22647" y="16446"/>
                </a:moveTo>
                <a:cubicBezTo>
                  <a:pt x="22718" y="16446"/>
                  <a:pt x="22756" y="16425"/>
                  <a:pt x="22820" y="16421"/>
                </a:cubicBezTo>
                <a:cubicBezTo>
                  <a:pt x="22869" y="16418"/>
                  <a:pt x="22920" y="16421"/>
                  <a:pt x="22969" y="16421"/>
                </a:cubicBezTo>
                <a:cubicBezTo>
                  <a:pt x="22954" y="16452"/>
                  <a:pt x="22900" y="16509"/>
                  <a:pt x="22870" y="16545"/>
                </a:cubicBezTo>
                <a:cubicBezTo>
                  <a:pt x="22813" y="16614"/>
                  <a:pt x="22803" y="16621"/>
                  <a:pt x="22870" y="16694"/>
                </a:cubicBezTo>
                <a:cubicBezTo>
                  <a:pt x="22902" y="16729"/>
                  <a:pt x="22952" y="16758"/>
                  <a:pt x="22994" y="16768"/>
                </a:cubicBezTo>
                <a:cubicBezTo>
                  <a:pt x="22994" y="16838"/>
                  <a:pt x="22963" y="16839"/>
                  <a:pt x="22895" y="16842"/>
                </a:cubicBezTo>
                <a:cubicBezTo>
                  <a:pt x="22763" y="16848"/>
                  <a:pt x="22630" y="16842"/>
                  <a:pt x="22498" y="16842"/>
                </a:cubicBezTo>
              </a:path>
              <a:path w="919" h="1191">
                <a:moveTo>
                  <a:pt x="23242" y="16768"/>
                </a:moveTo>
                <a:cubicBezTo>
                  <a:pt x="23349" y="16715"/>
                  <a:pt x="23351" y="16690"/>
                  <a:pt x="23416" y="166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7638" t="60293" r="10375" b="11693"/>
          <a:stretch/>
        </p:blipFill>
        <p:spPr>
          <a:xfrm>
            <a:off x="0" y="0"/>
            <a:ext cx="8964720" cy="4216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152800" y="1116000"/>
            <a:ext cx="384120" cy="642960"/>
          </a:xfrm>
          <a:custGeom>
            <a:avLst/>
            <a:gdLst/>
            <a:ahLst/>
            <a:rect l="l" t="t" r="r" b="b"/>
            <a:pathLst>
              <a:path w="1068" h="1787">
                <a:moveTo>
                  <a:pt x="6176" y="3324"/>
                </a:moveTo>
                <a:cubicBezTo>
                  <a:pt x="6176" y="3253"/>
                  <a:pt x="6169" y="3228"/>
                  <a:pt x="6201" y="3175"/>
                </a:cubicBezTo>
                <a:cubicBezTo>
                  <a:pt x="6201" y="3134"/>
                  <a:pt x="6210" y="3209"/>
                  <a:pt x="6201" y="3249"/>
                </a:cubicBezTo>
                <a:cubicBezTo>
                  <a:pt x="6172" y="3374"/>
                  <a:pt x="6176" y="3492"/>
                  <a:pt x="6176" y="3621"/>
                </a:cubicBezTo>
                <a:cubicBezTo>
                  <a:pt x="6176" y="3679"/>
                  <a:pt x="6176" y="3737"/>
                  <a:pt x="6176" y="3795"/>
                </a:cubicBezTo>
              </a:path>
              <a:path w="1068" h="1787">
                <a:moveTo>
                  <a:pt x="6077" y="3373"/>
                </a:moveTo>
                <a:cubicBezTo>
                  <a:pt x="6093" y="3304"/>
                  <a:pt x="6106" y="3174"/>
                  <a:pt x="6176" y="3125"/>
                </a:cubicBezTo>
                <a:cubicBezTo>
                  <a:pt x="6265" y="3062"/>
                  <a:pt x="6330" y="3125"/>
                  <a:pt x="6400" y="3175"/>
                </a:cubicBezTo>
                <a:cubicBezTo>
                  <a:pt x="6501" y="3247"/>
                  <a:pt x="6519" y="3325"/>
                  <a:pt x="6524" y="3448"/>
                </a:cubicBezTo>
                <a:cubicBezTo>
                  <a:pt x="6528" y="3549"/>
                  <a:pt x="6452" y="3626"/>
                  <a:pt x="6350" y="3646"/>
                </a:cubicBezTo>
                <a:cubicBezTo>
                  <a:pt x="6325" y="3646"/>
                  <a:pt x="6301" y="3646"/>
                  <a:pt x="6276" y="3646"/>
                </a:cubicBezTo>
              </a:path>
              <a:path w="1068" h="1787">
                <a:moveTo>
                  <a:pt x="6945" y="3944"/>
                </a:moveTo>
                <a:cubicBezTo>
                  <a:pt x="6970" y="3944"/>
                  <a:pt x="6995" y="3944"/>
                  <a:pt x="7020" y="3944"/>
                </a:cubicBezTo>
                <a:cubicBezTo>
                  <a:pt x="7080" y="3944"/>
                  <a:pt x="6808" y="3968"/>
                  <a:pt x="6796" y="3969"/>
                </a:cubicBezTo>
                <a:cubicBezTo>
                  <a:pt x="6606" y="3993"/>
                  <a:pt x="6417" y="4013"/>
                  <a:pt x="6226" y="4018"/>
                </a:cubicBezTo>
                <a:cubicBezTo>
                  <a:pt x="6138" y="4020"/>
                  <a:pt x="6065" y="4043"/>
                  <a:pt x="5978" y="4043"/>
                </a:cubicBezTo>
              </a:path>
              <a:path w="1068" h="1787">
                <a:moveTo>
                  <a:pt x="6474" y="4440"/>
                </a:moveTo>
                <a:cubicBezTo>
                  <a:pt x="6536" y="4411"/>
                  <a:pt x="6589" y="4380"/>
                  <a:pt x="6648" y="4366"/>
                </a:cubicBezTo>
                <a:cubicBezTo>
                  <a:pt x="6576" y="4366"/>
                  <a:pt x="6520" y="4369"/>
                  <a:pt x="6449" y="4390"/>
                </a:cubicBezTo>
                <a:cubicBezTo>
                  <a:pt x="6367" y="4414"/>
                  <a:pt x="6338" y="4435"/>
                  <a:pt x="6276" y="4490"/>
                </a:cubicBezTo>
                <a:cubicBezTo>
                  <a:pt x="6293" y="4576"/>
                  <a:pt x="6387" y="4618"/>
                  <a:pt x="6474" y="4638"/>
                </a:cubicBezTo>
                <a:cubicBezTo>
                  <a:pt x="6580" y="4662"/>
                  <a:pt x="6695" y="4659"/>
                  <a:pt x="6796" y="4713"/>
                </a:cubicBezTo>
                <a:cubicBezTo>
                  <a:pt x="6804" y="4721"/>
                  <a:pt x="6813" y="4730"/>
                  <a:pt x="6821" y="4738"/>
                </a:cubicBezTo>
                <a:cubicBezTo>
                  <a:pt x="6796" y="4827"/>
                  <a:pt x="6703" y="4872"/>
                  <a:pt x="6598" y="4887"/>
                </a:cubicBezTo>
                <a:cubicBezTo>
                  <a:pt x="6491" y="4887"/>
                  <a:pt x="6449" y="4887"/>
                  <a:pt x="6375" y="48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97080" y="2081160"/>
            <a:ext cx="625320" cy="231840"/>
          </a:xfrm>
          <a:custGeom>
            <a:avLst/>
            <a:gdLst/>
            <a:ahLst/>
            <a:rect l="l" t="t" r="r" b="b"/>
            <a:pathLst>
              <a:path w="1737" h="646">
                <a:moveTo>
                  <a:pt x="6102" y="5978"/>
                </a:moveTo>
                <a:cubicBezTo>
                  <a:pt x="6113" y="5944"/>
                  <a:pt x="6156" y="5927"/>
                  <a:pt x="6201" y="5904"/>
                </a:cubicBezTo>
                <a:cubicBezTo>
                  <a:pt x="6283" y="5861"/>
                  <a:pt x="6356" y="5797"/>
                  <a:pt x="6449" y="5779"/>
                </a:cubicBezTo>
                <a:cubicBezTo>
                  <a:pt x="6524" y="5765"/>
                  <a:pt x="6545" y="5820"/>
                  <a:pt x="6548" y="5879"/>
                </a:cubicBezTo>
                <a:cubicBezTo>
                  <a:pt x="6553" y="5969"/>
                  <a:pt x="6458" y="5997"/>
                  <a:pt x="6400" y="6052"/>
                </a:cubicBezTo>
                <a:cubicBezTo>
                  <a:pt x="6359" y="6091"/>
                  <a:pt x="6279" y="6147"/>
                  <a:pt x="6350" y="6201"/>
                </a:cubicBezTo>
                <a:cubicBezTo>
                  <a:pt x="6421" y="6256"/>
                  <a:pt x="6499" y="6277"/>
                  <a:pt x="6573" y="6325"/>
                </a:cubicBezTo>
                <a:cubicBezTo>
                  <a:pt x="6605" y="6346"/>
                  <a:pt x="6615" y="6368"/>
                  <a:pt x="6623" y="6400"/>
                </a:cubicBezTo>
                <a:cubicBezTo>
                  <a:pt x="6546" y="6428"/>
                  <a:pt x="6484" y="6424"/>
                  <a:pt x="6400" y="6424"/>
                </a:cubicBezTo>
                <a:cubicBezTo>
                  <a:pt x="6375" y="6424"/>
                  <a:pt x="6350" y="6424"/>
                  <a:pt x="6325" y="6424"/>
                </a:cubicBezTo>
              </a:path>
              <a:path w="1737" h="646">
                <a:moveTo>
                  <a:pt x="7045" y="6028"/>
                </a:moveTo>
                <a:cubicBezTo>
                  <a:pt x="7123" y="6006"/>
                  <a:pt x="7163" y="6008"/>
                  <a:pt x="7218" y="5953"/>
                </a:cubicBezTo>
                <a:cubicBezTo>
                  <a:pt x="7198" y="5922"/>
                  <a:pt x="7124" y="5916"/>
                  <a:pt x="7069" y="5928"/>
                </a:cubicBezTo>
                <a:cubicBezTo>
                  <a:pt x="7005" y="5942"/>
                  <a:pt x="6870" y="6006"/>
                  <a:pt x="6846" y="6077"/>
                </a:cubicBezTo>
                <a:cubicBezTo>
                  <a:pt x="6815" y="6169"/>
                  <a:pt x="6921" y="6184"/>
                  <a:pt x="6970" y="6201"/>
                </a:cubicBezTo>
                <a:cubicBezTo>
                  <a:pt x="7023" y="6220"/>
                  <a:pt x="7066" y="6231"/>
                  <a:pt x="7119" y="6251"/>
                </a:cubicBezTo>
                <a:cubicBezTo>
                  <a:pt x="7119" y="6314"/>
                  <a:pt x="7112" y="6321"/>
                  <a:pt x="7045" y="6325"/>
                </a:cubicBezTo>
                <a:cubicBezTo>
                  <a:pt x="6968" y="6330"/>
                  <a:pt x="6916" y="6316"/>
                  <a:pt x="6846" y="6300"/>
                </a:cubicBezTo>
                <a:cubicBezTo>
                  <a:pt x="6838" y="6300"/>
                  <a:pt x="6829" y="6300"/>
                  <a:pt x="6821" y="6300"/>
                </a:cubicBezTo>
                <a:cubicBezTo>
                  <a:pt x="6853" y="6237"/>
                  <a:pt x="6905" y="6215"/>
                  <a:pt x="6970" y="6176"/>
                </a:cubicBezTo>
                <a:cubicBezTo>
                  <a:pt x="7043" y="6133"/>
                  <a:pt x="7090" y="6106"/>
                  <a:pt x="7169" y="6077"/>
                </a:cubicBezTo>
              </a:path>
              <a:path w="1737" h="646">
                <a:moveTo>
                  <a:pt x="7491" y="5953"/>
                </a:moveTo>
                <a:cubicBezTo>
                  <a:pt x="7558" y="5868"/>
                  <a:pt x="7565" y="5840"/>
                  <a:pt x="7516" y="5928"/>
                </a:cubicBezTo>
                <a:cubicBezTo>
                  <a:pt x="7488" y="5977"/>
                  <a:pt x="7423" y="6068"/>
                  <a:pt x="7441" y="6127"/>
                </a:cubicBezTo>
                <a:cubicBezTo>
                  <a:pt x="7460" y="6189"/>
                  <a:pt x="7515" y="6206"/>
                  <a:pt x="7565" y="6226"/>
                </a:cubicBezTo>
                <a:cubicBezTo>
                  <a:pt x="7612" y="6245"/>
                  <a:pt x="7659" y="6275"/>
                  <a:pt x="7665" y="6325"/>
                </a:cubicBezTo>
                <a:cubicBezTo>
                  <a:pt x="7672" y="6389"/>
                  <a:pt x="7606" y="6375"/>
                  <a:pt x="7565" y="6375"/>
                </a:cubicBezTo>
                <a:cubicBezTo>
                  <a:pt x="7540" y="6375"/>
                  <a:pt x="7516" y="6375"/>
                  <a:pt x="7491" y="6375"/>
                </a:cubicBezTo>
              </a:path>
              <a:path w="1737" h="646">
                <a:moveTo>
                  <a:pt x="7789" y="5928"/>
                </a:moveTo>
                <a:cubicBezTo>
                  <a:pt x="7828" y="5869"/>
                  <a:pt x="7857" y="5857"/>
                  <a:pt x="7813" y="5829"/>
                </a:cubicBezTo>
                <a:cubicBezTo>
                  <a:pt x="7718" y="5829"/>
                  <a:pt x="7635" y="5848"/>
                  <a:pt x="7541" y="58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05000" y="2401920"/>
            <a:ext cx="635040" cy="349200"/>
          </a:xfrm>
          <a:custGeom>
            <a:avLst/>
            <a:gdLst/>
            <a:ahLst/>
            <a:rect l="l" t="t" r="r" b="b"/>
            <a:pathLst>
              <a:path w="1762" h="969">
                <a:moveTo>
                  <a:pt x="7888" y="6747"/>
                </a:moveTo>
                <a:cubicBezTo>
                  <a:pt x="7737" y="6747"/>
                  <a:pt x="7591" y="6729"/>
                  <a:pt x="7441" y="6722"/>
                </a:cubicBezTo>
                <a:cubicBezTo>
                  <a:pt x="7168" y="6710"/>
                  <a:pt x="6897" y="6676"/>
                  <a:pt x="6623" y="6672"/>
                </a:cubicBezTo>
                <a:cubicBezTo>
                  <a:pt x="6458" y="6670"/>
                  <a:pt x="6292" y="6672"/>
                  <a:pt x="6127" y="6672"/>
                </a:cubicBezTo>
              </a:path>
              <a:path w="1762" h="969">
                <a:moveTo>
                  <a:pt x="6300" y="7094"/>
                </a:moveTo>
                <a:cubicBezTo>
                  <a:pt x="6251" y="7116"/>
                  <a:pt x="6249" y="7119"/>
                  <a:pt x="6201" y="7119"/>
                </a:cubicBezTo>
                <a:cubicBezTo>
                  <a:pt x="6261" y="7083"/>
                  <a:pt x="6325" y="7073"/>
                  <a:pt x="6400" y="7069"/>
                </a:cubicBezTo>
                <a:cubicBezTo>
                  <a:pt x="6462" y="7066"/>
                  <a:pt x="6543" y="7090"/>
                  <a:pt x="6524" y="7169"/>
                </a:cubicBezTo>
                <a:cubicBezTo>
                  <a:pt x="6506" y="7245"/>
                  <a:pt x="6427" y="7274"/>
                  <a:pt x="6375" y="7317"/>
                </a:cubicBezTo>
                <a:cubicBezTo>
                  <a:pt x="6333" y="7352"/>
                  <a:pt x="6311" y="7372"/>
                  <a:pt x="6300" y="7417"/>
                </a:cubicBezTo>
                <a:cubicBezTo>
                  <a:pt x="6366" y="7468"/>
                  <a:pt x="6425" y="7467"/>
                  <a:pt x="6499" y="7491"/>
                </a:cubicBezTo>
                <a:cubicBezTo>
                  <a:pt x="6542" y="7513"/>
                  <a:pt x="6554" y="7517"/>
                  <a:pt x="6573" y="7541"/>
                </a:cubicBezTo>
                <a:cubicBezTo>
                  <a:pt x="6573" y="7611"/>
                  <a:pt x="6521" y="7629"/>
                  <a:pt x="6449" y="7640"/>
                </a:cubicBezTo>
                <a:cubicBezTo>
                  <a:pt x="6375" y="7640"/>
                  <a:pt x="6350" y="7640"/>
                  <a:pt x="6300" y="7640"/>
                </a:cubicBezTo>
              </a:path>
              <a:path w="1762" h="969">
                <a:moveTo>
                  <a:pt x="6722" y="7640"/>
                </a:moveTo>
                <a:cubicBezTo>
                  <a:pt x="6739" y="7640"/>
                  <a:pt x="6755" y="7640"/>
                  <a:pt x="6772" y="7640"/>
                </a:cubicBezTo>
              </a:path>
              <a:path w="1762" h="969">
                <a:moveTo>
                  <a:pt x="7193" y="7218"/>
                </a:moveTo>
                <a:cubicBezTo>
                  <a:pt x="7184" y="7165"/>
                  <a:pt x="7165" y="7149"/>
                  <a:pt x="7094" y="7169"/>
                </a:cubicBezTo>
                <a:cubicBezTo>
                  <a:pt x="7020" y="7190"/>
                  <a:pt x="6953" y="7223"/>
                  <a:pt x="6945" y="7293"/>
                </a:cubicBezTo>
                <a:cubicBezTo>
                  <a:pt x="6933" y="7393"/>
                  <a:pt x="7048" y="7432"/>
                  <a:pt x="7119" y="7466"/>
                </a:cubicBezTo>
                <a:cubicBezTo>
                  <a:pt x="7198" y="7504"/>
                  <a:pt x="7218" y="7502"/>
                  <a:pt x="7218" y="7590"/>
                </a:cubicBezTo>
                <a:cubicBezTo>
                  <a:pt x="7136" y="7600"/>
                  <a:pt x="7100" y="7626"/>
                  <a:pt x="7020" y="7590"/>
                </a:cubicBezTo>
                <a:cubicBezTo>
                  <a:pt x="6951" y="7559"/>
                  <a:pt x="6954" y="7501"/>
                  <a:pt x="6995" y="7441"/>
                </a:cubicBezTo>
                <a:cubicBezTo>
                  <a:pt x="7044" y="7369"/>
                  <a:pt x="7119" y="7350"/>
                  <a:pt x="7193" y="7317"/>
                </a:cubicBezTo>
              </a:path>
              <a:path w="1762" h="969">
                <a:moveTo>
                  <a:pt x="7466" y="7268"/>
                </a:moveTo>
                <a:cubicBezTo>
                  <a:pt x="7492" y="7233"/>
                  <a:pt x="7491" y="7237"/>
                  <a:pt x="7491" y="7193"/>
                </a:cubicBezTo>
                <a:cubicBezTo>
                  <a:pt x="7437" y="7220"/>
                  <a:pt x="7421" y="7275"/>
                  <a:pt x="7417" y="7342"/>
                </a:cubicBezTo>
                <a:cubicBezTo>
                  <a:pt x="7412" y="7429"/>
                  <a:pt x="7461" y="7466"/>
                  <a:pt x="7541" y="7491"/>
                </a:cubicBezTo>
                <a:cubicBezTo>
                  <a:pt x="7589" y="7506"/>
                  <a:pt x="7637" y="7478"/>
                  <a:pt x="7665" y="7541"/>
                </a:cubicBezTo>
                <a:cubicBezTo>
                  <a:pt x="7698" y="7613"/>
                  <a:pt x="7534" y="7590"/>
                  <a:pt x="7516" y="7590"/>
                </a:cubicBezTo>
              </a:path>
              <a:path w="1762" h="969">
                <a:moveTo>
                  <a:pt x="7367" y="7392"/>
                </a:moveTo>
                <a:cubicBezTo>
                  <a:pt x="7482" y="7269"/>
                  <a:pt x="7562" y="7189"/>
                  <a:pt x="7739" y="7169"/>
                </a:cubicBezTo>
                <a:cubicBezTo>
                  <a:pt x="7772" y="7169"/>
                  <a:pt x="7805" y="7169"/>
                  <a:pt x="7838" y="71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52880" y="2330280"/>
            <a:ext cx="785880" cy="214560"/>
          </a:xfrm>
          <a:custGeom>
            <a:avLst/>
            <a:gdLst/>
            <a:ahLst/>
            <a:rect l="l" t="t" r="r" b="b"/>
            <a:pathLst>
              <a:path w="2184" h="596">
                <a:moveTo>
                  <a:pt x="8756" y="6896"/>
                </a:moveTo>
                <a:cubicBezTo>
                  <a:pt x="8785" y="6799"/>
                  <a:pt x="8763" y="6796"/>
                  <a:pt x="8855" y="6796"/>
                </a:cubicBezTo>
                <a:cubicBezTo>
                  <a:pt x="8905" y="6796"/>
                  <a:pt x="8954" y="6796"/>
                  <a:pt x="9004" y="6796"/>
                </a:cubicBezTo>
              </a:path>
              <a:path w="2184" h="596">
                <a:moveTo>
                  <a:pt x="8954" y="6921"/>
                </a:moveTo>
                <a:cubicBezTo>
                  <a:pt x="8929" y="6929"/>
                  <a:pt x="8905" y="6937"/>
                  <a:pt x="8880" y="6945"/>
                </a:cubicBezTo>
                <a:cubicBezTo>
                  <a:pt x="8896" y="7027"/>
                  <a:pt x="8943" y="7035"/>
                  <a:pt x="9029" y="7045"/>
                </a:cubicBezTo>
                <a:cubicBezTo>
                  <a:pt x="9103" y="7045"/>
                  <a:pt x="9128" y="7045"/>
                  <a:pt x="9178" y="7045"/>
                </a:cubicBezTo>
              </a:path>
              <a:path w="2184" h="596">
                <a:moveTo>
                  <a:pt x="9624" y="6524"/>
                </a:moveTo>
                <a:cubicBezTo>
                  <a:pt x="9641" y="6507"/>
                  <a:pt x="9657" y="6491"/>
                  <a:pt x="9674" y="6474"/>
                </a:cubicBezTo>
                <a:cubicBezTo>
                  <a:pt x="9691" y="6576"/>
                  <a:pt x="9699" y="6666"/>
                  <a:pt x="9699" y="6772"/>
                </a:cubicBezTo>
                <a:cubicBezTo>
                  <a:pt x="9699" y="6871"/>
                  <a:pt x="9699" y="6904"/>
                  <a:pt x="9699" y="6970"/>
                </a:cubicBezTo>
              </a:path>
              <a:path w="2184" h="596">
                <a:moveTo>
                  <a:pt x="9947" y="6772"/>
                </a:moveTo>
                <a:cubicBezTo>
                  <a:pt x="9947" y="6719"/>
                  <a:pt x="9937" y="6670"/>
                  <a:pt x="9971" y="6623"/>
                </a:cubicBezTo>
                <a:cubicBezTo>
                  <a:pt x="10018" y="6558"/>
                  <a:pt x="10122" y="6510"/>
                  <a:pt x="10195" y="6573"/>
                </a:cubicBezTo>
                <a:cubicBezTo>
                  <a:pt x="10276" y="6643"/>
                  <a:pt x="10298" y="6780"/>
                  <a:pt x="10269" y="6871"/>
                </a:cubicBezTo>
                <a:cubicBezTo>
                  <a:pt x="10236" y="6974"/>
                  <a:pt x="10148" y="6946"/>
                  <a:pt x="10071" y="6921"/>
                </a:cubicBezTo>
              </a:path>
              <a:path w="2184" h="596">
                <a:moveTo>
                  <a:pt x="10592" y="6697"/>
                </a:moveTo>
                <a:cubicBezTo>
                  <a:pt x="10614" y="6720"/>
                  <a:pt x="10622" y="6725"/>
                  <a:pt x="10616" y="6747"/>
                </a:cubicBezTo>
                <a:cubicBezTo>
                  <a:pt x="10567" y="6747"/>
                  <a:pt x="10516" y="6751"/>
                  <a:pt x="10492" y="6697"/>
                </a:cubicBezTo>
                <a:cubicBezTo>
                  <a:pt x="10463" y="6631"/>
                  <a:pt x="10653" y="6572"/>
                  <a:pt x="10691" y="6573"/>
                </a:cubicBezTo>
                <a:cubicBezTo>
                  <a:pt x="10831" y="6577"/>
                  <a:pt x="10939" y="6738"/>
                  <a:pt x="10939" y="6871"/>
                </a:cubicBezTo>
                <a:cubicBezTo>
                  <a:pt x="10939" y="7026"/>
                  <a:pt x="10797" y="7098"/>
                  <a:pt x="10666" y="7045"/>
                </a:cubicBezTo>
                <a:cubicBezTo>
                  <a:pt x="10586" y="6991"/>
                  <a:pt x="10558" y="6968"/>
                  <a:pt x="10542" y="68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52960" y="2401920"/>
            <a:ext cx="79200" cy="108000"/>
          </a:xfrm>
          <a:custGeom>
            <a:avLst/>
            <a:gdLst/>
            <a:ahLst/>
            <a:rect l="l" t="t" r="r" b="b"/>
            <a:pathLst>
              <a:path w="224" h="299">
                <a:moveTo>
                  <a:pt x="11683" y="6747"/>
                </a:moveTo>
                <a:cubicBezTo>
                  <a:pt x="11703" y="6706"/>
                  <a:pt x="11712" y="6700"/>
                  <a:pt x="11708" y="6672"/>
                </a:cubicBezTo>
                <a:cubicBezTo>
                  <a:pt x="11656" y="6672"/>
                  <a:pt x="11590" y="6666"/>
                  <a:pt x="11559" y="6722"/>
                </a:cubicBezTo>
                <a:cubicBezTo>
                  <a:pt x="11530" y="6775"/>
                  <a:pt x="11602" y="6804"/>
                  <a:pt x="11633" y="6821"/>
                </a:cubicBezTo>
                <a:cubicBezTo>
                  <a:pt x="11680" y="6846"/>
                  <a:pt x="11745" y="6842"/>
                  <a:pt x="11757" y="6896"/>
                </a:cubicBezTo>
                <a:cubicBezTo>
                  <a:pt x="11771" y="6961"/>
                  <a:pt x="11673" y="6968"/>
                  <a:pt x="11633" y="6970"/>
                </a:cubicBezTo>
                <a:cubicBezTo>
                  <a:pt x="11584" y="6970"/>
                  <a:pt x="11567" y="6970"/>
                  <a:pt x="11534" y="6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54840" y="1901880"/>
            <a:ext cx="919080" cy="250920"/>
          </a:xfrm>
          <a:custGeom>
            <a:avLst/>
            <a:gdLst/>
            <a:ahLst/>
            <a:rect l="l" t="t" r="r" b="b"/>
            <a:pathLst>
              <a:path w="2555" h="696">
                <a:moveTo>
                  <a:pt x="16818" y="5407"/>
                </a:moveTo>
                <a:cubicBezTo>
                  <a:pt x="16899" y="5407"/>
                  <a:pt x="16859" y="5370"/>
                  <a:pt x="16917" y="5333"/>
                </a:cubicBezTo>
                <a:cubicBezTo>
                  <a:pt x="16984" y="5290"/>
                  <a:pt x="17070" y="5265"/>
                  <a:pt x="17140" y="5308"/>
                </a:cubicBezTo>
                <a:cubicBezTo>
                  <a:pt x="17218" y="5356"/>
                  <a:pt x="17152" y="5465"/>
                  <a:pt x="17115" y="5507"/>
                </a:cubicBezTo>
                <a:cubicBezTo>
                  <a:pt x="17067" y="5561"/>
                  <a:pt x="16994" y="5586"/>
                  <a:pt x="16966" y="5655"/>
                </a:cubicBezTo>
                <a:cubicBezTo>
                  <a:pt x="16966" y="5663"/>
                  <a:pt x="16966" y="5672"/>
                  <a:pt x="16966" y="5680"/>
                </a:cubicBezTo>
                <a:cubicBezTo>
                  <a:pt x="17040" y="5717"/>
                  <a:pt x="17116" y="5744"/>
                  <a:pt x="17190" y="5779"/>
                </a:cubicBezTo>
                <a:cubicBezTo>
                  <a:pt x="17237" y="5801"/>
                  <a:pt x="17304" y="5859"/>
                  <a:pt x="17239" y="5904"/>
                </a:cubicBezTo>
                <a:cubicBezTo>
                  <a:pt x="17159" y="5959"/>
                  <a:pt x="17084" y="5953"/>
                  <a:pt x="16991" y="5953"/>
                </a:cubicBezTo>
              </a:path>
              <a:path w="2555" h="696">
                <a:moveTo>
                  <a:pt x="17190" y="5928"/>
                </a:moveTo>
                <a:cubicBezTo>
                  <a:pt x="17302" y="5935"/>
                  <a:pt x="17340" y="5958"/>
                  <a:pt x="17438" y="5978"/>
                </a:cubicBezTo>
              </a:path>
              <a:path w="2555" h="696">
                <a:moveTo>
                  <a:pt x="17859" y="5531"/>
                </a:moveTo>
                <a:cubicBezTo>
                  <a:pt x="17898" y="5493"/>
                  <a:pt x="17915" y="5491"/>
                  <a:pt x="17909" y="5457"/>
                </a:cubicBezTo>
                <a:cubicBezTo>
                  <a:pt x="17860" y="5457"/>
                  <a:pt x="17772" y="5461"/>
                  <a:pt x="17735" y="5482"/>
                </a:cubicBezTo>
                <a:cubicBezTo>
                  <a:pt x="17675" y="5517"/>
                  <a:pt x="17626" y="5594"/>
                  <a:pt x="17686" y="5655"/>
                </a:cubicBezTo>
                <a:cubicBezTo>
                  <a:pt x="17730" y="5700"/>
                  <a:pt x="17810" y="5712"/>
                  <a:pt x="17859" y="5755"/>
                </a:cubicBezTo>
                <a:cubicBezTo>
                  <a:pt x="17895" y="5787"/>
                  <a:pt x="17902" y="5846"/>
                  <a:pt x="17859" y="5879"/>
                </a:cubicBezTo>
                <a:cubicBezTo>
                  <a:pt x="17810" y="5917"/>
                  <a:pt x="17744" y="5904"/>
                  <a:pt x="17686" y="5904"/>
                </a:cubicBezTo>
                <a:cubicBezTo>
                  <a:pt x="17686" y="5812"/>
                  <a:pt x="17687" y="5830"/>
                  <a:pt x="17735" y="5755"/>
                </a:cubicBezTo>
                <a:cubicBezTo>
                  <a:pt x="17775" y="5692"/>
                  <a:pt x="17827" y="5657"/>
                  <a:pt x="17884" y="5606"/>
                </a:cubicBezTo>
              </a:path>
              <a:path w="2555" h="696">
                <a:moveTo>
                  <a:pt x="18207" y="5482"/>
                </a:moveTo>
                <a:cubicBezTo>
                  <a:pt x="18246" y="5442"/>
                  <a:pt x="18269" y="5430"/>
                  <a:pt x="18281" y="5383"/>
                </a:cubicBezTo>
                <a:cubicBezTo>
                  <a:pt x="18225" y="5410"/>
                  <a:pt x="18212" y="5464"/>
                  <a:pt x="18207" y="5531"/>
                </a:cubicBezTo>
                <a:cubicBezTo>
                  <a:pt x="18202" y="5593"/>
                  <a:pt x="18251" y="5621"/>
                  <a:pt x="18306" y="5631"/>
                </a:cubicBezTo>
                <a:cubicBezTo>
                  <a:pt x="18353" y="5639"/>
                  <a:pt x="18426" y="5653"/>
                  <a:pt x="18455" y="5705"/>
                </a:cubicBezTo>
                <a:cubicBezTo>
                  <a:pt x="18476" y="5742"/>
                  <a:pt x="18432" y="5787"/>
                  <a:pt x="18405" y="5804"/>
                </a:cubicBezTo>
                <a:cubicBezTo>
                  <a:pt x="18348" y="5840"/>
                  <a:pt x="18296" y="5829"/>
                  <a:pt x="18231" y="5829"/>
                </a:cubicBezTo>
              </a:path>
              <a:path w="2555" h="696">
                <a:moveTo>
                  <a:pt x="18380" y="5507"/>
                </a:moveTo>
                <a:cubicBezTo>
                  <a:pt x="18401" y="5493"/>
                  <a:pt x="18618" y="5383"/>
                  <a:pt x="18579" y="5383"/>
                </a:cubicBezTo>
                <a:cubicBezTo>
                  <a:pt x="18502" y="5391"/>
                  <a:pt x="18434" y="5402"/>
                  <a:pt x="18355" y="5407"/>
                </a:cubicBezTo>
              </a:path>
              <a:path w="2555" h="696">
                <a:moveTo>
                  <a:pt x="19100" y="5482"/>
                </a:moveTo>
                <a:cubicBezTo>
                  <a:pt x="19152" y="5459"/>
                  <a:pt x="19170" y="5457"/>
                  <a:pt x="19224" y="5457"/>
                </a:cubicBezTo>
                <a:cubicBezTo>
                  <a:pt x="19232" y="5457"/>
                  <a:pt x="19240" y="5457"/>
                  <a:pt x="19248" y="5457"/>
                </a:cubicBezTo>
                <a:cubicBezTo>
                  <a:pt x="19225" y="5505"/>
                  <a:pt x="19161" y="5528"/>
                  <a:pt x="19124" y="5581"/>
                </a:cubicBezTo>
                <a:cubicBezTo>
                  <a:pt x="19102" y="5613"/>
                  <a:pt x="19040" y="5670"/>
                  <a:pt x="19025" y="5705"/>
                </a:cubicBezTo>
                <a:cubicBezTo>
                  <a:pt x="19025" y="5713"/>
                  <a:pt x="19025" y="5722"/>
                  <a:pt x="19025" y="5730"/>
                </a:cubicBezTo>
                <a:cubicBezTo>
                  <a:pt x="19098" y="5730"/>
                  <a:pt x="19153" y="5715"/>
                  <a:pt x="19224" y="5705"/>
                </a:cubicBezTo>
                <a:cubicBezTo>
                  <a:pt x="19271" y="5698"/>
                  <a:pt x="19325" y="5705"/>
                  <a:pt x="19372" y="57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24840" y="1785960"/>
            <a:ext cx="1579320" cy="303120"/>
          </a:xfrm>
          <a:custGeom>
            <a:avLst/>
            <a:gdLst/>
            <a:ahLst/>
            <a:rect l="l" t="t" r="r" b="b"/>
            <a:pathLst>
              <a:path w="4391" h="844">
                <a:moveTo>
                  <a:pt x="20092" y="5457"/>
                </a:moveTo>
                <a:cubicBezTo>
                  <a:pt x="20069" y="5434"/>
                  <a:pt x="20061" y="5430"/>
                  <a:pt x="20067" y="5407"/>
                </a:cubicBezTo>
                <a:cubicBezTo>
                  <a:pt x="20116" y="5369"/>
                  <a:pt x="20180" y="5327"/>
                  <a:pt x="20241" y="5308"/>
                </a:cubicBezTo>
                <a:cubicBezTo>
                  <a:pt x="20274" y="5308"/>
                  <a:pt x="20290" y="5308"/>
                  <a:pt x="20315" y="5308"/>
                </a:cubicBezTo>
                <a:cubicBezTo>
                  <a:pt x="20315" y="5366"/>
                  <a:pt x="20293" y="5385"/>
                  <a:pt x="20265" y="5432"/>
                </a:cubicBezTo>
                <a:cubicBezTo>
                  <a:pt x="20240" y="5475"/>
                  <a:pt x="20172" y="5502"/>
                  <a:pt x="20191" y="5556"/>
                </a:cubicBezTo>
                <a:cubicBezTo>
                  <a:pt x="20218" y="5631"/>
                  <a:pt x="20321" y="5646"/>
                  <a:pt x="20389" y="5680"/>
                </a:cubicBezTo>
                <a:cubicBezTo>
                  <a:pt x="20441" y="5706"/>
                  <a:pt x="20452" y="5706"/>
                  <a:pt x="20464" y="5755"/>
                </a:cubicBezTo>
                <a:cubicBezTo>
                  <a:pt x="20394" y="5809"/>
                  <a:pt x="20354" y="5804"/>
                  <a:pt x="20265" y="5804"/>
                </a:cubicBezTo>
                <a:cubicBezTo>
                  <a:pt x="20249" y="5804"/>
                  <a:pt x="20232" y="5804"/>
                  <a:pt x="20216" y="5804"/>
                </a:cubicBezTo>
              </a:path>
              <a:path w="4391" h="844">
                <a:moveTo>
                  <a:pt x="20662" y="5755"/>
                </a:moveTo>
                <a:cubicBezTo>
                  <a:pt x="20739" y="5772"/>
                  <a:pt x="20771" y="5758"/>
                  <a:pt x="20786" y="5804"/>
                </a:cubicBezTo>
              </a:path>
              <a:path w="4391" h="844">
                <a:moveTo>
                  <a:pt x="21084" y="5358"/>
                </a:moveTo>
                <a:cubicBezTo>
                  <a:pt x="21105" y="5334"/>
                  <a:pt x="21191" y="5240"/>
                  <a:pt x="21109" y="5209"/>
                </a:cubicBezTo>
                <a:cubicBezTo>
                  <a:pt x="21033" y="5180"/>
                  <a:pt x="20934" y="5228"/>
                  <a:pt x="20886" y="5283"/>
                </a:cubicBezTo>
                <a:cubicBezTo>
                  <a:pt x="20849" y="5326"/>
                  <a:pt x="20792" y="5448"/>
                  <a:pt x="20886" y="5482"/>
                </a:cubicBezTo>
                <a:cubicBezTo>
                  <a:pt x="20977" y="5515"/>
                  <a:pt x="21009" y="5406"/>
                  <a:pt x="21059" y="5383"/>
                </a:cubicBezTo>
                <a:cubicBezTo>
                  <a:pt x="21132" y="5349"/>
                  <a:pt x="21184" y="5428"/>
                  <a:pt x="21208" y="5482"/>
                </a:cubicBezTo>
                <a:cubicBezTo>
                  <a:pt x="21234" y="5542"/>
                  <a:pt x="21250" y="5593"/>
                  <a:pt x="21258" y="5655"/>
                </a:cubicBezTo>
              </a:path>
              <a:path w="4391" h="844">
                <a:moveTo>
                  <a:pt x="21878" y="5333"/>
                </a:moveTo>
                <a:cubicBezTo>
                  <a:pt x="21918" y="5313"/>
                  <a:pt x="21924" y="5304"/>
                  <a:pt x="21952" y="5308"/>
                </a:cubicBezTo>
                <a:cubicBezTo>
                  <a:pt x="21904" y="5356"/>
                  <a:pt x="21852" y="5385"/>
                  <a:pt x="21803" y="5432"/>
                </a:cubicBezTo>
                <a:cubicBezTo>
                  <a:pt x="21761" y="5471"/>
                  <a:pt x="21701" y="5539"/>
                  <a:pt x="21729" y="5606"/>
                </a:cubicBezTo>
                <a:cubicBezTo>
                  <a:pt x="21748" y="5652"/>
                  <a:pt x="21841" y="5631"/>
                  <a:pt x="21878" y="5631"/>
                </a:cubicBezTo>
                <a:cubicBezTo>
                  <a:pt x="21940" y="5631"/>
                  <a:pt x="22003" y="5610"/>
                  <a:pt x="22051" y="5581"/>
                </a:cubicBezTo>
              </a:path>
              <a:path w="4391" h="844">
                <a:moveTo>
                  <a:pt x="22523" y="5308"/>
                </a:moveTo>
                <a:cubicBezTo>
                  <a:pt x="22506" y="5308"/>
                  <a:pt x="22490" y="5308"/>
                  <a:pt x="22473" y="5308"/>
                </a:cubicBezTo>
                <a:cubicBezTo>
                  <a:pt x="22487" y="5254"/>
                  <a:pt x="22521" y="5236"/>
                  <a:pt x="22572" y="5209"/>
                </a:cubicBezTo>
                <a:cubicBezTo>
                  <a:pt x="22646" y="5170"/>
                  <a:pt x="22688" y="5159"/>
                  <a:pt x="22771" y="5159"/>
                </a:cubicBezTo>
                <a:cubicBezTo>
                  <a:pt x="22779" y="5159"/>
                  <a:pt x="22788" y="5159"/>
                  <a:pt x="22796" y="5159"/>
                </a:cubicBezTo>
                <a:cubicBezTo>
                  <a:pt x="22796" y="5231"/>
                  <a:pt x="22803" y="5213"/>
                  <a:pt x="22746" y="5259"/>
                </a:cubicBezTo>
                <a:cubicBezTo>
                  <a:pt x="22706" y="5291"/>
                  <a:pt x="22684" y="5344"/>
                  <a:pt x="22647" y="5383"/>
                </a:cubicBezTo>
                <a:cubicBezTo>
                  <a:pt x="22672" y="5432"/>
                  <a:pt x="22723" y="5446"/>
                  <a:pt x="22771" y="5482"/>
                </a:cubicBezTo>
                <a:cubicBezTo>
                  <a:pt x="22819" y="5518"/>
                  <a:pt x="22845" y="5520"/>
                  <a:pt x="22845" y="5581"/>
                </a:cubicBezTo>
                <a:cubicBezTo>
                  <a:pt x="22845" y="5650"/>
                  <a:pt x="22740" y="5631"/>
                  <a:pt x="22696" y="5631"/>
                </a:cubicBezTo>
                <a:cubicBezTo>
                  <a:pt x="22643" y="5631"/>
                  <a:pt x="22598" y="5647"/>
                  <a:pt x="22547" y="5655"/>
                </a:cubicBezTo>
              </a:path>
              <a:path w="4391" h="844">
                <a:moveTo>
                  <a:pt x="23044" y="5631"/>
                </a:moveTo>
                <a:cubicBezTo>
                  <a:pt x="23114" y="5659"/>
                  <a:pt x="23128" y="5643"/>
                  <a:pt x="23143" y="5705"/>
                </a:cubicBezTo>
              </a:path>
              <a:path w="4391" h="844">
                <a:moveTo>
                  <a:pt x="23490" y="5209"/>
                </a:moveTo>
                <a:cubicBezTo>
                  <a:pt x="23531" y="5199"/>
                  <a:pt x="23559" y="5181"/>
                  <a:pt x="23564" y="5135"/>
                </a:cubicBezTo>
                <a:cubicBezTo>
                  <a:pt x="23571" y="5074"/>
                  <a:pt x="23508" y="5064"/>
                  <a:pt x="23465" y="5060"/>
                </a:cubicBezTo>
                <a:cubicBezTo>
                  <a:pt x="23386" y="5053"/>
                  <a:pt x="23341" y="5181"/>
                  <a:pt x="23316" y="5234"/>
                </a:cubicBezTo>
                <a:cubicBezTo>
                  <a:pt x="23287" y="5296"/>
                  <a:pt x="23285" y="5304"/>
                  <a:pt x="23316" y="5358"/>
                </a:cubicBezTo>
                <a:cubicBezTo>
                  <a:pt x="23374" y="5344"/>
                  <a:pt x="23397" y="5280"/>
                  <a:pt x="23440" y="5234"/>
                </a:cubicBezTo>
                <a:cubicBezTo>
                  <a:pt x="23468" y="5204"/>
                  <a:pt x="23479" y="5193"/>
                  <a:pt x="23515" y="5184"/>
                </a:cubicBezTo>
                <a:cubicBezTo>
                  <a:pt x="23570" y="5253"/>
                  <a:pt x="23564" y="5295"/>
                  <a:pt x="23564" y="5383"/>
                </a:cubicBezTo>
                <a:cubicBezTo>
                  <a:pt x="23564" y="5441"/>
                  <a:pt x="23564" y="5449"/>
                  <a:pt x="23564" y="5482"/>
                </a:cubicBezTo>
              </a:path>
              <a:path w="4391" h="844">
                <a:moveTo>
                  <a:pt x="23862" y="5110"/>
                </a:moveTo>
                <a:cubicBezTo>
                  <a:pt x="23867" y="5105"/>
                  <a:pt x="23985" y="5025"/>
                  <a:pt x="23937" y="5060"/>
                </a:cubicBezTo>
                <a:cubicBezTo>
                  <a:pt x="23909" y="5080"/>
                  <a:pt x="23907" y="5108"/>
                  <a:pt x="23887" y="5135"/>
                </a:cubicBezTo>
                <a:cubicBezTo>
                  <a:pt x="23903" y="5181"/>
                  <a:pt x="23937" y="5166"/>
                  <a:pt x="23986" y="5184"/>
                </a:cubicBezTo>
                <a:cubicBezTo>
                  <a:pt x="24024" y="5198"/>
                  <a:pt x="24138" y="5217"/>
                  <a:pt x="24160" y="5259"/>
                </a:cubicBezTo>
                <a:cubicBezTo>
                  <a:pt x="24178" y="5295"/>
                  <a:pt x="24168" y="5409"/>
                  <a:pt x="24135" y="5432"/>
                </a:cubicBezTo>
                <a:cubicBezTo>
                  <a:pt x="24091" y="5454"/>
                  <a:pt x="24080" y="5457"/>
                  <a:pt x="24061" y="5482"/>
                </a:cubicBezTo>
              </a:path>
              <a:path w="4391" h="844">
                <a:moveTo>
                  <a:pt x="23937" y="5209"/>
                </a:moveTo>
                <a:cubicBezTo>
                  <a:pt x="24055" y="5071"/>
                  <a:pt x="24102" y="4977"/>
                  <a:pt x="24284" y="4961"/>
                </a:cubicBezTo>
                <a:cubicBezTo>
                  <a:pt x="24341" y="4956"/>
                  <a:pt x="24400" y="4961"/>
                  <a:pt x="24457" y="49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00080" y="1517760"/>
            <a:ext cx="662040" cy="277560"/>
          </a:xfrm>
          <a:custGeom>
            <a:avLst/>
            <a:gdLst/>
            <a:ahLst/>
            <a:rect l="l" t="t" r="r" b="b"/>
            <a:pathLst>
              <a:path w="1837" h="770">
                <a:moveTo>
                  <a:pt x="3572" y="4242"/>
                </a:moveTo>
                <a:cubicBezTo>
                  <a:pt x="3648" y="4242"/>
                  <a:pt x="3647" y="4254"/>
                  <a:pt x="3696" y="4217"/>
                </a:cubicBezTo>
                <a:cubicBezTo>
                  <a:pt x="3544" y="4217"/>
                  <a:pt x="3400" y="4216"/>
                  <a:pt x="3249" y="4242"/>
                </a:cubicBezTo>
                <a:cubicBezTo>
                  <a:pt x="3115" y="4265"/>
                  <a:pt x="2979" y="4289"/>
                  <a:pt x="2853" y="4341"/>
                </a:cubicBezTo>
                <a:cubicBezTo>
                  <a:pt x="2812" y="4361"/>
                  <a:pt x="2806" y="4370"/>
                  <a:pt x="2778" y="4366"/>
                </a:cubicBezTo>
              </a:path>
              <a:path w="1837" h="770">
                <a:moveTo>
                  <a:pt x="2977" y="4291"/>
                </a:moveTo>
                <a:cubicBezTo>
                  <a:pt x="3026" y="4266"/>
                  <a:pt x="3043" y="4258"/>
                  <a:pt x="3076" y="4291"/>
                </a:cubicBezTo>
                <a:cubicBezTo>
                  <a:pt x="3114" y="4416"/>
                  <a:pt x="3122" y="4554"/>
                  <a:pt x="3125" y="4688"/>
                </a:cubicBezTo>
                <a:cubicBezTo>
                  <a:pt x="3127" y="4792"/>
                  <a:pt x="3142" y="4884"/>
                  <a:pt x="3150" y="4986"/>
                </a:cubicBezTo>
              </a:path>
              <a:path w="1837" h="770">
                <a:moveTo>
                  <a:pt x="4539" y="4316"/>
                </a:moveTo>
                <a:cubicBezTo>
                  <a:pt x="4556" y="4316"/>
                  <a:pt x="4572" y="4316"/>
                  <a:pt x="4589" y="4316"/>
                </a:cubicBezTo>
                <a:cubicBezTo>
                  <a:pt x="4520" y="4330"/>
                  <a:pt x="4464" y="4341"/>
                  <a:pt x="4390" y="4341"/>
                </a:cubicBezTo>
                <a:cubicBezTo>
                  <a:pt x="4323" y="4341"/>
                  <a:pt x="4281" y="4358"/>
                  <a:pt x="4217" y="4366"/>
                </a:cubicBezTo>
              </a:path>
              <a:path w="1837" h="770">
                <a:moveTo>
                  <a:pt x="4589" y="4465"/>
                </a:moveTo>
                <a:cubicBezTo>
                  <a:pt x="4597" y="4465"/>
                  <a:pt x="4606" y="4465"/>
                  <a:pt x="4614" y="4465"/>
                </a:cubicBezTo>
                <a:cubicBezTo>
                  <a:pt x="4603" y="4510"/>
                  <a:pt x="4566" y="4530"/>
                  <a:pt x="4514" y="4539"/>
                </a:cubicBezTo>
                <a:cubicBezTo>
                  <a:pt x="4465" y="4539"/>
                  <a:pt x="4448" y="4539"/>
                  <a:pt x="4415" y="45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81760" y="2714760"/>
            <a:ext cx="687240" cy="214200"/>
          </a:xfrm>
          <a:custGeom>
            <a:avLst/>
            <a:gdLst/>
            <a:ahLst/>
            <a:rect l="l" t="t" r="r" b="b"/>
            <a:pathLst>
              <a:path w="1911" h="596">
                <a:moveTo>
                  <a:pt x="14288" y="7689"/>
                </a:moveTo>
                <a:cubicBezTo>
                  <a:pt x="14236" y="7689"/>
                  <a:pt x="14129" y="7707"/>
                  <a:pt x="14114" y="7665"/>
                </a:cubicBezTo>
                <a:cubicBezTo>
                  <a:pt x="14182" y="7610"/>
                  <a:pt x="14256" y="7597"/>
                  <a:pt x="14337" y="7565"/>
                </a:cubicBezTo>
                <a:cubicBezTo>
                  <a:pt x="14384" y="7546"/>
                  <a:pt x="14484" y="7513"/>
                  <a:pt x="14511" y="7590"/>
                </a:cubicBezTo>
                <a:cubicBezTo>
                  <a:pt x="14536" y="7659"/>
                  <a:pt x="14452" y="7746"/>
                  <a:pt x="14412" y="7789"/>
                </a:cubicBezTo>
                <a:cubicBezTo>
                  <a:pt x="14378" y="7824"/>
                  <a:pt x="14266" y="7870"/>
                  <a:pt x="14312" y="7938"/>
                </a:cubicBezTo>
                <a:cubicBezTo>
                  <a:pt x="14345" y="7986"/>
                  <a:pt x="14453" y="8019"/>
                  <a:pt x="14511" y="8037"/>
                </a:cubicBezTo>
                <a:cubicBezTo>
                  <a:pt x="14539" y="8037"/>
                  <a:pt x="14550" y="8039"/>
                  <a:pt x="14560" y="8062"/>
                </a:cubicBezTo>
                <a:cubicBezTo>
                  <a:pt x="14544" y="8126"/>
                  <a:pt x="14500" y="8133"/>
                  <a:pt x="14436" y="8136"/>
                </a:cubicBezTo>
                <a:cubicBezTo>
                  <a:pt x="14370" y="8136"/>
                  <a:pt x="14353" y="8136"/>
                  <a:pt x="14312" y="8136"/>
                </a:cubicBezTo>
              </a:path>
              <a:path w="1911" h="596">
                <a:moveTo>
                  <a:pt x="14883" y="7764"/>
                </a:moveTo>
                <a:cubicBezTo>
                  <a:pt x="14921" y="7742"/>
                  <a:pt x="14945" y="7723"/>
                  <a:pt x="14982" y="7714"/>
                </a:cubicBezTo>
                <a:cubicBezTo>
                  <a:pt x="14963" y="7638"/>
                  <a:pt x="14920" y="7668"/>
                  <a:pt x="14858" y="7689"/>
                </a:cubicBezTo>
                <a:cubicBezTo>
                  <a:pt x="14780" y="7716"/>
                  <a:pt x="14684" y="7774"/>
                  <a:pt x="14660" y="7863"/>
                </a:cubicBezTo>
                <a:cubicBezTo>
                  <a:pt x="14635" y="7955"/>
                  <a:pt x="14713" y="7984"/>
                  <a:pt x="14784" y="7987"/>
                </a:cubicBezTo>
                <a:cubicBezTo>
                  <a:pt x="14859" y="7990"/>
                  <a:pt x="14896" y="7997"/>
                  <a:pt x="14957" y="8012"/>
                </a:cubicBezTo>
                <a:cubicBezTo>
                  <a:pt x="14941" y="8076"/>
                  <a:pt x="14898" y="8083"/>
                  <a:pt x="14833" y="8086"/>
                </a:cubicBezTo>
                <a:cubicBezTo>
                  <a:pt x="14756" y="8089"/>
                  <a:pt x="14608" y="8128"/>
                  <a:pt x="14684" y="8062"/>
                </a:cubicBezTo>
                <a:cubicBezTo>
                  <a:pt x="14731" y="8015"/>
                  <a:pt x="14743" y="8001"/>
                  <a:pt x="14784" y="7987"/>
                </a:cubicBezTo>
              </a:path>
              <a:path w="1911" h="596">
                <a:moveTo>
                  <a:pt x="15081" y="7863"/>
                </a:moveTo>
                <a:cubicBezTo>
                  <a:pt x="15061" y="7904"/>
                  <a:pt x="15052" y="7931"/>
                  <a:pt x="15056" y="7888"/>
                </a:cubicBezTo>
                <a:cubicBezTo>
                  <a:pt x="15122" y="7850"/>
                  <a:pt x="15177" y="7788"/>
                  <a:pt x="15255" y="7838"/>
                </a:cubicBezTo>
                <a:cubicBezTo>
                  <a:pt x="15327" y="7884"/>
                  <a:pt x="15362" y="8014"/>
                  <a:pt x="15304" y="8086"/>
                </a:cubicBezTo>
                <a:cubicBezTo>
                  <a:pt x="15236" y="8170"/>
                  <a:pt x="15131" y="8113"/>
                  <a:pt x="15056" y="8086"/>
                </a:cubicBezTo>
              </a:path>
              <a:path w="1911" h="596">
                <a:moveTo>
                  <a:pt x="15429" y="7987"/>
                </a:moveTo>
                <a:cubicBezTo>
                  <a:pt x="15455" y="7976"/>
                  <a:pt x="15519" y="7943"/>
                  <a:pt x="15553" y="7962"/>
                </a:cubicBezTo>
                <a:cubicBezTo>
                  <a:pt x="15605" y="7992"/>
                  <a:pt x="15602" y="8034"/>
                  <a:pt x="15602" y="8086"/>
                </a:cubicBezTo>
                <a:cubicBezTo>
                  <a:pt x="15618" y="8066"/>
                  <a:pt x="15638" y="7994"/>
                  <a:pt x="15677" y="8012"/>
                </a:cubicBezTo>
                <a:cubicBezTo>
                  <a:pt x="15715" y="8029"/>
                  <a:pt x="15721" y="8082"/>
                  <a:pt x="15776" y="8062"/>
                </a:cubicBezTo>
                <a:cubicBezTo>
                  <a:pt x="15802" y="8053"/>
                  <a:pt x="15893" y="8010"/>
                  <a:pt x="15925" y="8037"/>
                </a:cubicBezTo>
                <a:cubicBezTo>
                  <a:pt x="15958" y="8064"/>
                  <a:pt x="15986" y="8105"/>
                  <a:pt x="16024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32720" y="2687760"/>
            <a:ext cx="787320" cy="206280"/>
          </a:xfrm>
          <a:custGeom>
            <a:avLst/>
            <a:gdLst/>
            <a:ahLst/>
            <a:rect l="l" t="t" r="r" b="b"/>
            <a:pathLst>
              <a:path w="2184" h="572">
                <a:moveTo>
                  <a:pt x="18827" y="7640"/>
                </a:moveTo>
                <a:cubicBezTo>
                  <a:pt x="18775" y="7618"/>
                  <a:pt x="18757" y="7615"/>
                  <a:pt x="18703" y="7615"/>
                </a:cubicBezTo>
                <a:cubicBezTo>
                  <a:pt x="18703" y="7545"/>
                  <a:pt x="18741" y="7547"/>
                  <a:pt x="18802" y="7516"/>
                </a:cubicBezTo>
                <a:cubicBezTo>
                  <a:pt x="18877" y="7479"/>
                  <a:pt x="18976" y="7473"/>
                  <a:pt x="19050" y="7516"/>
                </a:cubicBezTo>
                <a:cubicBezTo>
                  <a:pt x="19097" y="7543"/>
                  <a:pt x="19084" y="7655"/>
                  <a:pt x="19050" y="7689"/>
                </a:cubicBezTo>
                <a:cubicBezTo>
                  <a:pt x="19011" y="7727"/>
                  <a:pt x="18926" y="7757"/>
                  <a:pt x="18901" y="7813"/>
                </a:cubicBezTo>
                <a:cubicBezTo>
                  <a:pt x="18901" y="7821"/>
                  <a:pt x="18901" y="7830"/>
                  <a:pt x="18901" y="7838"/>
                </a:cubicBezTo>
                <a:cubicBezTo>
                  <a:pt x="18959" y="7885"/>
                  <a:pt x="19009" y="7883"/>
                  <a:pt x="19075" y="7913"/>
                </a:cubicBezTo>
                <a:cubicBezTo>
                  <a:pt x="19118" y="7935"/>
                  <a:pt x="19129" y="7939"/>
                  <a:pt x="19149" y="7962"/>
                </a:cubicBezTo>
                <a:cubicBezTo>
                  <a:pt x="19135" y="8020"/>
                  <a:pt x="19111" y="8034"/>
                  <a:pt x="19050" y="8037"/>
                </a:cubicBezTo>
                <a:cubicBezTo>
                  <a:pt x="18982" y="8037"/>
                  <a:pt x="18963" y="8040"/>
                  <a:pt x="18926" y="8012"/>
                </a:cubicBezTo>
              </a:path>
              <a:path w="2184" h="572">
                <a:moveTo>
                  <a:pt x="19546" y="7565"/>
                </a:moveTo>
                <a:cubicBezTo>
                  <a:pt x="19604" y="7541"/>
                  <a:pt x="19626" y="7535"/>
                  <a:pt x="19670" y="7491"/>
                </a:cubicBezTo>
                <a:cubicBezTo>
                  <a:pt x="19590" y="7442"/>
                  <a:pt x="19540" y="7480"/>
                  <a:pt x="19472" y="7541"/>
                </a:cubicBezTo>
                <a:cubicBezTo>
                  <a:pt x="19408" y="7598"/>
                  <a:pt x="19348" y="7695"/>
                  <a:pt x="19447" y="7739"/>
                </a:cubicBezTo>
                <a:cubicBezTo>
                  <a:pt x="19492" y="7759"/>
                  <a:pt x="19551" y="7663"/>
                  <a:pt x="19571" y="7640"/>
                </a:cubicBezTo>
                <a:cubicBezTo>
                  <a:pt x="19579" y="7632"/>
                  <a:pt x="19588" y="7623"/>
                  <a:pt x="19596" y="7615"/>
                </a:cubicBezTo>
                <a:cubicBezTo>
                  <a:pt x="19654" y="7674"/>
                  <a:pt x="19669" y="7734"/>
                  <a:pt x="19695" y="7813"/>
                </a:cubicBezTo>
                <a:cubicBezTo>
                  <a:pt x="19718" y="7881"/>
                  <a:pt x="19722" y="7899"/>
                  <a:pt x="19745" y="7938"/>
                </a:cubicBezTo>
              </a:path>
              <a:path w="2184" h="572">
                <a:moveTo>
                  <a:pt x="19844" y="7764"/>
                </a:moveTo>
                <a:cubicBezTo>
                  <a:pt x="19877" y="7730"/>
                  <a:pt x="19897" y="7702"/>
                  <a:pt x="19918" y="7665"/>
                </a:cubicBezTo>
                <a:cubicBezTo>
                  <a:pt x="19942" y="7623"/>
                  <a:pt x="19972" y="7512"/>
                  <a:pt x="20042" y="7516"/>
                </a:cubicBezTo>
                <a:cubicBezTo>
                  <a:pt x="20138" y="7522"/>
                  <a:pt x="20139" y="7676"/>
                  <a:pt x="20141" y="7739"/>
                </a:cubicBezTo>
                <a:cubicBezTo>
                  <a:pt x="20145" y="7844"/>
                  <a:pt x="20121" y="7882"/>
                  <a:pt x="20017" y="7888"/>
                </a:cubicBezTo>
                <a:cubicBezTo>
                  <a:pt x="19961" y="7888"/>
                  <a:pt x="19939" y="7883"/>
                  <a:pt x="19918" y="7838"/>
                </a:cubicBezTo>
              </a:path>
              <a:path w="2184" h="572">
                <a:moveTo>
                  <a:pt x="20414" y="7838"/>
                </a:moveTo>
                <a:cubicBezTo>
                  <a:pt x="20461" y="7826"/>
                  <a:pt x="20454" y="7800"/>
                  <a:pt x="20489" y="7789"/>
                </a:cubicBezTo>
                <a:cubicBezTo>
                  <a:pt x="20489" y="7840"/>
                  <a:pt x="20501" y="7872"/>
                  <a:pt x="20513" y="7913"/>
                </a:cubicBezTo>
                <a:cubicBezTo>
                  <a:pt x="20513" y="7938"/>
                  <a:pt x="20513" y="7946"/>
                  <a:pt x="20513" y="7962"/>
                </a:cubicBezTo>
                <a:cubicBezTo>
                  <a:pt x="20555" y="7949"/>
                  <a:pt x="20538" y="7891"/>
                  <a:pt x="20588" y="7863"/>
                </a:cubicBezTo>
                <a:cubicBezTo>
                  <a:pt x="20638" y="7835"/>
                  <a:pt x="20822" y="7864"/>
                  <a:pt x="20861" y="7888"/>
                </a:cubicBezTo>
                <a:cubicBezTo>
                  <a:pt x="20869" y="7896"/>
                  <a:pt x="20878" y="7905"/>
                  <a:pt x="20886" y="7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143920" y="2625840"/>
            <a:ext cx="750960" cy="231840"/>
          </a:xfrm>
          <a:custGeom>
            <a:avLst/>
            <a:gdLst/>
            <a:ahLst/>
            <a:rect l="l" t="t" r="r" b="b"/>
            <a:pathLst>
              <a:path w="2084" h="646">
                <a:moveTo>
                  <a:pt x="22696" y="7342"/>
                </a:moveTo>
                <a:cubicBezTo>
                  <a:pt x="22716" y="7302"/>
                  <a:pt x="22715" y="7286"/>
                  <a:pt x="22746" y="7293"/>
                </a:cubicBezTo>
                <a:cubicBezTo>
                  <a:pt x="22717" y="7340"/>
                  <a:pt x="22694" y="7407"/>
                  <a:pt x="22671" y="7466"/>
                </a:cubicBezTo>
                <a:cubicBezTo>
                  <a:pt x="22656" y="7506"/>
                  <a:pt x="22586" y="7642"/>
                  <a:pt x="22622" y="7689"/>
                </a:cubicBezTo>
                <a:cubicBezTo>
                  <a:pt x="22663" y="7743"/>
                  <a:pt x="22737" y="7739"/>
                  <a:pt x="22796" y="7739"/>
                </a:cubicBezTo>
                <a:cubicBezTo>
                  <a:pt x="22890" y="7739"/>
                  <a:pt x="23016" y="7717"/>
                  <a:pt x="23093" y="7764"/>
                </a:cubicBezTo>
              </a:path>
              <a:path w="2084" h="646">
                <a:moveTo>
                  <a:pt x="22920" y="7640"/>
                </a:moveTo>
                <a:cubicBezTo>
                  <a:pt x="22895" y="7632"/>
                  <a:pt x="22870" y="7623"/>
                  <a:pt x="22845" y="7615"/>
                </a:cubicBezTo>
                <a:cubicBezTo>
                  <a:pt x="22845" y="7696"/>
                  <a:pt x="22858" y="7764"/>
                  <a:pt x="22870" y="7838"/>
                </a:cubicBezTo>
                <a:cubicBezTo>
                  <a:pt x="22870" y="7855"/>
                  <a:pt x="22870" y="7871"/>
                  <a:pt x="22870" y="7888"/>
                </a:cubicBezTo>
              </a:path>
              <a:path w="2084" h="646">
                <a:moveTo>
                  <a:pt x="23168" y="7689"/>
                </a:moveTo>
                <a:cubicBezTo>
                  <a:pt x="23194" y="7676"/>
                  <a:pt x="23168" y="7665"/>
                  <a:pt x="23168" y="7615"/>
                </a:cubicBezTo>
                <a:cubicBezTo>
                  <a:pt x="23168" y="7562"/>
                  <a:pt x="23246" y="7526"/>
                  <a:pt x="23292" y="7516"/>
                </a:cubicBezTo>
                <a:cubicBezTo>
                  <a:pt x="23402" y="7491"/>
                  <a:pt x="23464" y="7531"/>
                  <a:pt x="23490" y="7640"/>
                </a:cubicBezTo>
                <a:cubicBezTo>
                  <a:pt x="23515" y="7744"/>
                  <a:pt x="23476" y="7791"/>
                  <a:pt x="23391" y="7838"/>
                </a:cubicBezTo>
                <a:cubicBezTo>
                  <a:pt x="23324" y="7876"/>
                  <a:pt x="23309" y="7863"/>
                  <a:pt x="23242" y="7838"/>
                </a:cubicBezTo>
              </a:path>
              <a:path w="2084" h="646">
                <a:moveTo>
                  <a:pt x="23688" y="7689"/>
                </a:moveTo>
                <a:cubicBezTo>
                  <a:pt x="23688" y="7697"/>
                  <a:pt x="23688" y="7706"/>
                  <a:pt x="23688" y="7714"/>
                </a:cubicBezTo>
                <a:cubicBezTo>
                  <a:pt x="23673" y="7709"/>
                  <a:pt x="23624" y="7673"/>
                  <a:pt x="23639" y="7640"/>
                </a:cubicBezTo>
                <a:cubicBezTo>
                  <a:pt x="23673" y="7565"/>
                  <a:pt x="23782" y="7574"/>
                  <a:pt x="23837" y="7590"/>
                </a:cubicBezTo>
                <a:cubicBezTo>
                  <a:pt x="23912" y="7612"/>
                  <a:pt x="24011" y="7718"/>
                  <a:pt x="23961" y="7813"/>
                </a:cubicBezTo>
                <a:cubicBezTo>
                  <a:pt x="23923" y="7886"/>
                  <a:pt x="23786" y="7905"/>
                  <a:pt x="23713" y="7888"/>
                </a:cubicBezTo>
                <a:cubicBezTo>
                  <a:pt x="23634" y="7870"/>
                  <a:pt x="23599" y="7833"/>
                  <a:pt x="23589" y="7764"/>
                </a:cubicBezTo>
              </a:path>
              <a:path w="2084" h="646">
                <a:moveTo>
                  <a:pt x="24160" y="7789"/>
                </a:moveTo>
                <a:cubicBezTo>
                  <a:pt x="24202" y="7789"/>
                  <a:pt x="24219" y="7794"/>
                  <a:pt x="24234" y="7838"/>
                </a:cubicBezTo>
                <a:cubicBezTo>
                  <a:pt x="24243" y="7866"/>
                  <a:pt x="24234" y="7908"/>
                  <a:pt x="24234" y="7938"/>
                </a:cubicBezTo>
                <a:cubicBezTo>
                  <a:pt x="24273" y="7925"/>
                  <a:pt x="24260" y="7898"/>
                  <a:pt x="24284" y="7863"/>
                </a:cubicBezTo>
                <a:cubicBezTo>
                  <a:pt x="24321" y="7808"/>
                  <a:pt x="24363" y="7852"/>
                  <a:pt x="24408" y="7863"/>
                </a:cubicBezTo>
                <a:cubicBezTo>
                  <a:pt x="24467" y="7878"/>
                  <a:pt x="24451" y="7895"/>
                  <a:pt x="24507" y="7863"/>
                </a:cubicBezTo>
                <a:cubicBezTo>
                  <a:pt x="24592" y="7815"/>
                  <a:pt x="24591" y="7792"/>
                  <a:pt x="24656" y="7863"/>
                </a:cubicBezTo>
                <a:cubicBezTo>
                  <a:pt x="24672" y="7880"/>
                  <a:pt x="24689" y="7896"/>
                  <a:pt x="24705" y="7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16720" y="2946240"/>
            <a:ext cx="760320" cy="179640"/>
          </a:xfrm>
          <a:custGeom>
            <a:avLst/>
            <a:gdLst/>
            <a:ahLst/>
            <a:rect l="l" t="t" r="r" b="b"/>
            <a:pathLst>
              <a:path w="2110" h="497">
                <a:moveTo>
                  <a:pt x="16545" y="8359"/>
                </a:moveTo>
                <a:cubicBezTo>
                  <a:pt x="16537" y="8326"/>
                  <a:pt x="16492" y="8286"/>
                  <a:pt x="16545" y="8260"/>
                </a:cubicBezTo>
                <a:cubicBezTo>
                  <a:pt x="16563" y="8251"/>
                  <a:pt x="16656" y="8230"/>
                  <a:pt x="16669" y="8235"/>
                </a:cubicBezTo>
                <a:cubicBezTo>
                  <a:pt x="16711" y="8252"/>
                  <a:pt x="16735" y="8318"/>
                  <a:pt x="16718" y="8359"/>
                </a:cubicBezTo>
                <a:cubicBezTo>
                  <a:pt x="16704" y="8394"/>
                  <a:pt x="16628" y="8443"/>
                  <a:pt x="16619" y="8458"/>
                </a:cubicBezTo>
                <a:cubicBezTo>
                  <a:pt x="16600" y="8492"/>
                  <a:pt x="16641" y="8545"/>
                  <a:pt x="16669" y="8558"/>
                </a:cubicBezTo>
                <a:cubicBezTo>
                  <a:pt x="16703" y="8573"/>
                  <a:pt x="16738" y="8569"/>
                  <a:pt x="16743" y="8607"/>
                </a:cubicBezTo>
                <a:cubicBezTo>
                  <a:pt x="16748" y="8649"/>
                  <a:pt x="16704" y="8678"/>
                  <a:pt x="16669" y="8682"/>
                </a:cubicBezTo>
                <a:cubicBezTo>
                  <a:pt x="16661" y="8682"/>
                  <a:pt x="16652" y="8682"/>
                  <a:pt x="16644" y="8682"/>
                </a:cubicBezTo>
              </a:path>
              <a:path w="2110" h="497">
                <a:moveTo>
                  <a:pt x="17140" y="8310"/>
                </a:moveTo>
                <a:cubicBezTo>
                  <a:pt x="17157" y="8302"/>
                  <a:pt x="17173" y="8293"/>
                  <a:pt x="17190" y="8285"/>
                </a:cubicBezTo>
                <a:cubicBezTo>
                  <a:pt x="17140" y="8285"/>
                  <a:pt x="17111" y="8280"/>
                  <a:pt x="17066" y="8310"/>
                </a:cubicBezTo>
                <a:cubicBezTo>
                  <a:pt x="17034" y="8331"/>
                  <a:pt x="17024" y="8352"/>
                  <a:pt x="17016" y="8384"/>
                </a:cubicBezTo>
                <a:cubicBezTo>
                  <a:pt x="17051" y="8410"/>
                  <a:pt x="17094" y="8443"/>
                  <a:pt x="17140" y="8458"/>
                </a:cubicBezTo>
                <a:cubicBezTo>
                  <a:pt x="17162" y="8465"/>
                  <a:pt x="17185" y="8497"/>
                  <a:pt x="17165" y="8533"/>
                </a:cubicBezTo>
                <a:cubicBezTo>
                  <a:pt x="17150" y="8561"/>
                  <a:pt x="17101" y="8601"/>
                  <a:pt x="17066" y="8582"/>
                </a:cubicBezTo>
                <a:cubicBezTo>
                  <a:pt x="17021" y="8558"/>
                  <a:pt x="17009" y="8495"/>
                  <a:pt x="17041" y="8458"/>
                </a:cubicBezTo>
                <a:cubicBezTo>
                  <a:pt x="17076" y="8458"/>
                  <a:pt x="17093" y="8454"/>
                  <a:pt x="17115" y="8434"/>
                </a:cubicBezTo>
              </a:path>
              <a:path w="2110" h="497">
                <a:moveTo>
                  <a:pt x="17462" y="8285"/>
                </a:moveTo>
                <a:cubicBezTo>
                  <a:pt x="17470" y="8277"/>
                  <a:pt x="17479" y="8268"/>
                  <a:pt x="17487" y="8260"/>
                </a:cubicBezTo>
                <a:cubicBezTo>
                  <a:pt x="17447" y="8270"/>
                  <a:pt x="17418" y="8289"/>
                  <a:pt x="17413" y="8334"/>
                </a:cubicBezTo>
                <a:cubicBezTo>
                  <a:pt x="17407" y="8390"/>
                  <a:pt x="17496" y="8400"/>
                  <a:pt x="17537" y="8409"/>
                </a:cubicBezTo>
                <a:cubicBezTo>
                  <a:pt x="17572" y="8417"/>
                  <a:pt x="17607" y="8426"/>
                  <a:pt x="17611" y="8458"/>
                </a:cubicBezTo>
                <a:cubicBezTo>
                  <a:pt x="17618" y="8515"/>
                  <a:pt x="17593" y="8529"/>
                  <a:pt x="17537" y="8533"/>
                </a:cubicBezTo>
                <a:cubicBezTo>
                  <a:pt x="17485" y="8533"/>
                  <a:pt x="17467" y="8532"/>
                  <a:pt x="17438" y="8508"/>
                </a:cubicBezTo>
              </a:path>
              <a:path w="2110" h="497">
                <a:moveTo>
                  <a:pt x="17338" y="8434"/>
                </a:moveTo>
                <a:cubicBezTo>
                  <a:pt x="17420" y="8352"/>
                  <a:pt x="17487" y="8292"/>
                  <a:pt x="17587" y="8235"/>
                </a:cubicBezTo>
                <a:cubicBezTo>
                  <a:pt x="17643" y="8206"/>
                  <a:pt x="17667" y="8196"/>
                  <a:pt x="17711" y="8186"/>
                </a:cubicBezTo>
              </a:path>
              <a:path w="2110" h="497">
                <a:moveTo>
                  <a:pt x="16321" y="8582"/>
                </a:moveTo>
                <a:cubicBezTo>
                  <a:pt x="16363" y="8582"/>
                  <a:pt x="16371" y="8582"/>
                  <a:pt x="16396" y="8582"/>
                </a:cubicBezTo>
                <a:cubicBezTo>
                  <a:pt x="16380" y="8535"/>
                  <a:pt x="16349" y="8570"/>
                  <a:pt x="16297" y="8558"/>
                </a:cubicBezTo>
                <a:cubicBezTo>
                  <a:pt x="16208" y="8538"/>
                  <a:pt x="16114" y="8518"/>
                  <a:pt x="16024" y="8508"/>
                </a:cubicBezTo>
                <a:cubicBezTo>
                  <a:pt x="15943" y="8499"/>
                  <a:pt x="15881" y="8462"/>
                  <a:pt x="15801" y="8458"/>
                </a:cubicBezTo>
                <a:cubicBezTo>
                  <a:pt x="15718" y="8453"/>
                  <a:pt x="15743" y="8438"/>
                  <a:pt x="15677" y="8409"/>
                </a:cubicBezTo>
                <a:cubicBezTo>
                  <a:pt x="15671" y="8407"/>
                  <a:pt x="15606" y="8389"/>
                  <a:pt x="15602" y="8384"/>
                </a:cubicBezTo>
                <a:cubicBezTo>
                  <a:pt x="15602" y="8376"/>
                  <a:pt x="15602" y="8367"/>
                  <a:pt x="15602" y="8359"/>
                </a:cubicBezTo>
                <a:cubicBezTo>
                  <a:pt x="15615" y="8319"/>
                  <a:pt x="15642" y="8334"/>
                  <a:pt x="15677" y="8310"/>
                </a:cubicBezTo>
                <a:cubicBezTo>
                  <a:pt x="15716" y="8284"/>
                  <a:pt x="15751" y="8270"/>
                  <a:pt x="15801" y="8260"/>
                </a:cubicBezTo>
                <a:cubicBezTo>
                  <a:pt x="15765" y="8308"/>
                  <a:pt x="15734" y="8328"/>
                  <a:pt x="15701" y="8384"/>
                </a:cubicBezTo>
                <a:cubicBezTo>
                  <a:pt x="15673" y="8433"/>
                  <a:pt x="15633" y="8476"/>
                  <a:pt x="15627" y="8533"/>
                </a:cubicBezTo>
                <a:cubicBezTo>
                  <a:pt x="15627" y="8558"/>
                  <a:pt x="15627" y="8566"/>
                  <a:pt x="15627" y="8582"/>
                </a:cubicBezTo>
                <a:cubicBezTo>
                  <a:pt x="15681" y="8582"/>
                  <a:pt x="15698" y="8584"/>
                  <a:pt x="15751" y="86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32080" y="2759040"/>
            <a:ext cx="5527800" cy="750960"/>
          </a:xfrm>
          <a:custGeom>
            <a:avLst/>
            <a:gdLst/>
            <a:ahLst/>
            <a:rect l="l" t="t" r="r" b="b"/>
            <a:pathLst>
              <a:path w="15355" h="2084">
                <a:moveTo>
                  <a:pt x="9029" y="7838"/>
                </a:moveTo>
                <a:cubicBezTo>
                  <a:pt x="9006" y="7861"/>
                  <a:pt x="9002" y="7869"/>
                  <a:pt x="8979" y="7863"/>
                </a:cubicBezTo>
                <a:cubicBezTo>
                  <a:pt x="8987" y="7839"/>
                  <a:pt x="9021" y="7810"/>
                  <a:pt x="9054" y="7789"/>
                </a:cubicBezTo>
                <a:cubicBezTo>
                  <a:pt x="9112" y="7751"/>
                  <a:pt x="9206" y="7719"/>
                  <a:pt x="9277" y="7739"/>
                </a:cubicBezTo>
                <a:cubicBezTo>
                  <a:pt x="9368" y="7764"/>
                  <a:pt x="9358" y="7817"/>
                  <a:pt x="9327" y="7888"/>
                </a:cubicBezTo>
                <a:cubicBezTo>
                  <a:pt x="9301" y="7946"/>
                  <a:pt x="9234" y="7978"/>
                  <a:pt x="9227" y="8037"/>
                </a:cubicBezTo>
                <a:cubicBezTo>
                  <a:pt x="9222" y="8083"/>
                  <a:pt x="9290" y="8123"/>
                  <a:pt x="9327" y="8136"/>
                </a:cubicBezTo>
                <a:cubicBezTo>
                  <a:pt x="9370" y="8150"/>
                  <a:pt x="9382" y="8148"/>
                  <a:pt x="9401" y="8186"/>
                </a:cubicBezTo>
                <a:cubicBezTo>
                  <a:pt x="9348" y="8238"/>
                  <a:pt x="9328" y="8235"/>
                  <a:pt x="9252" y="8235"/>
                </a:cubicBezTo>
              </a:path>
              <a:path w="15355" h="2084">
                <a:moveTo>
                  <a:pt x="9550" y="7689"/>
                </a:moveTo>
                <a:cubicBezTo>
                  <a:pt x="9588" y="7662"/>
                  <a:pt x="9601" y="7665"/>
                  <a:pt x="9649" y="7665"/>
                </a:cubicBezTo>
                <a:cubicBezTo>
                  <a:pt x="9735" y="7665"/>
                  <a:pt x="9793" y="7677"/>
                  <a:pt x="9872" y="7714"/>
                </a:cubicBezTo>
                <a:cubicBezTo>
                  <a:pt x="9927" y="7740"/>
                  <a:pt x="9953" y="7849"/>
                  <a:pt x="9922" y="7913"/>
                </a:cubicBezTo>
                <a:cubicBezTo>
                  <a:pt x="9895" y="7969"/>
                  <a:pt x="9831" y="8028"/>
                  <a:pt x="9798" y="8086"/>
                </a:cubicBezTo>
              </a:path>
              <a:path w="15355" h="2084">
                <a:moveTo>
                  <a:pt x="10120" y="7962"/>
                </a:moveTo>
                <a:cubicBezTo>
                  <a:pt x="10147" y="7953"/>
                  <a:pt x="10166" y="7945"/>
                  <a:pt x="10170" y="7913"/>
                </a:cubicBezTo>
                <a:cubicBezTo>
                  <a:pt x="10175" y="7871"/>
                  <a:pt x="10178" y="7788"/>
                  <a:pt x="10220" y="7764"/>
                </a:cubicBezTo>
                <a:cubicBezTo>
                  <a:pt x="10298" y="7720"/>
                  <a:pt x="10406" y="7798"/>
                  <a:pt x="10443" y="7863"/>
                </a:cubicBezTo>
                <a:cubicBezTo>
                  <a:pt x="10493" y="7951"/>
                  <a:pt x="10469" y="8034"/>
                  <a:pt x="10368" y="8062"/>
                </a:cubicBezTo>
                <a:cubicBezTo>
                  <a:pt x="10318" y="8076"/>
                  <a:pt x="10248" y="8062"/>
                  <a:pt x="10195" y="8062"/>
                </a:cubicBezTo>
              </a:path>
              <a:path w="15355" h="2084">
                <a:moveTo>
                  <a:pt x="10616" y="8012"/>
                </a:moveTo>
                <a:cubicBezTo>
                  <a:pt x="10616" y="8063"/>
                  <a:pt x="10627" y="8070"/>
                  <a:pt x="10641" y="8111"/>
                </a:cubicBezTo>
                <a:cubicBezTo>
                  <a:pt x="10641" y="8119"/>
                  <a:pt x="10641" y="8128"/>
                  <a:pt x="10641" y="8136"/>
                </a:cubicBezTo>
                <a:cubicBezTo>
                  <a:pt x="10663" y="8114"/>
                  <a:pt x="10711" y="8045"/>
                  <a:pt x="10740" y="8037"/>
                </a:cubicBezTo>
                <a:cubicBezTo>
                  <a:pt x="10802" y="8019"/>
                  <a:pt x="10884" y="8038"/>
                  <a:pt x="10939" y="8062"/>
                </a:cubicBezTo>
                <a:cubicBezTo>
                  <a:pt x="11001" y="8089"/>
                  <a:pt x="10998" y="8102"/>
                  <a:pt x="11063" y="8111"/>
                </a:cubicBezTo>
              </a:path>
              <a:path w="15355" h="2084">
                <a:moveTo>
                  <a:pt x="9773" y="9178"/>
                </a:moveTo>
                <a:cubicBezTo>
                  <a:pt x="9818" y="9167"/>
                  <a:pt x="9856" y="9162"/>
                  <a:pt x="9897" y="9153"/>
                </a:cubicBezTo>
                <a:cubicBezTo>
                  <a:pt x="9938" y="9144"/>
                  <a:pt x="9976" y="9108"/>
                  <a:pt x="10021" y="9103"/>
                </a:cubicBezTo>
                <a:cubicBezTo>
                  <a:pt x="10795" y="9016"/>
                  <a:pt x="11585" y="9180"/>
                  <a:pt x="12353" y="9203"/>
                </a:cubicBezTo>
                <a:cubicBezTo>
                  <a:pt x="12699" y="9213"/>
                  <a:pt x="13031" y="9169"/>
                  <a:pt x="13370" y="9153"/>
                </a:cubicBezTo>
                <a:cubicBezTo>
                  <a:pt x="13530" y="9146"/>
                  <a:pt x="13683" y="9141"/>
                  <a:pt x="13841" y="9128"/>
                </a:cubicBezTo>
                <a:cubicBezTo>
                  <a:pt x="13992" y="9116"/>
                  <a:pt x="14135" y="9105"/>
                  <a:pt x="14288" y="9103"/>
                </a:cubicBezTo>
                <a:cubicBezTo>
                  <a:pt x="14720" y="9098"/>
                  <a:pt x="15147" y="9124"/>
                  <a:pt x="15577" y="9128"/>
                </a:cubicBezTo>
                <a:cubicBezTo>
                  <a:pt x="15818" y="9130"/>
                  <a:pt x="16057" y="9139"/>
                  <a:pt x="16297" y="9153"/>
                </a:cubicBezTo>
                <a:cubicBezTo>
                  <a:pt x="16553" y="9168"/>
                  <a:pt x="16809" y="9164"/>
                  <a:pt x="17066" y="9178"/>
                </a:cubicBezTo>
                <a:cubicBezTo>
                  <a:pt x="17411" y="9197"/>
                  <a:pt x="17763" y="9242"/>
                  <a:pt x="18107" y="9277"/>
                </a:cubicBezTo>
                <a:cubicBezTo>
                  <a:pt x="18373" y="9304"/>
                  <a:pt x="18635" y="9332"/>
                  <a:pt x="18901" y="9351"/>
                </a:cubicBezTo>
                <a:cubicBezTo>
                  <a:pt x="19142" y="9368"/>
                  <a:pt x="19380" y="9393"/>
                  <a:pt x="19621" y="9401"/>
                </a:cubicBezTo>
                <a:cubicBezTo>
                  <a:pt x="20290" y="9423"/>
                  <a:pt x="20919" y="9343"/>
                  <a:pt x="21580" y="9277"/>
                </a:cubicBezTo>
                <a:cubicBezTo>
                  <a:pt x="21980" y="9237"/>
                  <a:pt x="22393" y="9188"/>
                  <a:pt x="22796" y="9178"/>
                </a:cubicBezTo>
                <a:cubicBezTo>
                  <a:pt x="23078" y="9171"/>
                  <a:pt x="23358" y="9160"/>
                  <a:pt x="23639" y="9153"/>
                </a:cubicBezTo>
                <a:cubicBezTo>
                  <a:pt x="23838" y="9148"/>
                  <a:pt x="24038" y="9153"/>
                  <a:pt x="24234" y="9178"/>
                </a:cubicBezTo>
                <a:cubicBezTo>
                  <a:pt x="24292" y="9197"/>
                  <a:pt x="24298" y="9206"/>
                  <a:pt x="24333" y="9203"/>
                </a:cubicBezTo>
              </a:path>
              <a:path w="15355" h="2084">
                <a:moveTo>
                  <a:pt x="23341" y="9004"/>
                </a:moveTo>
                <a:cubicBezTo>
                  <a:pt x="23341" y="8979"/>
                  <a:pt x="23341" y="8971"/>
                  <a:pt x="23366" y="8979"/>
                </a:cubicBezTo>
                <a:cubicBezTo>
                  <a:pt x="23366" y="9044"/>
                  <a:pt x="23356" y="9116"/>
                  <a:pt x="23341" y="9178"/>
                </a:cubicBezTo>
                <a:cubicBezTo>
                  <a:pt x="23314" y="9293"/>
                  <a:pt x="23292" y="9381"/>
                  <a:pt x="23292" y="9500"/>
                </a:cubicBezTo>
                <a:cubicBezTo>
                  <a:pt x="23292" y="9517"/>
                  <a:pt x="23292" y="9533"/>
                  <a:pt x="23292" y="9550"/>
                </a:cubicBezTo>
              </a:path>
              <a:path w="15355" h="2084">
                <a:moveTo>
                  <a:pt x="19745" y="9203"/>
                </a:moveTo>
                <a:cubicBezTo>
                  <a:pt x="19767" y="9180"/>
                  <a:pt x="19772" y="9172"/>
                  <a:pt x="19794" y="9178"/>
                </a:cubicBezTo>
                <a:cubicBezTo>
                  <a:pt x="19728" y="9244"/>
                  <a:pt x="19719" y="9310"/>
                  <a:pt x="19695" y="9401"/>
                </a:cubicBezTo>
                <a:cubicBezTo>
                  <a:pt x="19665" y="9518"/>
                  <a:pt x="19670" y="9628"/>
                  <a:pt x="19670" y="9748"/>
                </a:cubicBezTo>
              </a:path>
              <a:path w="15355" h="2084">
                <a:moveTo>
                  <a:pt x="14957" y="8781"/>
                </a:moveTo>
                <a:cubicBezTo>
                  <a:pt x="14957" y="8863"/>
                  <a:pt x="14935" y="8919"/>
                  <a:pt x="14932" y="9004"/>
                </a:cubicBezTo>
                <a:cubicBezTo>
                  <a:pt x="14928" y="9111"/>
                  <a:pt x="14932" y="9220"/>
                  <a:pt x="14932" y="9327"/>
                </a:cubicBezTo>
              </a:path>
              <a:path w="15355" h="2084">
                <a:moveTo>
                  <a:pt x="10046" y="9004"/>
                </a:moveTo>
                <a:cubicBezTo>
                  <a:pt x="10055" y="8969"/>
                  <a:pt x="10071" y="8869"/>
                  <a:pt x="10071" y="8905"/>
                </a:cubicBezTo>
                <a:cubicBezTo>
                  <a:pt x="10071" y="9028"/>
                  <a:pt x="10061" y="9155"/>
                  <a:pt x="10046" y="9277"/>
                </a:cubicBezTo>
                <a:cubicBezTo>
                  <a:pt x="10022" y="9417"/>
                  <a:pt x="10014" y="9458"/>
                  <a:pt x="10021" y="9550"/>
                </a:cubicBezTo>
              </a:path>
              <a:path w="15355" h="2084">
                <a:moveTo>
                  <a:pt x="17140" y="8706"/>
                </a:moveTo>
                <a:cubicBezTo>
                  <a:pt x="17161" y="8660"/>
                  <a:pt x="17229" y="8608"/>
                  <a:pt x="17214" y="8657"/>
                </a:cubicBezTo>
                <a:cubicBezTo>
                  <a:pt x="17180" y="8770"/>
                  <a:pt x="17157" y="8862"/>
                  <a:pt x="17140" y="8979"/>
                </a:cubicBezTo>
                <a:cubicBezTo>
                  <a:pt x="17119" y="9118"/>
                  <a:pt x="17116" y="9264"/>
                  <a:pt x="17090" y="9401"/>
                </a:cubicBezTo>
                <a:cubicBezTo>
                  <a:pt x="17078" y="9466"/>
                  <a:pt x="17066" y="9507"/>
                  <a:pt x="17066" y="9575"/>
                </a:cubicBezTo>
                <a:cubicBezTo>
                  <a:pt x="17066" y="9689"/>
                  <a:pt x="17081" y="9532"/>
                  <a:pt x="17090" y="9500"/>
                </a:cubicBezTo>
                <a:cubicBezTo>
                  <a:pt x="17134" y="9346"/>
                  <a:pt x="17159" y="9186"/>
                  <a:pt x="17190" y="9029"/>
                </a:cubicBezTo>
                <a:cubicBezTo>
                  <a:pt x="17217" y="8893"/>
                  <a:pt x="17238" y="8760"/>
                  <a:pt x="17289" y="8632"/>
                </a:cubicBezTo>
                <a:cubicBezTo>
                  <a:pt x="17345" y="8595"/>
                  <a:pt x="17314" y="8700"/>
                  <a:pt x="17314" y="8756"/>
                </a:cubicBezTo>
                <a:cubicBezTo>
                  <a:pt x="17314" y="8891"/>
                  <a:pt x="17280" y="9049"/>
                  <a:pt x="17239" y="9178"/>
                </a:cubicBezTo>
                <a:cubicBezTo>
                  <a:pt x="17196" y="9315"/>
                  <a:pt x="17172" y="9438"/>
                  <a:pt x="17140" y="9575"/>
                </a:cubicBezTo>
                <a:cubicBezTo>
                  <a:pt x="17140" y="9662"/>
                  <a:pt x="17089" y="9715"/>
                  <a:pt x="17115" y="9649"/>
                </a:cubicBezTo>
                <a:cubicBezTo>
                  <a:pt x="17143" y="9578"/>
                  <a:pt x="17181" y="9461"/>
                  <a:pt x="17190" y="9376"/>
                </a:cubicBezTo>
                <a:cubicBezTo>
                  <a:pt x="17205" y="9227"/>
                  <a:pt x="17199" y="9075"/>
                  <a:pt x="17239" y="8930"/>
                </a:cubicBezTo>
                <a:cubicBezTo>
                  <a:pt x="17261" y="8865"/>
                  <a:pt x="17269" y="8850"/>
                  <a:pt x="17264" y="8806"/>
                </a:cubicBezTo>
                <a:cubicBezTo>
                  <a:pt x="17330" y="8762"/>
                  <a:pt x="17268" y="8863"/>
                  <a:pt x="17264" y="8905"/>
                </a:cubicBezTo>
                <a:cubicBezTo>
                  <a:pt x="17248" y="9063"/>
                  <a:pt x="17218" y="9217"/>
                  <a:pt x="17190" y="9376"/>
                </a:cubicBezTo>
                <a:cubicBezTo>
                  <a:pt x="17173" y="9474"/>
                  <a:pt x="17149" y="9577"/>
                  <a:pt x="17140" y="9674"/>
                </a:cubicBezTo>
                <a:cubicBezTo>
                  <a:pt x="17140" y="9682"/>
                  <a:pt x="17140" y="9691"/>
                  <a:pt x="17140" y="9699"/>
                </a:cubicBezTo>
                <a:cubicBezTo>
                  <a:pt x="17140" y="9612"/>
                  <a:pt x="17159" y="9536"/>
                  <a:pt x="17165" y="9451"/>
                </a:cubicBezTo>
                <a:cubicBezTo>
                  <a:pt x="17178" y="9280"/>
                  <a:pt x="17185" y="9098"/>
                  <a:pt x="17214" y="8930"/>
                </a:cubicBezTo>
                <a:cubicBezTo>
                  <a:pt x="17236" y="8863"/>
                  <a:pt x="17241" y="8845"/>
                  <a:pt x="17264" y="8806"/>
                </a:cubicBezTo>
                <a:cubicBezTo>
                  <a:pt x="17264" y="8900"/>
                  <a:pt x="17287" y="8985"/>
                  <a:pt x="17289" y="9079"/>
                </a:cubicBezTo>
                <a:cubicBezTo>
                  <a:pt x="17292" y="9186"/>
                  <a:pt x="17289" y="9294"/>
                  <a:pt x="17289" y="9401"/>
                </a:cubicBezTo>
              </a:path>
              <a:path w="15355" h="2084">
                <a:moveTo>
                  <a:pt x="12204" y="8954"/>
                </a:moveTo>
                <a:cubicBezTo>
                  <a:pt x="12249" y="8864"/>
                  <a:pt x="12291" y="8778"/>
                  <a:pt x="12303" y="8682"/>
                </a:cubicBezTo>
                <a:cubicBezTo>
                  <a:pt x="12312" y="8610"/>
                  <a:pt x="12314" y="8612"/>
                  <a:pt x="12328" y="8558"/>
                </a:cubicBezTo>
                <a:cubicBezTo>
                  <a:pt x="12328" y="8726"/>
                  <a:pt x="12312" y="8888"/>
                  <a:pt x="12303" y="9054"/>
                </a:cubicBezTo>
                <a:cubicBezTo>
                  <a:pt x="12294" y="9235"/>
                  <a:pt x="12303" y="9418"/>
                  <a:pt x="12303" y="9599"/>
                </a:cubicBezTo>
                <a:cubicBezTo>
                  <a:pt x="12318" y="9542"/>
                  <a:pt x="12317" y="9519"/>
                  <a:pt x="12328" y="9451"/>
                </a:cubicBezTo>
                <a:cubicBezTo>
                  <a:pt x="12354" y="9293"/>
                  <a:pt x="12400" y="9138"/>
                  <a:pt x="12427" y="8979"/>
                </a:cubicBezTo>
                <a:cubicBezTo>
                  <a:pt x="12448" y="8855"/>
                  <a:pt x="12481" y="8730"/>
                  <a:pt x="12502" y="8607"/>
                </a:cubicBezTo>
                <a:cubicBezTo>
                  <a:pt x="12566" y="8651"/>
                  <a:pt x="12507" y="8801"/>
                  <a:pt x="12502" y="8880"/>
                </a:cubicBezTo>
                <a:cubicBezTo>
                  <a:pt x="12491" y="9067"/>
                  <a:pt x="12448" y="9241"/>
                  <a:pt x="12427" y="9426"/>
                </a:cubicBezTo>
                <a:cubicBezTo>
                  <a:pt x="12420" y="9484"/>
                  <a:pt x="12413" y="9521"/>
                  <a:pt x="12402" y="9575"/>
                </a:cubicBezTo>
                <a:cubicBezTo>
                  <a:pt x="12402" y="9503"/>
                  <a:pt x="12416" y="9422"/>
                  <a:pt x="12427" y="9351"/>
                </a:cubicBezTo>
                <a:cubicBezTo>
                  <a:pt x="12455" y="9169"/>
                  <a:pt x="12451" y="8988"/>
                  <a:pt x="12477" y="8806"/>
                </a:cubicBezTo>
                <a:cubicBezTo>
                  <a:pt x="12477" y="8716"/>
                  <a:pt x="12477" y="8675"/>
                  <a:pt x="12477" y="8781"/>
                </a:cubicBezTo>
                <a:cubicBezTo>
                  <a:pt x="12477" y="9042"/>
                  <a:pt x="12503" y="9324"/>
                  <a:pt x="12452" y="9575"/>
                </a:cubicBezTo>
                <a:cubicBezTo>
                  <a:pt x="12440" y="9636"/>
                  <a:pt x="12428" y="9469"/>
                  <a:pt x="12427" y="9451"/>
                </a:cubicBezTo>
                <a:cubicBezTo>
                  <a:pt x="12424" y="9344"/>
                  <a:pt x="12427" y="9235"/>
                  <a:pt x="12427" y="9128"/>
                </a:cubicBezTo>
                <a:cubicBezTo>
                  <a:pt x="12427" y="8960"/>
                  <a:pt x="12427" y="8960"/>
                  <a:pt x="12427" y="9128"/>
                </a:cubicBezTo>
                <a:cubicBezTo>
                  <a:pt x="12427" y="9257"/>
                  <a:pt x="12423" y="9375"/>
                  <a:pt x="12452" y="9500"/>
                </a:cubicBezTo>
              </a:path>
              <a:path w="15355" h="2084">
                <a:moveTo>
                  <a:pt x="11782" y="8260"/>
                </a:moveTo>
                <a:cubicBezTo>
                  <a:pt x="11770" y="8256"/>
                  <a:pt x="11727" y="8209"/>
                  <a:pt x="11757" y="8186"/>
                </a:cubicBezTo>
                <a:cubicBezTo>
                  <a:pt x="11794" y="8157"/>
                  <a:pt x="11855" y="8161"/>
                  <a:pt x="11906" y="8161"/>
                </a:cubicBezTo>
                <a:cubicBezTo>
                  <a:pt x="11947" y="8161"/>
                  <a:pt x="11978" y="8196"/>
                  <a:pt x="11981" y="8235"/>
                </a:cubicBezTo>
                <a:cubicBezTo>
                  <a:pt x="11987" y="8320"/>
                  <a:pt x="11915" y="8317"/>
                  <a:pt x="11881" y="8384"/>
                </a:cubicBezTo>
                <a:cubicBezTo>
                  <a:pt x="11863" y="8421"/>
                  <a:pt x="11888" y="8496"/>
                  <a:pt x="11931" y="8508"/>
                </a:cubicBezTo>
                <a:cubicBezTo>
                  <a:pt x="11993" y="8526"/>
                  <a:pt x="12027" y="8494"/>
                  <a:pt x="12080" y="8533"/>
                </a:cubicBezTo>
                <a:cubicBezTo>
                  <a:pt x="12066" y="8590"/>
                  <a:pt x="12041" y="8603"/>
                  <a:pt x="11981" y="8607"/>
                </a:cubicBezTo>
                <a:cubicBezTo>
                  <a:pt x="11964" y="8607"/>
                  <a:pt x="11948" y="8607"/>
                  <a:pt x="11931" y="8607"/>
                </a:cubicBezTo>
              </a:path>
              <a:path w="15355" h="2084">
                <a:moveTo>
                  <a:pt x="12204" y="8285"/>
                </a:moveTo>
                <a:cubicBezTo>
                  <a:pt x="12250" y="8285"/>
                  <a:pt x="12263" y="8263"/>
                  <a:pt x="12303" y="8260"/>
                </a:cubicBezTo>
                <a:cubicBezTo>
                  <a:pt x="12347" y="8257"/>
                  <a:pt x="12432" y="8256"/>
                  <a:pt x="12452" y="8310"/>
                </a:cubicBezTo>
                <a:cubicBezTo>
                  <a:pt x="12469" y="8359"/>
                  <a:pt x="12399" y="8440"/>
                  <a:pt x="12378" y="8483"/>
                </a:cubicBezTo>
                <a:cubicBezTo>
                  <a:pt x="12346" y="8547"/>
                  <a:pt x="12328" y="8559"/>
                  <a:pt x="12328" y="8632"/>
                </a:cubicBezTo>
              </a:path>
              <a:path w="15355" h="2084">
                <a:moveTo>
                  <a:pt x="12675" y="8285"/>
                </a:moveTo>
                <a:cubicBezTo>
                  <a:pt x="12732" y="8247"/>
                  <a:pt x="12735" y="8231"/>
                  <a:pt x="12774" y="8235"/>
                </a:cubicBezTo>
                <a:cubicBezTo>
                  <a:pt x="12765" y="8273"/>
                  <a:pt x="12752" y="8304"/>
                  <a:pt x="12725" y="8334"/>
                </a:cubicBezTo>
                <a:cubicBezTo>
                  <a:pt x="12676" y="8388"/>
                  <a:pt x="12698" y="8412"/>
                  <a:pt x="12750" y="8434"/>
                </a:cubicBezTo>
                <a:cubicBezTo>
                  <a:pt x="12799" y="8455"/>
                  <a:pt x="12859" y="8457"/>
                  <a:pt x="12898" y="8483"/>
                </a:cubicBezTo>
                <a:cubicBezTo>
                  <a:pt x="12952" y="8520"/>
                  <a:pt x="12960" y="8551"/>
                  <a:pt x="12923" y="8607"/>
                </a:cubicBezTo>
                <a:cubicBezTo>
                  <a:pt x="12895" y="8648"/>
                  <a:pt x="12797" y="8651"/>
                  <a:pt x="12750" y="8657"/>
                </a:cubicBezTo>
              </a:path>
              <a:path w="15355" h="2084">
                <a:moveTo>
                  <a:pt x="12650" y="8458"/>
                </a:moveTo>
                <a:cubicBezTo>
                  <a:pt x="12740" y="8345"/>
                  <a:pt x="12774" y="8319"/>
                  <a:pt x="12898" y="8260"/>
                </a:cubicBezTo>
                <a:cubicBezTo>
                  <a:pt x="12950" y="8235"/>
                  <a:pt x="12993" y="8230"/>
                  <a:pt x="13047" y="8210"/>
                </a:cubicBezTo>
              </a:path>
              <a:path w="15355" h="2084">
                <a:moveTo>
                  <a:pt x="13345" y="8334"/>
                </a:moveTo>
                <a:cubicBezTo>
                  <a:pt x="13375" y="8342"/>
                  <a:pt x="13440" y="8347"/>
                  <a:pt x="13469" y="8359"/>
                </a:cubicBezTo>
                <a:cubicBezTo>
                  <a:pt x="13533" y="8386"/>
                  <a:pt x="13597" y="8389"/>
                  <a:pt x="13667" y="8409"/>
                </a:cubicBezTo>
                <a:cubicBezTo>
                  <a:pt x="13745" y="8431"/>
                  <a:pt x="13806" y="8434"/>
                  <a:pt x="13891" y="8434"/>
                </a:cubicBezTo>
                <a:cubicBezTo>
                  <a:pt x="13974" y="8434"/>
                  <a:pt x="14056" y="8434"/>
                  <a:pt x="14139" y="8434"/>
                </a:cubicBezTo>
                <a:cubicBezTo>
                  <a:pt x="14123" y="8495"/>
                  <a:pt x="14086" y="8494"/>
                  <a:pt x="14039" y="8533"/>
                </a:cubicBezTo>
                <a:cubicBezTo>
                  <a:pt x="14029" y="8541"/>
                  <a:pt x="13919" y="8627"/>
                  <a:pt x="13915" y="8632"/>
                </a:cubicBezTo>
                <a:cubicBezTo>
                  <a:pt x="13915" y="8640"/>
                  <a:pt x="13915" y="8649"/>
                  <a:pt x="13915" y="8657"/>
                </a:cubicBezTo>
                <a:cubicBezTo>
                  <a:pt x="13932" y="8591"/>
                  <a:pt x="13952" y="8607"/>
                  <a:pt x="13990" y="8558"/>
                </a:cubicBezTo>
                <a:cubicBezTo>
                  <a:pt x="14036" y="8500"/>
                  <a:pt x="14083" y="8485"/>
                  <a:pt x="14139" y="8434"/>
                </a:cubicBezTo>
                <a:cubicBezTo>
                  <a:pt x="14169" y="8407"/>
                  <a:pt x="14179" y="8394"/>
                  <a:pt x="14188" y="8359"/>
                </a:cubicBezTo>
                <a:cubicBezTo>
                  <a:pt x="14135" y="8316"/>
                  <a:pt x="14103" y="8294"/>
                  <a:pt x="14039" y="82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61040" y="322200"/>
            <a:ext cx="1411200" cy="990720"/>
          </a:xfrm>
          <a:custGeom>
            <a:avLst/>
            <a:gdLst/>
            <a:ahLst/>
            <a:rect l="l" t="t" r="r" b="b"/>
            <a:pathLst>
              <a:path w="3920" h="2754">
                <a:moveTo>
                  <a:pt x="17363" y="2084"/>
                </a:moveTo>
                <a:cubicBezTo>
                  <a:pt x="17445" y="2045"/>
                  <a:pt x="17523" y="2022"/>
                  <a:pt x="17587" y="1960"/>
                </a:cubicBezTo>
                <a:cubicBezTo>
                  <a:pt x="17572" y="1916"/>
                  <a:pt x="17463" y="1928"/>
                  <a:pt x="17413" y="1935"/>
                </a:cubicBezTo>
                <a:cubicBezTo>
                  <a:pt x="17315" y="1950"/>
                  <a:pt x="17150" y="2003"/>
                  <a:pt x="17115" y="2108"/>
                </a:cubicBezTo>
                <a:cubicBezTo>
                  <a:pt x="17078" y="2218"/>
                  <a:pt x="17265" y="2305"/>
                  <a:pt x="17338" y="2332"/>
                </a:cubicBezTo>
                <a:cubicBezTo>
                  <a:pt x="17425" y="2364"/>
                  <a:pt x="17581" y="2393"/>
                  <a:pt x="17636" y="2480"/>
                </a:cubicBezTo>
                <a:cubicBezTo>
                  <a:pt x="17698" y="2578"/>
                  <a:pt x="17608" y="2663"/>
                  <a:pt x="17512" y="2679"/>
                </a:cubicBezTo>
                <a:cubicBezTo>
                  <a:pt x="17412" y="2695"/>
                  <a:pt x="17309" y="2653"/>
                  <a:pt x="17214" y="2629"/>
                </a:cubicBezTo>
              </a:path>
              <a:path w="3920" h="2754">
                <a:moveTo>
                  <a:pt x="19149" y="1191"/>
                </a:moveTo>
                <a:cubicBezTo>
                  <a:pt x="19162" y="1141"/>
                  <a:pt x="19174" y="1127"/>
                  <a:pt x="19174" y="1067"/>
                </a:cubicBezTo>
                <a:cubicBezTo>
                  <a:pt x="19174" y="1042"/>
                  <a:pt x="19174" y="1017"/>
                  <a:pt x="19174" y="992"/>
                </a:cubicBezTo>
                <a:cubicBezTo>
                  <a:pt x="19174" y="917"/>
                  <a:pt x="19174" y="1163"/>
                  <a:pt x="19174" y="1166"/>
                </a:cubicBezTo>
                <a:cubicBezTo>
                  <a:pt x="19174" y="1343"/>
                  <a:pt x="19155" y="1512"/>
                  <a:pt x="19149" y="1687"/>
                </a:cubicBezTo>
                <a:cubicBezTo>
                  <a:pt x="19149" y="1748"/>
                  <a:pt x="19158" y="1764"/>
                  <a:pt x="19124" y="1786"/>
                </a:cubicBezTo>
              </a:path>
              <a:path w="3920" h="2754">
                <a:moveTo>
                  <a:pt x="19025" y="1141"/>
                </a:moveTo>
                <a:cubicBezTo>
                  <a:pt x="19086" y="981"/>
                  <a:pt x="19077" y="938"/>
                  <a:pt x="19174" y="893"/>
                </a:cubicBezTo>
                <a:cubicBezTo>
                  <a:pt x="19368" y="929"/>
                  <a:pt x="19461" y="1024"/>
                  <a:pt x="19546" y="1215"/>
                </a:cubicBezTo>
                <a:cubicBezTo>
                  <a:pt x="19613" y="1365"/>
                  <a:pt x="19650" y="1576"/>
                  <a:pt x="19472" y="1662"/>
                </a:cubicBezTo>
                <a:cubicBezTo>
                  <a:pt x="19344" y="1724"/>
                  <a:pt x="19245" y="1674"/>
                  <a:pt x="19124" y="1637"/>
                </a:cubicBezTo>
              </a:path>
              <a:path w="3920" h="2754">
                <a:moveTo>
                  <a:pt x="20439" y="1935"/>
                </a:moveTo>
                <a:cubicBezTo>
                  <a:pt x="20514" y="1956"/>
                  <a:pt x="20622" y="1968"/>
                  <a:pt x="20687" y="2009"/>
                </a:cubicBezTo>
                <a:cubicBezTo>
                  <a:pt x="20712" y="2009"/>
                  <a:pt x="20720" y="2009"/>
                  <a:pt x="20712" y="2034"/>
                </a:cubicBezTo>
                <a:cubicBezTo>
                  <a:pt x="20596" y="2086"/>
                  <a:pt x="20490" y="2085"/>
                  <a:pt x="20365" y="2108"/>
                </a:cubicBezTo>
                <a:cubicBezTo>
                  <a:pt x="20210" y="2136"/>
                  <a:pt x="20075" y="2158"/>
                  <a:pt x="19918" y="2158"/>
                </a:cubicBezTo>
                <a:cubicBezTo>
                  <a:pt x="19869" y="2158"/>
                  <a:pt x="19852" y="2158"/>
                  <a:pt x="19819" y="2158"/>
                </a:cubicBezTo>
                <a:cubicBezTo>
                  <a:pt x="19901" y="2148"/>
                  <a:pt x="19987" y="2116"/>
                  <a:pt x="20067" y="2084"/>
                </a:cubicBezTo>
                <a:cubicBezTo>
                  <a:pt x="20119" y="2063"/>
                  <a:pt x="20138" y="2064"/>
                  <a:pt x="20191" y="2059"/>
                </a:cubicBezTo>
                <a:cubicBezTo>
                  <a:pt x="20229" y="2171"/>
                  <a:pt x="20206" y="2312"/>
                  <a:pt x="20191" y="2431"/>
                </a:cubicBezTo>
                <a:cubicBezTo>
                  <a:pt x="20176" y="2551"/>
                  <a:pt x="20166" y="2657"/>
                  <a:pt x="20166" y="2778"/>
                </a:cubicBezTo>
              </a:path>
              <a:path w="3920" h="2754">
                <a:moveTo>
                  <a:pt x="20985" y="1761"/>
                </a:moveTo>
                <a:cubicBezTo>
                  <a:pt x="21026" y="1761"/>
                  <a:pt x="21042" y="1769"/>
                  <a:pt x="21034" y="1736"/>
                </a:cubicBezTo>
                <a:cubicBezTo>
                  <a:pt x="20983" y="1727"/>
                  <a:pt x="20947" y="1714"/>
                  <a:pt x="20886" y="1712"/>
                </a:cubicBezTo>
                <a:cubicBezTo>
                  <a:pt x="20774" y="1708"/>
                  <a:pt x="20674" y="1690"/>
                  <a:pt x="20563" y="1687"/>
                </a:cubicBezTo>
                <a:cubicBezTo>
                  <a:pt x="20428" y="1683"/>
                  <a:pt x="20300" y="1666"/>
                  <a:pt x="20166" y="1662"/>
                </a:cubicBezTo>
                <a:cubicBezTo>
                  <a:pt x="19768" y="1651"/>
                  <a:pt x="19371" y="1668"/>
                  <a:pt x="18976" y="1637"/>
                </a:cubicBezTo>
                <a:cubicBezTo>
                  <a:pt x="18771" y="1621"/>
                  <a:pt x="18559" y="1624"/>
                  <a:pt x="18355" y="1612"/>
                </a:cubicBezTo>
                <a:cubicBezTo>
                  <a:pt x="18024" y="1592"/>
                  <a:pt x="17690" y="1621"/>
                  <a:pt x="17363" y="1588"/>
                </a:cubicBezTo>
                <a:cubicBezTo>
                  <a:pt x="17298" y="1582"/>
                  <a:pt x="17230" y="1588"/>
                  <a:pt x="17165" y="1588"/>
                </a:cubicBezTo>
              </a:path>
              <a:path w="3920" h="2754">
                <a:moveTo>
                  <a:pt x="18852" y="1960"/>
                </a:moveTo>
                <a:cubicBezTo>
                  <a:pt x="18872" y="1909"/>
                  <a:pt x="18899" y="1831"/>
                  <a:pt x="18926" y="1786"/>
                </a:cubicBezTo>
                <a:cubicBezTo>
                  <a:pt x="18945" y="1755"/>
                  <a:pt x="18953" y="1740"/>
                  <a:pt x="18976" y="1712"/>
                </a:cubicBezTo>
                <a:cubicBezTo>
                  <a:pt x="18976" y="1815"/>
                  <a:pt x="18975" y="1905"/>
                  <a:pt x="18951" y="2009"/>
                </a:cubicBezTo>
                <a:cubicBezTo>
                  <a:pt x="18888" y="2278"/>
                  <a:pt x="18835" y="2528"/>
                  <a:pt x="18802" y="2803"/>
                </a:cubicBezTo>
                <a:cubicBezTo>
                  <a:pt x="18777" y="3009"/>
                  <a:pt x="18777" y="3219"/>
                  <a:pt x="18752" y="3423"/>
                </a:cubicBezTo>
                <a:cubicBezTo>
                  <a:pt x="18742" y="3502"/>
                  <a:pt x="18732" y="3566"/>
                  <a:pt x="18728" y="36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4760" y="2401920"/>
            <a:ext cx="98280" cy="63360"/>
          </a:xfrm>
          <a:custGeom>
            <a:avLst/>
            <a:gdLst/>
            <a:ahLst/>
            <a:rect l="l" t="t" r="r" b="b"/>
            <a:pathLst>
              <a:path w="274" h="175">
                <a:moveTo>
                  <a:pt x="4539" y="6672"/>
                </a:moveTo>
                <a:cubicBezTo>
                  <a:pt x="4539" y="6680"/>
                  <a:pt x="4539" y="6689"/>
                  <a:pt x="4539" y="6697"/>
                </a:cubicBezTo>
                <a:cubicBezTo>
                  <a:pt x="4456" y="6697"/>
                  <a:pt x="4374" y="6697"/>
                  <a:pt x="4291" y="6697"/>
                </a:cubicBezTo>
              </a:path>
              <a:path w="274" h="175">
                <a:moveTo>
                  <a:pt x="4539" y="6846"/>
                </a:moveTo>
                <a:cubicBezTo>
                  <a:pt x="4547" y="6846"/>
                  <a:pt x="4556" y="6846"/>
                  <a:pt x="4564" y="6846"/>
                </a:cubicBezTo>
                <a:cubicBezTo>
                  <a:pt x="4514" y="6846"/>
                  <a:pt x="4465" y="6846"/>
                  <a:pt x="4415" y="68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70000" y="4714920"/>
            <a:ext cx="1108080" cy="750960"/>
          </a:xfrm>
          <a:custGeom>
            <a:avLst/>
            <a:gdLst/>
            <a:ahLst/>
            <a:rect l="l" t="t" r="r" b="b"/>
            <a:pathLst>
              <a:path w="3077" h="2084">
                <a:moveTo>
                  <a:pt x="4390" y="13221"/>
                </a:moveTo>
                <a:cubicBezTo>
                  <a:pt x="4390" y="13188"/>
                  <a:pt x="4390" y="13155"/>
                  <a:pt x="4390" y="13122"/>
                </a:cubicBezTo>
                <a:cubicBezTo>
                  <a:pt x="4390" y="13067"/>
                  <a:pt x="4368" y="13299"/>
                  <a:pt x="4366" y="13320"/>
                </a:cubicBezTo>
                <a:cubicBezTo>
                  <a:pt x="4356" y="13462"/>
                  <a:pt x="4341" y="13599"/>
                  <a:pt x="4341" y="13742"/>
                </a:cubicBezTo>
                <a:cubicBezTo>
                  <a:pt x="4341" y="13758"/>
                  <a:pt x="4341" y="13775"/>
                  <a:pt x="4341" y="13791"/>
                </a:cubicBezTo>
                <a:cubicBezTo>
                  <a:pt x="4357" y="13713"/>
                  <a:pt x="4386" y="13653"/>
                  <a:pt x="4440" y="13593"/>
                </a:cubicBezTo>
                <a:cubicBezTo>
                  <a:pt x="4525" y="13498"/>
                  <a:pt x="4595" y="13544"/>
                  <a:pt x="4638" y="13643"/>
                </a:cubicBezTo>
                <a:cubicBezTo>
                  <a:pt x="4691" y="13763"/>
                  <a:pt x="4647" y="13848"/>
                  <a:pt x="4539" y="13891"/>
                </a:cubicBezTo>
                <a:cubicBezTo>
                  <a:pt x="4463" y="13921"/>
                  <a:pt x="4397" y="13915"/>
                  <a:pt x="4316" y="13915"/>
                </a:cubicBezTo>
              </a:path>
              <a:path w="3077" h="2084">
                <a:moveTo>
                  <a:pt x="4738" y="13568"/>
                </a:moveTo>
                <a:cubicBezTo>
                  <a:pt x="4781" y="13626"/>
                  <a:pt x="4814" y="13692"/>
                  <a:pt x="4837" y="13767"/>
                </a:cubicBezTo>
                <a:cubicBezTo>
                  <a:pt x="4837" y="13800"/>
                  <a:pt x="4837" y="13816"/>
                  <a:pt x="4837" y="13841"/>
                </a:cubicBezTo>
              </a:path>
              <a:path w="3077" h="2084">
                <a:moveTo>
                  <a:pt x="4738" y="13618"/>
                </a:moveTo>
                <a:cubicBezTo>
                  <a:pt x="4738" y="13563"/>
                  <a:pt x="4717" y="13485"/>
                  <a:pt x="4762" y="13469"/>
                </a:cubicBezTo>
              </a:path>
              <a:path w="3077" h="2084">
                <a:moveTo>
                  <a:pt x="5011" y="13692"/>
                </a:moveTo>
                <a:cubicBezTo>
                  <a:pt x="5042" y="13703"/>
                  <a:pt x="5055" y="13797"/>
                  <a:pt x="5060" y="13841"/>
                </a:cubicBezTo>
                <a:cubicBezTo>
                  <a:pt x="5069" y="13918"/>
                  <a:pt x="5043" y="13923"/>
                  <a:pt x="5110" y="13940"/>
                </a:cubicBezTo>
                <a:cubicBezTo>
                  <a:pt x="5148" y="13877"/>
                  <a:pt x="5151" y="13830"/>
                  <a:pt x="5209" y="13767"/>
                </a:cubicBezTo>
                <a:cubicBezTo>
                  <a:pt x="5217" y="13759"/>
                  <a:pt x="5226" y="13750"/>
                  <a:pt x="5234" y="13742"/>
                </a:cubicBezTo>
                <a:cubicBezTo>
                  <a:pt x="5309" y="13789"/>
                  <a:pt x="5409" y="13873"/>
                  <a:pt x="5432" y="13965"/>
                </a:cubicBezTo>
                <a:cubicBezTo>
                  <a:pt x="5463" y="14091"/>
                  <a:pt x="5421" y="14151"/>
                  <a:pt x="5308" y="14188"/>
                </a:cubicBezTo>
                <a:cubicBezTo>
                  <a:pt x="5221" y="14216"/>
                  <a:pt x="5149" y="14213"/>
                  <a:pt x="5060" y="14213"/>
                </a:cubicBezTo>
              </a:path>
              <a:path w="3077" h="2084">
                <a:moveTo>
                  <a:pt x="5730" y="14114"/>
                </a:moveTo>
                <a:cubicBezTo>
                  <a:pt x="5769" y="14153"/>
                  <a:pt x="5785" y="14154"/>
                  <a:pt x="5779" y="14188"/>
                </a:cubicBezTo>
                <a:cubicBezTo>
                  <a:pt x="5661" y="14228"/>
                  <a:pt x="5509" y="14255"/>
                  <a:pt x="5383" y="14263"/>
                </a:cubicBezTo>
                <a:cubicBezTo>
                  <a:pt x="5152" y="14279"/>
                  <a:pt x="4918" y="14258"/>
                  <a:pt x="4688" y="14288"/>
                </a:cubicBezTo>
                <a:cubicBezTo>
                  <a:pt x="4566" y="14304"/>
                  <a:pt x="4537" y="14333"/>
                  <a:pt x="4465" y="14412"/>
                </a:cubicBezTo>
                <a:cubicBezTo>
                  <a:pt x="4442" y="14434"/>
                  <a:pt x="4434" y="14439"/>
                  <a:pt x="4440" y="14461"/>
                </a:cubicBezTo>
              </a:path>
              <a:path w="3077" h="2084">
                <a:moveTo>
                  <a:pt x="4390" y="14858"/>
                </a:moveTo>
                <a:cubicBezTo>
                  <a:pt x="4432" y="14816"/>
                  <a:pt x="4439" y="14808"/>
                  <a:pt x="4465" y="14784"/>
                </a:cubicBezTo>
                <a:cubicBezTo>
                  <a:pt x="4437" y="14791"/>
                  <a:pt x="4376" y="14822"/>
                  <a:pt x="4366" y="14858"/>
                </a:cubicBezTo>
                <a:cubicBezTo>
                  <a:pt x="4344" y="14939"/>
                  <a:pt x="4375" y="14994"/>
                  <a:pt x="4440" y="15032"/>
                </a:cubicBezTo>
                <a:cubicBezTo>
                  <a:pt x="4490" y="15061"/>
                  <a:pt x="4547" y="15053"/>
                  <a:pt x="4589" y="15081"/>
                </a:cubicBezTo>
                <a:cubicBezTo>
                  <a:pt x="4612" y="15104"/>
                  <a:pt x="4620" y="15108"/>
                  <a:pt x="4614" y="15131"/>
                </a:cubicBezTo>
                <a:cubicBezTo>
                  <a:pt x="4573" y="15156"/>
                  <a:pt x="4517" y="15177"/>
                  <a:pt x="4465" y="15180"/>
                </a:cubicBezTo>
                <a:cubicBezTo>
                  <a:pt x="4448" y="15180"/>
                  <a:pt x="4432" y="15180"/>
                  <a:pt x="4415" y="15180"/>
                </a:cubicBezTo>
              </a:path>
              <a:path w="3077" h="2084">
                <a:moveTo>
                  <a:pt x="4663" y="14957"/>
                </a:moveTo>
                <a:cubicBezTo>
                  <a:pt x="4741" y="14988"/>
                  <a:pt x="4791" y="15014"/>
                  <a:pt x="4812" y="15106"/>
                </a:cubicBezTo>
                <a:cubicBezTo>
                  <a:pt x="4812" y="15148"/>
                  <a:pt x="4820" y="15164"/>
                  <a:pt x="4787" y="15156"/>
                </a:cubicBezTo>
                <a:cubicBezTo>
                  <a:pt x="4761" y="15121"/>
                  <a:pt x="4740" y="15072"/>
                  <a:pt x="4787" y="15032"/>
                </a:cubicBezTo>
                <a:cubicBezTo>
                  <a:pt x="4813" y="15009"/>
                  <a:pt x="4885" y="15053"/>
                  <a:pt x="4911" y="15056"/>
                </a:cubicBezTo>
                <a:cubicBezTo>
                  <a:pt x="4990" y="15064"/>
                  <a:pt x="4960" y="15034"/>
                  <a:pt x="4986" y="14982"/>
                </a:cubicBezTo>
                <a:cubicBezTo>
                  <a:pt x="5008" y="14938"/>
                  <a:pt x="5064" y="14916"/>
                  <a:pt x="5110" y="14932"/>
                </a:cubicBezTo>
                <a:cubicBezTo>
                  <a:pt x="5154" y="14947"/>
                  <a:pt x="5238" y="15010"/>
                  <a:pt x="5259" y="15056"/>
                </a:cubicBezTo>
                <a:cubicBezTo>
                  <a:pt x="5259" y="15064"/>
                  <a:pt x="5259" y="15073"/>
                  <a:pt x="5259" y="15081"/>
                </a:cubicBezTo>
              </a:path>
              <a:path w="3077" h="2084">
                <a:moveTo>
                  <a:pt x="5333" y="14932"/>
                </a:moveTo>
                <a:cubicBezTo>
                  <a:pt x="5350" y="14916"/>
                  <a:pt x="5366" y="14899"/>
                  <a:pt x="5383" y="14883"/>
                </a:cubicBezTo>
                <a:cubicBezTo>
                  <a:pt x="5325" y="14940"/>
                  <a:pt x="5333" y="14974"/>
                  <a:pt x="5333" y="15056"/>
                </a:cubicBezTo>
                <a:cubicBezTo>
                  <a:pt x="5333" y="15084"/>
                  <a:pt x="5335" y="15095"/>
                  <a:pt x="5358" y="15106"/>
                </a:cubicBezTo>
                <a:cubicBezTo>
                  <a:pt x="5366" y="15074"/>
                  <a:pt x="5396" y="15023"/>
                  <a:pt x="5432" y="15007"/>
                </a:cubicBezTo>
                <a:cubicBezTo>
                  <a:pt x="5480" y="14986"/>
                  <a:pt x="5549" y="15055"/>
                  <a:pt x="5581" y="15081"/>
                </a:cubicBezTo>
                <a:cubicBezTo>
                  <a:pt x="5659" y="15146"/>
                  <a:pt x="5709" y="15147"/>
                  <a:pt x="5779" y="15056"/>
                </a:cubicBezTo>
                <a:cubicBezTo>
                  <a:pt x="5845" y="14970"/>
                  <a:pt x="5829" y="14859"/>
                  <a:pt x="5829" y="14759"/>
                </a:cubicBezTo>
                <a:cubicBezTo>
                  <a:pt x="5829" y="14691"/>
                  <a:pt x="5832" y="14672"/>
                  <a:pt x="5804" y="14635"/>
                </a:cubicBezTo>
                <a:cubicBezTo>
                  <a:pt x="5759" y="14680"/>
                  <a:pt x="5801" y="14833"/>
                  <a:pt x="5829" y="14908"/>
                </a:cubicBezTo>
                <a:cubicBezTo>
                  <a:pt x="5851" y="14966"/>
                  <a:pt x="5922" y="15185"/>
                  <a:pt x="6028" y="15131"/>
                </a:cubicBezTo>
                <a:cubicBezTo>
                  <a:pt x="6133" y="15078"/>
                  <a:pt x="6147" y="14877"/>
                  <a:pt x="6152" y="14784"/>
                </a:cubicBezTo>
                <a:cubicBezTo>
                  <a:pt x="6155" y="14727"/>
                  <a:pt x="6152" y="14668"/>
                  <a:pt x="6152" y="14610"/>
                </a:cubicBezTo>
                <a:cubicBezTo>
                  <a:pt x="6206" y="14748"/>
                  <a:pt x="6228" y="14895"/>
                  <a:pt x="6276" y="15032"/>
                </a:cubicBezTo>
                <a:cubicBezTo>
                  <a:pt x="6292" y="15065"/>
                  <a:pt x="6309" y="15098"/>
                  <a:pt x="6325" y="15131"/>
                </a:cubicBezTo>
              </a:path>
              <a:path w="3077" h="2084">
                <a:moveTo>
                  <a:pt x="3597" y="14288"/>
                </a:moveTo>
                <a:cubicBezTo>
                  <a:pt x="3580" y="14237"/>
                  <a:pt x="3528" y="14275"/>
                  <a:pt x="3473" y="14263"/>
                </a:cubicBezTo>
                <a:cubicBezTo>
                  <a:pt x="3391" y="14245"/>
                  <a:pt x="3333" y="14238"/>
                  <a:pt x="3249" y="14238"/>
                </a:cubicBezTo>
              </a:path>
              <a:path w="3077" h="2084">
                <a:moveTo>
                  <a:pt x="3473" y="14412"/>
                </a:moveTo>
                <a:cubicBezTo>
                  <a:pt x="3489" y="14412"/>
                  <a:pt x="3506" y="14412"/>
                  <a:pt x="3522" y="14412"/>
                </a:cubicBezTo>
                <a:cubicBezTo>
                  <a:pt x="3498" y="14447"/>
                  <a:pt x="3454" y="14436"/>
                  <a:pt x="3398" y="144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71840" y="4510080"/>
            <a:ext cx="142920" cy="1554120"/>
          </a:xfrm>
          <a:custGeom>
            <a:avLst/>
            <a:gdLst/>
            <a:ahLst/>
            <a:rect l="l" t="t" r="r" b="b"/>
            <a:pathLst>
              <a:path w="398" h="4317">
                <a:moveTo>
                  <a:pt x="7144" y="12526"/>
                </a:moveTo>
                <a:cubicBezTo>
                  <a:pt x="7177" y="12626"/>
                  <a:pt x="7191" y="12702"/>
                  <a:pt x="7193" y="12824"/>
                </a:cubicBezTo>
                <a:cubicBezTo>
                  <a:pt x="7200" y="13272"/>
                  <a:pt x="7188" y="13716"/>
                  <a:pt x="7218" y="14163"/>
                </a:cubicBezTo>
                <a:cubicBezTo>
                  <a:pt x="7245" y="14569"/>
                  <a:pt x="7260" y="14974"/>
                  <a:pt x="7293" y="15379"/>
                </a:cubicBezTo>
                <a:cubicBezTo>
                  <a:pt x="7316" y="15660"/>
                  <a:pt x="7332" y="15943"/>
                  <a:pt x="7367" y="16222"/>
                </a:cubicBezTo>
                <a:cubicBezTo>
                  <a:pt x="7391" y="16412"/>
                  <a:pt x="7432" y="16567"/>
                  <a:pt x="7491" y="16743"/>
                </a:cubicBezTo>
                <a:cubicBezTo>
                  <a:pt x="7503" y="16780"/>
                  <a:pt x="7536" y="16832"/>
                  <a:pt x="7541" y="16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51200" y="4768920"/>
            <a:ext cx="901800" cy="919080"/>
          </a:xfrm>
          <a:custGeom>
            <a:avLst/>
            <a:gdLst/>
            <a:ahLst/>
            <a:rect l="l" t="t" r="r" b="b"/>
            <a:pathLst>
              <a:path w="2506" h="2556">
                <a:moveTo>
                  <a:pt x="10716" y="13543"/>
                </a:moveTo>
                <a:cubicBezTo>
                  <a:pt x="10771" y="13488"/>
                  <a:pt x="10822" y="13463"/>
                  <a:pt x="10765" y="13469"/>
                </a:cubicBezTo>
                <a:cubicBezTo>
                  <a:pt x="10689" y="13479"/>
                  <a:pt x="10613" y="13490"/>
                  <a:pt x="10542" y="13519"/>
                </a:cubicBezTo>
                <a:cubicBezTo>
                  <a:pt x="10494" y="13542"/>
                  <a:pt x="10477" y="13548"/>
                  <a:pt x="10492" y="13593"/>
                </a:cubicBezTo>
                <a:cubicBezTo>
                  <a:pt x="10543" y="13664"/>
                  <a:pt x="10610" y="13699"/>
                  <a:pt x="10691" y="13742"/>
                </a:cubicBezTo>
                <a:cubicBezTo>
                  <a:pt x="10735" y="13765"/>
                  <a:pt x="10756" y="13782"/>
                  <a:pt x="10790" y="13816"/>
                </a:cubicBezTo>
                <a:cubicBezTo>
                  <a:pt x="10730" y="13876"/>
                  <a:pt x="10731" y="13886"/>
                  <a:pt x="10641" y="13891"/>
                </a:cubicBezTo>
                <a:cubicBezTo>
                  <a:pt x="10625" y="13891"/>
                  <a:pt x="10608" y="13891"/>
                  <a:pt x="10592" y="13891"/>
                </a:cubicBezTo>
              </a:path>
              <a:path w="2506" h="2556">
                <a:moveTo>
                  <a:pt x="10988" y="13618"/>
                </a:moveTo>
                <a:cubicBezTo>
                  <a:pt x="11048" y="13687"/>
                  <a:pt x="11038" y="13699"/>
                  <a:pt x="11038" y="13791"/>
                </a:cubicBezTo>
                <a:cubicBezTo>
                  <a:pt x="11038" y="13808"/>
                  <a:pt x="11038" y="13824"/>
                  <a:pt x="11038" y="13841"/>
                </a:cubicBezTo>
                <a:cubicBezTo>
                  <a:pt x="11063" y="13800"/>
                  <a:pt x="11049" y="13727"/>
                  <a:pt x="11088" y="13692"/>
                </a:cubicBezTo>
                <a:cubicBezTo>
                  <a:pt x="11136" y="13649"/>
                  <a:pt x="11195" y="13747"/>
                  <a:pt x="11212" y="13767"/>
                </a:cubicBezTo>
                <a:cubicBezTo>
                  <a:pt x="11242" y="13796"/>
                  <a:pt x="11256" y="13807"/>
                  <a:pt x="11286" y="13816"/>
                </a:cubicBezTo>
                <a:cubicBezTo>
                  <a:pt x="11316" y="13777"/>
                  <a:pt x="11345" y="13717"/>
                  <a:pt x="11361" y="13667"/>
                </a:cubicBezTo>
                <a:cubicBezTo>
                  <a:pt x="11361" y="13659"/>
                  <a:pt x="11361" y="13651"/>
                  <a:pt x="11361" y="13643"/>
                </a:cubicBezTo>
                <a:cubicBezTo>
                  <a:pt x="11452" y="13661"/>
                  <a:pt x="11450" y="13716"/>
                  <a:pt x="11509" y="13767"/>
                </a:cubicBezTo>
                <a:cubicBezTo>
                  <a:pt x="11541" y="13795"/>
                  <a:pt x="11579" y="13826"/>
                  <a:pt x="11609" y="13841"/>
                </a:cubicBezTo>
              </a:path>
              <a:path w="2506" h="2556">
                <a:moveTo>
                  <a:pt x="11708" y="13717"/>
                </a:moveTo>
                <a:cubicBezTo>
                  <a:pt x="11727" y="13660"/>
                  <a:pt x="11736" y="13653"/>
                  <a:pt x="11733" y="13618"/>
                </a:cubicBezTo>
                <a:cubicBezTo>
                  <a:pt x="11684" y="13679"/>
                  <a:pt x="11683" y="13713"/>
                  <a:pt x="11683" y="13791"/>
                </a:cubicBezTo>
                <a:cubicBezTo>
                  <a:pt x="11683" y="13799"/>
                  <a:pt x="11683" y="13808"/>
                  <a:pt x="11683" y="13816"/>
                </a:cubicBezTo>
                <a:cubicBezTo>
                  <a:pt x="11747" y="13816"/>
                  <a:pt x="11741" y="13788"/>
                  <a:pt x="11782" y="13742"/>
                </a:cubicBezTo>
                <a:cubicBezTo>
                  <a:pt x="11836" y="13682"/>
                  <a:pt x="11856" y="13735"/>
                  <a:pt x="11906" y="13767"/>
                </a:cubicBezTo>
                <a:cubicBezTo>
                  <a:pt x="11991" y="13821"/>
                  <a:pt x="12030" y="13834"/>
                  <a:pt x="12105" y="13767"/>
                </a:cubicBezTo>
                <a:cubicBezTo>
                  <a:pt x="12186" y="13695"/>
                  <a:pt x="12199" y="13572"/>
                  <a:pt x="12204" y="13469"/>
                </a:cubicBezTo>
                <a:cubicBezTo>
                  <a:pt x="12204" y="13428"/>
                  <a:pt x="12204" y="13420"/>
                  <a:pt x="12204" y="13395"/>
                </a:cubicBezTo>
                <a:cubicBezTo>
                  <a:pt x="12160" y="13482"/>
                  <a:pt x="12192" y="13596"/>
                  <a:pt x="12229" y="13692"/>
                </a:cubicBezTo>
                <a:cubicBezTo>
                  <a:pt x="12254" y="13758"/>
                  <a:pt x="12358" y="13935"/>
                  <a:pt x="12452" y="13816"/>
                </a:cubicBezTo>
                <a:cubicBezTo>
                  <a:pt x="12532" y="13714"/>
                  <a:pt x="12548" y="13568"/>
                  <a:pt x="12551" y="13444"/>
                </a:cubicBezTo>
                <a:cubicBezTo>
                  <a:pt x="12553" y="13378"/>
                  <a:pt x="12551" y="13312"/>
                  <a:pt x="12551" y="13246"/>
                </a:cubicBezTo>
                <a:cubicBezTo>
                  <a:pt x="12551" y="13359"/>
                  <a:pt x="12564" y="13460"/>
                  <a:pt x="12601" y="13568"/>
                </a:cubicBezTo>
                <a:cubicBezTo>
                  <a:pt x="12643" y="13675"/>
                  <a:pt x="12654" y="13699"/>
                  <a:pt x="12675" y="13767"/>
                </a:cubicBezTo>
              </a:path>
              <a:path w="2506" h="2556">
                <a:moveTo>
                  <a:pt x="12923" y="14188"/>
                </a:moveTo>
                <a:cubicBezTo>
                  <a:pt x="12894" y="14101"/>
                  <a:pt x="12782" y="14116"/>
                  <a:pt x="12675" y="14114"/>
                </a:cubicBezTo>
                <a:cubicBezTo>
                  <a:pt x="12275" y="14106"/>
                  <a:pt x="11856" y="14084"/>
                  <a:pt x="11460" y="14139"/>
                </a:cubicBezTo>
                <a:cubicBezTo>
                  <a:pt x="11350" y="14154"/>
                  <a:pt x="11209" y="14175"/>
                  <a:pt x="11112" y="14238"/>
                </a:cubicBezTo>
                <a:cubicBezTo>
                  <a:pt x="11088" y="14254"/>
                  <a:pt x="11087" y="14247"/>
                  <a:pt x="11063" y="14263"/>
                </a:cubicBezTo>
              </a:path>
              <a:path w="2506" h="2556">
                <a:moveTo>
                  <a:pt x="11336" y="14337"/>
                </a:moveTo>
                <a:cubicBezTo>
                  <a:pt x="11352" y="14329"/>
                  <a:pt x="11369" y="14320"/>
                  <a:pt x="11385" y="14312"/>
                </a:cubicBezTo>
                <a:cubicBezTo>
                  <a:pt x="11385" y="14511"/>
                  <a:pt x="11385" y="14709"/>
                  <a:pt x="11385" y="14908"/>
                </a:cubicBezTo>
                <a:cubicBezTo>
                  <a:pt x="11419" y="14874"/>
                  <a:pt x="11483" y="14759"/>
                  <a:pt x="11534" y="14759"/>
                </a:cubicBezTo>
                <a:cubicBezTo>
                  <a:pt x="11614" y="14759"/>
                  <a:pt x="11652" y="14876"/>
                  <a:pt x="11658" y="14932"/>
                </a:cubicBezTo>
                <a:cubicBezTo>
                  <a:pt x="11669" y="15040"/>
                  <a:pt x="11578" y="15009"/>
                  <a:pt x="11509" y="14982"/>
                </a:cubicBezTo>
                <a:cubicBezTo>
                  <a:pt x="11493" y="14974"/>
                  <a:pt x="11476" y="14965"/>
                  <a:pt x="11460" y="14957"/>
                </a:cubicBezTo>
              </a:path>
              <a:path w="2506" h="2556">
                <a:moveTo>
                  <a:pt x="11733" y="14759"/>
                </a:moveTo>
                <a:cubicBezTo>
                  <a:pt x="11857" y="14777"/>
                  <a:pt x="11890" y="14778"/>
                  <a:pt x="11906" y="14908"/>
                </a:cubicBezTo>
              </a:path>
              <a:path w="2506" h="2556">
                <a:moveTo>
                  <a:pt x="11807" y="14610"/>
                </a:moveTo>
                <a:cubicBezTo>
                  <a:pt x="11826" y="14553"/>
                  <a:pt x="11817" y="14528"/>
                  <a:pt x="11857" y="14536"/>
                </a:cubicBezTo>
              </a:path>
              <a:path w="2506" h="2556">
                <a:moveTo>
                  <a:pt x="12080" y="14808"/>
                </a:moveTo>
                <a:cubicBezTo>
                  <a:pt x="12066" y="14844"/>
                  <a:pt x="12037" y="14888"/>
                  <a:pt x="12080" y="14957"/>
                </a:cubicBezTo>
                <a:cubicBezTo>
                  <a:pt x="12088" y="14965"/>
                  <a:pt x="12097" y="14974"/>
                  <a:pt x="12105" y="14982"/>
                </a:cubicBezTo>
                <a:cubicBezTo>
                  <a:pt x="12133" y="14953"/>
                  <a:pt x="12214" y="14832"/>
                  <a:pt x="12254" y="14808"/>
                </a:cubicBezTo>
                <a:cubicBezTo>
                  <a:pt x="12270" y="14808"/>
                  <a:pt x="12287" y="14808"/>
                  <a:pt x="12303" y="14808"/>
                </a:cubicBezTo>
                <a:cubicBezTo>
                  <a:pt x="12426" y="14962"/>
                  <a:pt x="12461" y="15102"/>
                  <a:pt x="12452" y="15304"/>
                </a:cubicBezTo>
                <a:cubicBezTo>
                  <a:pt x="12442" y="15524"/>
                  <a:pt x="12368" y="15741"/>
                  <a:pt x="12129" y="15801"/>
                </a:cubicBezTo>
                <a:cubicBezTo>
                  <a:pt x="11923" y="15853"/>
                  <a:pt x="11743" y="15733"/>
                  <a:pt x="11584" y="15627"/>
                </a:cubicBezTo>
              </a:path>
              <a:path w="2506" h="2556">
                <a:moveTo>
                  <a:pt x="10666" y="14288"/>
                </a:moveTo>
                <a:cubicBezTo>
                  <a:pt x="10583" y="14288"/>
                  <a:pt x="10501" y="14288"/>
                  <a:pt x="10418" y="14288"/>
                </a:cubicBezTo>
              </a:path>
              <a:path w="2506" h="2556">
                <a:moveTo>
                  <a:pt x="10616" y="14436"/>
                </a:moveTo>
                <a:cubicBezTo>
                  <a:pt x="10624" y="14436"/>
                  <a:pt x="10633" y="14436"/>
                  <a:pt x="10641" y="14436"/>
                </a:cubicBezTo>
                <a:cubicBezTo>
                  <a:pt x="10626" y="14497"/>
                  <a:pt x="10603" y="14486"/>
                  <a:pt x="10542" y="144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4169" t="7151" r="12927" b="31859"/>
          <a:stretch/>
        </p:blipFill>
        <p:spPr>
          <a:xfrm>
            <a:off x="0" y="0"/>
            <a:ext cx="6443640" cy="6524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125880" y="938160"/>
            <a:ext cx="187200" cy="169920"/>
          </a:xfrm>
          <a:custGeom>
            <a:avLst/>
            <a:gdLst/>
            <a:ahLst/>
            <a:rect l="l" t="t" r="r" b="b"/>
            <a:pathLst>
              <a:path w="522" h="473">
                <a:moveTo>
                  <a:pt x="9203" y="2604"/>
                </a:moveTo>
                <a:cubicBezTo>
                  <a:pt x="9106" y="2679"/>
                  <a:pt x="9029" y="2693"/>
                  <a:pt x="9029" y="2803"/>
                </a:cubicBezTo>
              </a:path>
              <a:path w="522" h="473">
                <a:moveTo>
                  <a:pt x="8979" y="2828"/>
                </a:moveTo>
                <a:cubicBezTo>
                  <a:pt x="8907" y="2900"/>
                  <a:pt x="8840" y="2971"/>
                  <a:pt x="8756" y="3026"/>
                </a:cubicBezTo>
                <a:cubicBezTo>
                  <a:pt x="8731" y="3043"/>
                  <a:pt x="8707" y="3059"/>
                  <a:pt x="8682" y="30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95760" y="1231920"/>
            <a:ext cx="98280" cy="8100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8037" y="3423"/>
                </a:moveTo>
                <a:cubicBezTo>
                  <a:pt x="7916" y="3504"/>
                  <a:pt x="7850" y="3541"/>
                  <a:pt x="7764" y="36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16040" y="866880"/>
            <a:ext cx="1965240" cy="696960"/>
          </a:xfrm>
          <a:custGeom>
            <a:avLst/>
            <a:gdLst/>
            <a:ahLst/>
            <a:rect l="l" t="t" r="r" b="b"/>
            <a:pathLst>
              <a:path w="5458" h="1936">
                <a:moveTo>
                  <a:pt x="9252" y="2902"/>
                </a:moveTo>
                <a:cubicBezTo>
                  <a:pt x="9260" y="2894"/>
                  <a:pt x="9269" y="2885"/>
                  <a:pt x="9277" y="2877"/>
                </a:cubicBezTo>
                <a:cubicBezTo>
                  <a:pt x="9230" y="2893"/>
                  <a:pt x="9240" y="2948"/>
                  <a:pt x="9227" y="3001"/>
                </a:cubicBezTo>
                <a:cubicBezTo>
                  <a:pt x="9196" y="3124"/>
                  <a:pt x="9199" y="3249"/>
                  <a:pt x="9178" y="3373"/>
                </a:cubicBezTo>
                <a:cubicBezTo>
                  <a:pt x="9157" y="3497"/>
                  <a:pt x="9115" y="3625"/>
                  <a:pt x="9079" y="3746"/>
                </a:cubicBezTo>
                <a:cubicBezTo>
                  <a:pt x="9055" y="3828"/>
                  <a:pt x="9018" y="3913"/>
                  <a:pt x="9004" y="3994"/>
                </a:cubicBezTo>
                <a:cubicBezTo>
                  <a:pt x="9004" y="4010"/>
                  <a:pt x="9004" y="4027"/>
                  <a:pt x="9004" y="4043"/>
                </a:cubicBezTo>
              </a:path>
              <a:path w="5458" h="1936">
                <a:moveTo>
                  <a:pt x="9302" y="2877"/>
                </a:moveTo>
                <a:cubicBezTo>
                  <a:pt x="9279" y="2863"/>
                  <a:pt x="9291" y="2837"/>
                  <a:pt x="9252" y="2828"/>
                </a:cubicBezTo>
                <a:cubicBezTo>
                  <a:pt x="9182" y="2812"/>
                  <a:pt x="9100" y="2807"/>
                  <a:pt x="9029" y="2803"/>
                </a:cubicBezTo>
                <a:cubicBezTo>
                  <a:pt x="8845" y="2792"/>
                  <a:pt x="8662" y="2815"/>
                  <a:pt x="8483" y="2828"/>
                </a:cubicBezTo>
                <a:cubicBezTo>
                  <a:pt x="8350" y="2838"/>
                  <a:pt x="8219" y="2850"/>
                  <a:pt x="8086" y="2853"/>
                </a:cubicBezTo>
                <a:cubicBezTo>
                  <a:pt x="7450" y="2869"/>
                  <a:pt x="6807" y="2845"/>
                  <a:pt x="6176" y="2877"/>
                </a:cubicBezTo>
                <a:cubicBezTo>
                  <a:pt x="6069" y="2882"/>
                  <a:pt x="5960" y="2905"/>
                  <a:pt x="5854" y="2902"/>
                </a:cubicBezTo>
                <a:cubicBezTo>
                  <a:pt x="5744" y="2898"/>
                  <a:pt x="5642" y="2879"/>
                  <a:pt x="5531" y="2877"/>
                </a:cubicBezTo>
                <a:cubicBezTo>
                  <a:pt x="5472" y="2876"/>
                  <a:pt x="5325" y="2849"/>
                  <a:pt x="5283" y="2902"/>
                </a:cubicBezTo>
                <a:cubicBezTo>
                  <a:pt x="5257" y="2935"/>
                  <a:pt x="5265" y="2933"/>
                  <a:pt x="5259" y="3001"/>
                </a:cubicBezTo>
                <a:cubicBezTo>
                  <a:pt x="5236" y="3245"/>
                  <a:pt x="5249" y="3505"/>
                  <a:pt x="5234" y="3746"/>
                </a:cubicBezTo>
                <a:cubicBezTo>
                  <a:pt x="5228" y="3845"/>
                  <a:pt x="5216" y="3951"/>
                  <a:pt x="5209" y="4043"/>
                </a:cubicBezTo>
                <a:cubicBezTo>
                  <a:pt x="5203" y="4127"/>
                  <a:pt x="5209" y="4220"/>
                  <a:pt x="5234" y="4266"/>
                </a:cubicBezTo>
                <a:cubicBezTo>
                  <a:pt x="5247" y="4290"/>
                  <a:pt x="5265" y="4314"/>
                  <a:pt x="5308" y="4316"/>
                </a:cubicBezTo>
                <a:cubicBezTo>
                  <a:pt x="5357" y="4318"/>
                  <a:pt x="5385" y="4301"/>
                  <a:pt x="5432" y="4291"/>
                </a:cubicBezTo>
                <a:cubicBezTo>
                  <a:pt x="5509" y="4275"/>
                  <a:pt x="5573" y="4268"/>
                  <a:pt x="5655" y="4266"/>
                </a:cubicBezTo>
                <a:cubicBezTo>
                  <a:pt x="5744" y="4264"/>
                  <a:pt x="5817" y="4248"/>
                  <a:pt x="5904" y="4242"/>
                </a:cubicBezTo>
                <a:cubicBezTo>
                  <a:pt x="5992" y="4236"/>
                  <a:pt x="6066" y="4224"/>
                  <a:pt x="6152" y="4217"/>
                </a:cubicBezTo>
                <a:cubicBezTo>
                  <a:pt x="6258" y="4209"/>
                  <a:pt x="6349" y="4236"/>
                  <a:pt x="6449" y="4242"/>
                </a:cubicBezTo>
                <a:cubicBezTo>
                  <a:pt x="6614" y="4251"/>
                  <a:pt x="6783" y="4257"/>
                  <a:pt x="6945" y="4266"/>
                </a:cubicBezTo>
                <a:cubicBezTo>
                  <a:pt x="7061" y="4272"/>
                  <a:pt x="7157" y="4303"/>
                  <a:pt x="7268" y="4316"/>
                </a:cubicBezTo>
                <a:cubicBezTo>
                  <a:pt x="7374" y="4328"/>
                  <a:pt x="7484" y="4339"/>
                  <a:pt x="7590" y="4341"/>
                </a:cubicBezTo>
                <a:cubicBezTo>
                  <a:pt x="7875" y="4348"/>
                  <a:pt x="8180" y="4363"/>
                  <a:pt x="8458" y="4316"/>
                </a:cubicBezTo>
                <a:cubicBezTo>
                  <a:pt x="8535" y="4303"/>
                  <a:pt x="8608" y="4284"/>
                  <a:pt x="8682" y="4266"/>
                </a:cubicBezTo>
                <a:cubicBezTo>
                  <a:pt x="8748" y="4250"/>
                  <a:pt x="8815" y="4233"/>
                  <a:pt x="8880" y="4217"/>
                </a:cubicBezTo>
                <a:cubicBezTo>
                  <a:pt x="8952" y="4199"/>
                  <a:pt x="9029" y="4175"/>
                  <a:pt x="9103" y="4167"/>
                </a:cubicBezTo>
                <a:cubicBezTo>
                  <a:pt x="9160" y="4161"/>
                  <a:pt x="9219" y="4170"/>
                  <a:pt x="9277" y="4167"/>
                </a:cubicBezTo>
              </a:path>
              <a:path w="5458" h="1936">
                <a:moveTo>
                  <a:pt x="4490" y="2406"/>
                </a:moveTo>
                <a:cubicBezTo>
                  <a:pt x="4533" y="2467"/>
                  <a:pt x="4566" y="2461"/>
                  <a:pt x="4614" y="2505"/>
                </a:cubicBezTo>
                <a:cubicBezTo>
                  <a:pt x="4622" y="2513"/>
                  <a:pt x="4630" y="2522"/>
                  <a:pt x="4638" y="2530"/>
                </a:cubicBezTo>
              </a:path>
              <a:path w="5458" h="1936">
                <a:moveTo>
                  <a:pt x="4787" y="2704"/>
                </a:moveTo>
                <a:cubicBezTo>
                  <a:pt x="4852" y="2762"/>
                  <a:pt x="4913" y="2809"/>
                  <a:pt x="4986" y="2853"/>
                </a:cubicBezTo>
                <a:cubicBezTo>
                  <a:pt x="5002" y="2861"/>
                  <a:pt x="5019" y="2869"/>
                  <a:pt x="5035" y="2877"/>
                </a:cubicBezTo>
              </a:path>
              <a:path w="5458" h="1936">
                <a:moveTo>
                  <a:pt x="5135" y="2952"/>
                </a:moveTo>
                <a:cubicBezTo>
                  <a:pt x="5217" y="3004"/>
                  <a:pt x="5296" y="3034"/>
                  <a:pt x="5383" y="3076"/>
                </a:cubicBezTo>
                <a:cubicBezTo>
                  <a:pt x="5432" y="3101"/>
                  <a:pt x="5449" y="3109"/>
                  <a:pt x="5482" y="3125"/>
                </a:cubicBezTo>
              </a:path>
              <a:path w="5458" h="1936">
                <a:moveTo>
                  <a:pt x="5631" y="3200"/>
                </a:moveTo>
                <a:cubicBezTo>
                  <a:pt x="5732" y="3260"/>
                  <a:pt x="5801" y="3272"/>
                  <a:pt x="5904" y="3324"/>
                </a:cubicBezTo>
                <a:cubicBezTo>
                  <a:pt x="5952" y="3348"/>
                  <a:pt x="5966" y="3357"/>
                  <a:pt x="6003" y="3349"/>
                </a:cubicBezTo>
              </a:path>
              <a:path w="5458" h="1936">
                <a:moveTo>
                  <a:pt x="6077" y="3373"/>
                </a:moveTo>
                <a:cubicBezTo>
                  <a:pt x="6189" y="3417"/>
                  <a:pt x="6287" y="3442"/>
                  <a:pt x="6400" y="3473"/>
                </a:cubicBezTo>
              </a:path>
              <a:path w="5458" h="1936">
                <a:moveTo>
                  <a:pt x="6598" y="3497"/>
                </a:moveTo>
                <a:cubicBezTo>
                  <a:pt x="6696" y="3543"/>
                  <a:pt x="6812" y="3605"/>
                  <a:pt x="6921" y="3621"/>
                </a:cubicBezTo>
                <a:cubicBezTo>
                  <a:pt x="6946" y="3621"/>
                  <a:pt x="6970" y="3621"/>
                  <a:pt x="6995" y="3621"/>
                </a:cubicBezTo>
              </a:path>
              <a:path w="5458" h="1936">
                <a:moveTo>
                  <a:pt x="7243" y="3671"/>
                </a:moveTo>
                <a:cubicBezTo>
                  <a:pt x="7352" y="3695"/>
                  <a:pt x="7463" y="3712"/>
                  <a:pt x="7565" y="3746"/>
                </a:cubicBezTo>
              </a:path>
              <a:path w="5458" h="1936">
                <a:moveTo>
                  <a:pt x="8012" y="3770"/>
                </a:moveTo>
                <a:cubicBezTo>
                  <a:pt x="8153" y="3802"/>
                  <a:pt x="8294" y="3835"/>
                  <a:pt x="8434" y="3870"/>
                </a:cubicBezTo>
              </a:path>
              <a:path w="5458" h="1936">
                <a:moveTo>
                  <a:pt x="9550" y="4118"/>
                </a:moveTo>
                <a:cubicBezTo>
                  <a:pt x="9774" y="4118"/>
                  <a:pt x="9817" y="4109"/>
                  <a:pt x="9947" y="41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81320" y="3027240"/>
            <a:ext cx="1268640" cy="374760"/>
          </a:xfrm>
          <a:custGeom>
            <a:avLst/>
            <a:gdLst/>
            <a:ahLst/>
            <a:rect l="l" t="t" r="r" b="b"/>
            <a:pathLst>
              <a:path w="3523" h="1043">
                <a:moveTo>
                  <a:pt x="11336" y="8880"/>
                </a:moveTo>
                <a:cubicBezTo>
                  <a:pt x="11375" y="8893"/>
                  <a:pt x="11382" y="8927"/>
                  <a:pt x="11385" y="8979"/>
                </a:cubicBezTo>
                <a:cubicBezTo>
                  <a:pt x="11388" y="9034"/>
                  <a:pt x="11410" y="9050"/>
                  <a:pt x="11410" y="9103"/>
                </a:cubicBezTo>
                <a:cubicBezTo>
                  <a:pt x="11379" y="9083"/>
                  <a:pt x="11363" y="9032"/>
                  <a:pt x="11361" y="8979"/>
                </a:cubicBezTo>
                <a:cubicBezTo>
                  <a:pt x="11358" y="8906"/>
                  <a:pt x="11349" y="8831"/>
                  <a:pt x="11435" y="8806"/>
                </a:cubicBezTo>
                <a:cubicBezTo>
                  <a:pt x="11475" y="8794"/>
                  <a:pt x="11542" y="8806"/>
                  <a:pt x="11584" y="8806"/>
                </a:cubicBezTo>
              </a:path>
              <a:path w="3523" h="1043">
                <a:moveTo>
                  <a:pt x="11633" y="8880"/>
                </a:moveTo>
                <a:cubicBezTo>
                  <a:pt x="11705" y="8900"/>
                  <a:pt x="11770" y="8929"/>
                  <a:pt x="11832" y="8880"/>
                </a:cubicBezTo>
                <a:cubicBezTo>
                  <a:pt x="11864" y="8854"/>
                  <a:pt x="11857" y="8842"/>
                  <a:pt x="11857" y="8806"/>
                </a:cubicBezTo>
                <a:cubicBezTo>
                  <a:pt x="11792" y="8806"/>
                  <a:pt x="11751" y="8803"/>
                  <a:pt x="11733" y="8880"/>
                </a:cubicBezTo>
                <a:cubicBezTo>
                  <a:pt x="11713" y="8968"/>
                  <a:pt x="11793" y="9018"/>
                  <a:pt x="11857" y="9054"/>
                </a:cubicBezTo>
                <a:cubicBezTo>
                  <a:pt x="11950" y="9106"/>
                  <a:pt x="11998" y="9046"/>
                  <a:pt x="12055" y="9004"/>
                </a:cubicBezTo>
                <a:cubicBezTo>
                  <a:pt x="12111" y="8963"/>
                  <a:pt x="12128" y="8895"/>
                  <a:pt x="12179" y="8855"/>
                </a:cubicBezTo>
                <a:cubicBezTo>
                  <a:pt x="12226" y="8818"/>
                  <a:pt x="12182" y="8837"/>
                  <a:pt x="12179" y="8880"/>
                </a:cubicBezTo>
                <a:cubicBezTo>
                  <a:pt x="12174" y="8953"/>
                  <a:pt x="12170" y="9029"/>
                  <a:pt x="12254" y="9054"/>
                </a:cubicBezTo>
                <a:cubicBezTo>
                  <a:pt x="12349" y="9082"/>
                  <a:pt x="12392" y="9013"/>
                  <a:pt x="12452" y="8954"/>
                </a:cubicBezTo>
                <a:cubicBezTo>
                  <a:pt x="12519" y="8888"/>
                  <a:pt x="12581" y="8800"/>
                  <a:pt x="12601" y="8706"/>
                </a:cubicBezTo>
                <a:cubicBezTo>
                  <a:pt x="12601" y="8690"/>
                  <a:pt x="12601" y="8673"/>
                  <a:pt x="12601" y="8657"/>
                </a:cubicBezTo>
                <a:cubicBezTo>
                  <a:pt x="12586" y="8730"/>
                  <a:pt x="12561" y="8800"/>
                  <a:pt x="12576" y="8880"/>
                </a:cubicBezTo>
                <a:cubicBezTo>
                  <a:pt x="12592" y="8965"/>
                  <a:pt x="12618" y="9004"/>
                  <a:pt x="12675" y="9054"/>
                </a:cubicBezTo>
              </a:path>
              <a:path w="3523" h="1043">
                <a:moveTo>
                  <a:pt x="12849" y="8979"/>
                </a:moveTo>
                <a:cubicBezTo>
                  <a:pt x="12793" y="8909"/>
                  <a:pt x="12765" y="8860"/>
                  <a:pt x="12675" y="8855"/>
                </a:cubicBezTo>
                <a:cubicBezTo>
                  <a:pt x="12624" y="8855"/>
                  <a:pt x="12605" y="8856"/>
                  <a:pt x="12576" y="8880"/>
                </a:cubicBezTo>
              </a:path>
              <a:path w="3523" h="1043">
                <a:moveTo>
                  <a:pt x="13047" y="8930"/>
                </a:moveTo>
                <a:cubicBezTo>
                  <a:pt x="13047" y="8922"/>
                  <a:pt x="13047" y="8913"/>
                  <a:pt x="13047" y="8905"/>
                </a:cubicBezTo>
                <a:cubicBezTo>
                  <a:pt x="12987" y="8920"/>
                  <a:pt x="12976" y="8973"/>
                  <a:pt x="12948" y="9029"/>
                </a:cubicBezTo>
                <a:cubicBezTo>
                  <a:pt x="12917" y="9091"/>
                  <a:pt x="12916" y="9099"/>
                  <a:pt x="12948" y="9153"/>
                </a:cubicBezTo>
                <a:cubicBezTo>
                  <a:pt x="12987" y="9114"/>
                  <a:pt x="13024" y="9093"/>
                  <a:pt x="13072" y="9079"/>
                </a:cubicBezTo>
                <a:cubicBezTo>
                  <a:pt x="13120" y="9065"/>
                  <a:pt x="13161" y="9078"/>
                  <a:pt x="13196" y="9103"/>
                </a:cubicBezTo>
              </a:path>
              <a:path w="3523" h="1043">
                <a:moveTo>
                  <a:pt x="13246" y="9103"/>
                </a:moveTo>
                <a:cubicBezTo>
                  <a:pt x="13246" y="9128"/>
                  <a:pt x="13246" y="9136"/>
                  <a:pt x="13246" y="9153"/>
                </a:cubicBezTo>
                <a:cubicBezTo>
                  <a:pt x="13322" y="9134"/>
                  <a:pt x="13283" y="9094"/>
                  <a:pt x="13320" y="9054"/>
                </a:cubicBezTo>
                <a:cubicBezTo>
                  <a:pt x="13347" y="9025"/>
                  <a:pt x="13428" y="8983"/>
                  <a:pt x="13469" y="9004"/>
                </a:cubicBezTo>
                <a:cubicBezTo>
                  <a:pt x="13493" y="9016"/>
                  <a:pt x="13565" y="9099"/>
                  <a:pt x="13568" y="9103"/>
                </a:cubicBezTo>
                <a:cubicBezTo>
                  <a:pt x="13606" y="9169"/>
                  <a:pt x="13601" y="9088"/>
                  <a:pt x="13618" y="9054"/>
                </a:cubicBezTo>
                <a:cubicBezTo>
                  <a:pt x="13641" y="9031"/>
                  <a:pt x="13649" y="9027"/>
                  <a:pt x="13643" y="9004"/>
                </a:cubicBezTo>
                <a:cubicBezTo>
                  <a:pt x="13669" y="9040"/>
                  <a:pt x="13673" y="9104"/>
                  <a:pt x="13717" y="9128"/>
                </a:cubicBezTo>
                <a:cubicBezTo>
                  <a:pt x="13776" y="9161"/>
                  <a:pt x="13851" y="9104"/>
                  <a:pt x="13915" y="9153"/>
                </a:cubicBezTo>
                <a:cubicBezTo>
                  <a:pt x="13977" y="9201"/>
                  <a:pt x="13999" y="9337"/>
                  <a:pt x="13940" y="9401"/>
                </a:cubicBezTo>
                <a:cubicBezTo>
                  <a:pt x="13858" y="9490"/>
                  <a:pt x="13774" y="9435"/>
                  <a:pt x="13692" y="9401"/>
                </a:cubicBezTo>
                <a:cubicBezTo>
                  <a:pt x="13667" y="9393"/>
                  <a:pt x="13643" y="9384"/>
                  <a:pt x="13618" y="9376"/>
                </a:cubicBezTo>
              </a:path>
              <a:path w="3523" h="1043">
                <a:moveTo>
                  <a:pt x="13866" y="8558"/>
                </a:moveTo>
                <a:cubicBezTo>
                  <a:pt x="13957" y="8467"/>
                  <a:pt x="13965" y="8459"/>
                  <a:pt x="14015" y="8409"/>
                </a:cubicBezTo>
                <a:cubicBezTo>
                  <a:pt x="14078" y="8473"/>
                  <a:pt x="14076" y="8539"/>
                  <a:pt x="14064" y="8632"/>
                </a:cubicBezTo>
                <a:cubicBezTo>
                  <a:pt x="14044" y="8788"/>
                  <a:pt x="14021" y="8925"/>
                  <a:pt x="14064" y="9079"/>
                </a:cubicBezTo>
                <a:cubicBezTo>
                  <a:pt x="14085" y="9154"/>
                  <a:pt x="14151" y="9216"/>
                  <a:pt x="14238" y="9178"/>
                </a:cubicBezTo>
                <a:cubicBezTo>
                  <a:pt x="14314" y="9145"/>
                  <a:pt x="14403" y="9039"/>
                  <a:pt x="14387" y="8954"/>
                </a:cubicBezTo>
                <a:cubicBezTo>
                  <a:pt x="14364" y="8932"/>
                  <a:pt x="14359" y="8924"/>
                  <a:pt x="14337" y="8930"/>
                </a:cubicBezTo>
                <a:cubicBezTo>
                  <a:pt x="14266" y="8954"/>
                  <a:pt x="14267" y="9020"/>
                  <a:pt x="14312" y="9103"/>
                </a:cubicBezTo>
                <a:cubicBezTo>
                  <a:pt x="14383" y="9235"/>
                  <a:pt x="14526" y="9224"/>
                  <a:pt x="14660" y="9227"/>
                </a:cubicBezTo>
                <a:cubicBezTo>
                  <a:pt x="14763" y="9227"/>
                  <a:pt x="14799" y="9225"/>
                  <a:pt x="14858" y="91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17800" y="1660680"/>
            <a:ext cx="46080" cy="27000"/>
          </a:xfrm>
          <a:custGeom>
            <a:avLst/>
            <a:gdLst/>
            <a:ahLst/>
            <a:rect l="l" t="t" r="r" b="b"/>
            <a:pathLst>
              <a:path w="125" h="75">
                <a:moveTo>
                  <a:pt x="5730" y="4614"/>
                </a:moveTo>
                <a:cubicBezTo>
                  <a:pt x="5689" y="4639"/>
                  <a:pt x="5647" y="4663"/>
                  <a:pt x="5606" y="46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83120" y="615960"/>
            <a:ext cx="1204920" cy="1465200"/>
          </a:xfrm>
          <a:custGeom>
            <a:avLst/>
            <a:gdLst/>
            <a:ahLst/>
            <a:rect l="l" t="t" r="r" b="b"/>
            <a:pathLst>
              <a:path w="3350" h="4068">
                <a:moveTo>
                  <a:pt x="16297" y="4043"/>
                </a:moveTo>
                <a:cubicBezTo>
                  <a:pt x="16293" y="4008"/>
                  <a:pt x="16291" y="3971"/>
                  <a:pt x="16272" y="3944"/>
                </a:cubicBezTo>
                <a:cubicBezTo>
                  <a:pt x="16239" y="3899"/>
                  <a:pt x="16240" y="3891"/>
                  <a:pt x="16222" y="3845"/>
                </a:cubicBezTo>
                <a:cubicBezTo>
                  <a:pt x="16208" y="3809"/>
                  <a:pt x="16162" y="3782"/>
                  <a:pt x="16148" y="3746"/>
                </a:cubicBezTo>
                <a:cubicBezTo>
                  <a:pt x="16124" y="3685"/>
                  <a:pt x="16106" y="3630"/>
                  <a:pt x="16073" y="3572"/>
                </a:cubicBezTo>
                <a:cubicBezTo>
                  <a:pt x="16038" y="3511"/>
                  <a:pt x="15967" y="3442"/>
                  <a:pt x="15949" y="3373"/>
                </a:cubicBezTo>
                <a:cubicBezTo>
                  <a:pt x="15930" y="3301"/>
                  <a:pt x="15915" y="3285"/>
                  <a:pt x="15875" y="3225"/>
                </a:cubicBezTo>
                <a:cubicBezTo>
                  <a:pt x="15833" y="3163"/>
                  <a:pt x="15830" y="3118"/>
                  <a:pt x="15801" y="3051"/>
                </a:cubicBezTo>
                <a:cubicBezTo>
                  <a:pt x="15746" y="2926"/>
                  <a:pt x="15681" y="2805"/>
                  <a:pt x="15627" y="2679"/>
                </a:cubicBezTo>
                <a:cubicBezTo>
                  <a:pt x="15590" y="2593"/>
                  <a:pt x="15541" y="2515"/>
                  <a:pt x="15503" y="2431"/>
                </a:cubicBezTo>
                <a:cubicBezTo>
                  <a:pt x="15477" y="2374"/>
                  <a:pt x="15452" y="2311"/>
                  <a:pt x="15429" y="2257"/>
                </a:cubicBezTo>
                <a:cubicBezTo>
                  <a:pt x="15429" y="2229"/>
                  <a:pt x="15427" y="2218"/>
                  <a:pt x="15404" y="2208"/>
                </a:cubicBezTo>
              </a:path>
              <a:path w="3350" h="4068">
                <a:moveTo>
                  <a:pt x="16197" y="4068"/>
                </a:moveTo>
                <a:cubicBezTo>
                  <a:pt x="16176" y="4100"/>
                  <a:pt x="16179" y="4097"/>
                  <a:pt x="16148" y="4118"/>
                </a:cubicBezTo>
                <a:cubicBezTo>
                  <a:pt x="16131" y="4151"/>
                  <a:pt x="16129" y="4189"/>
                  <a:pt x="16098" y="4217"/>
                </a:cubicBezTo>
                <a:cubicBezTo>
                  <a:pt x="16090" y="4217"/>
                  <a:pt x="16081" y="4217"/>
                  <a:pt x="16073" y="4217"/>
                </a:cubicBezTo>
                <a:cubicBezTo>
                  <a:pt x="16053" y="4258"/>
                  <a:pt x="16030" y="4304"/>
                  <a:pt x="15999" y="4341"/>
                </a:cubicBezTo>
                <a:cubicBezTo>
                  <a:pt x="15968" y="4378"/>
                  <a:pt x="15947" y="4400"/>
                  <a:pt x="15925" y="4440"/>
                </a:cubicBezTo>
                <a:cubicBezTo>
                  <a:pt x="15904" y="4479"/>
                  <a:pt x="15876" y="4500"/>
                  <a:pt x="15850" y="4539"/>
                </a:cubicBezTo>
                <a:cubicBezTo>
                  <a:pt x="15829" y="4570"/>
                  <a:pt x="15790" y="4627"/>
                  <a:pt x="15776" y="4663"/>
                </a:cubicBezTo>
                <a:cubicBezTo>
                  <a:pt x="15776" y="4671"/>
                  <a:pt x="15776" y="4680"/>
                  <a:pt x="15776" y="4688"/>
                </a:cubicBezTo>
                <a:cubicBezTo>
                  <a:pt x="15760" y="4704"/>
                  <a:pt x="15725" y="4728"/>
                  <a:pt x="15701" y="4762"/>
                </a:cubicBezTo>
                <a:cubicBezTo>
                  <a:pt x="15682" y="4789"/>
                  <a:pt x="15649" y="4830"/>
                  <a:pt x="15627" y="4862"/>
                </a:cubicBezTo>
                <a:cubicBezTo>
                  <a:pt x="15611" y="4886"/>
                  <a:pt x="15591" y="4933"/>
                  <a:pt x="15577" y="4961"/>
                </a:cubicBezTo>
                <a:cubicBezTo>
                  <a:pt x="15558" y="5000"/>
                  <a:pt x="15535" y="5026"/>
                  <a:pt x="15503" y="5060"/>
                </a:cubicBezTo>
                <a:cubicBezTo>
                  <a:pt x="15458" y="5107"/>
                  <a:pt x="15414" y="5167"/>
                  <a:pt x="15379" y="5209"/>
                </a:cubicBezTo>
                <a:cubicBezTo>
                  <a:pt x="15354" y="5239"/>
                  <a:pt x="15344" y="5254"/>
                  <a:pt x="15329" y="5283"/>
                </a:cubicBezTo>
                <a:cubicBezTo>
                  <a:pt x="15321" y="5293"/>
                  <a:pt x="15295" y="5340"/>
                  <a:pt x="15280" y="5358"/>
                </a:cubicBezTo>
                <a:cubicBezTo>
                  <a:pt x="15249" y="5395"/>
                  <a:pt x="15227" y="5418"/>
                  <a:pt x="15205" y="5457"/>
                </a:cubicBezTo>
                <a:cubicBezTo>
                  <a:pt x="15187" y="5489"/>
                  <a:pt x="15187" y="5528"/>
                  <a:pt x="15156" y="5556"/>
                </a:cubicBezTo>
                <a:cubicBezTo>
                  <a:pt x="15148" y="5556"/>
                  <a:pt x="15139" y="5556"/>
                  <a:pt x="15131" y="5556"/>
                </a:cubicBezTo>
                <a:cubicBezTo>
                  <a:pt x="15123" y="5607"/>
                  <a:pt x="15126" y="5580"/>
                  <a:pt x="15106" y="5606"/>
                </a:cubicBezTo>
                <a:cubicBezTo>
                  <a:pt x="15090" y="5638"/>
                  <a:pt x="15072" y="5672"/>
                  <a:pt x="15056" y="5705"/>
                </a:cubicBezTo>
                <a:cubicBezTo>
                  <a:pt x="15041" y="5735"/>
                  <a:pt x="15025" y="5751"/>
                  <a:pt x="15007" y="5779"/>
                </a:cubicBezTo>
              </a:path>
              <a:path w="3350" h="4068">
                <a:moveTo>
                  <a:pt x="15032" y="5779"/>
                </a:moveTo>
                <a:cubicBezTo>
                  <a:pt x="15040" y="5771"/>
                  <a:pt x="15048" y="5763"/>
                  <a:pt x="15056" y="5755"/>
                </a:cubicBezTo>
                <a:cubicBezTo>
                  <a:pt x="15043" y="5738"/>
                  <a:pt x="15024" y="5712"/>
                  <a:pt x="15007" y="5680"/>
                </a:cubicBezTo>
                <a:cubicBezTo>
                  <a:pt x="14993" y="5654"/>
                  <a:pt x="14973" y="5601"/>
                  <a:pt x="14957" y="5581"/>
                </a:cubicBezTo>
                <a:cubicBezTo>
                  <a:pt x="14928" y="5544"/>
                  <a:pt x="14904" y="5520"/>
                  <a:pt x="14883" y="5482"/>
                </a:cubicBezTo>
                <a:cubicBezTo>
                  <a:pt x="14858" y="5437"/>
                  <a:pt x="14828" y="5378"/>
                  <a:pt x="14808" y="5333"/>
                </a:cubicBezTo>
                <a:cubicBezTo>
                  <a:pt x="14791" y="5295"/>
                  <a:pt x="14777" y="5244"/>
                  <a:pt x="14759" y="5209"/>
                </a:cubicBezTo>
                <a:cubicBezTo>
                  <a:pt x="14738" y="5168"/>
                  <a:pt x="14697" y="5100"/>
                  <a:pt x="14684" y="5060"/>
                </a:cubicBezTo>
                <a:cubicBezTo>
                  <a:pt x="14673" y="5025"/>
                  <a:pt x="14674" y="4994"/>
                  <a:pt x="14660" y="4961"/>
                </a:cubicBezTo>
                <a:cubicBezTo>
                  <a:pt x="14649" y="4936"/>
                  <a:pt x="14616" y="4887"/>
                  <a:pt x="14610" y="4862"/>
                </a:cubicBezTo>
                <a:cubicBezTo>
                  <a:pt x="14601" y="4823"/>
                  <a:pt x="14594" y="4798"/>
                  <a:pt x="14585" y="4762"/>
                </a:cubicBezTo>
                <a:cubicBezTo>
                  <a:pt x="14585" y="4754"/>
                  <a:pt x="14585" y="4746"/>
                  <a:pt x="14585" y="4738"/>
                </a:cubicBezTo>
                <a:cubicBezTo>
                  <a:pt x="14569" y="4717"/>
                  <a:pt x="14547" y="4709"/>
                  <a:pt x="14536" y="4663"/>
                </a:cubicBezTo>
                <a:cubicBezTo>
                  <a:pt x="14531" y="4642"/>
                  <a:pt x="14536" y="4611"/>
                  <a:pt x="14536" y="4589"/>
                </a:cubicBezTo>
                <a:cubicBezTo>
                  <a:pt x="14519" y="4568"/>
                  <a:pt x="14497" y="4560"/>
                  <a:pt x="14486" y="4514"/>
                </a:cubicBezTo>
                <a:cubicBezTo>
                  <a:pt x="14477" y="4477"/>
                  <a:pt x="14467" y="4450"/>
                  <a:pt x="14461" y="4415"/>
                </a:cubicBezTo>
                <a:cubicBezTo>
                  <a:pt x="14454" y="4375"/>
                  <a:pt x="14442" y="4353"/>
                  <a:pt x="14436" y="4316"/>
                </a:cubicBezTo>
                <a:cubicBezTo>
                  <a:pt x="14430" y="4283"/>
                  <a:pt x="14416" y="4242"/>
                  <a:pt x="14412" y="4217"/>
                </a:cubicBezTo>
                <a:cubicBezTo>
                  <a:pt x="14405" y="4176"/>
                  <a:pt x="14393" y="4155"/>
                  <a:pt x="14387" y="4118"/>
                </a:cubicBezTo>
                <a:cubicBezTo>
                  <a:pt x="14382" y="4087"/>
                  <a:pt x="14387" y="4050"/>
                  <a:pt x="14387" y="4018"/>
                </a:cubicBezTo>
                <a:cubicBezTo>
                  <a:pt x="14372" y="3993"/>
                  <a:pt x="14366" y="3997"/>
                  <a:pt x="14362" y="3944"/>
                </a:cubicBezTo>
                <a:cubicBezTo>
                  <a:pt x="14362" y="3936"/>
                  <a:pt x="14362" y="3927"/>
                  <a:pt x="14362" y="3919"/>
                </a:cubicBezTo>
              </a:path>
              <a:path w="3350" h="4068">
                <a:moveTo>
                  <a:pt x="14312" y="3969"/>
                </a:moveTo>
                <a:cubicBezTo>
                  <a:pt x="14312" y="3961"/>
                  <a:pt x="14312" y="3952"/>
                  <a:pt x="14312" y="3944"/>
                </a:cubicBezTo>
                <a:cubicBezTo>
                  <a:pt x="14332" y="3918"/>
                  <a:pt x="14329" y="3945"/>
                  <a:pt x="14337" y="3894"/>
                </a:cubicBezTo>
                <a:cubicBezTo>
                  <a:pt x="14347" y="3882"/>
                  <a:pt x="14362" y="3839"/>
                  <a:pt x="14387" y="3820"/>
                </a:cubicBezTo>
                <a:cubicBezTo>
                  <a:pt x="14395" y="3820"/>
                  <a:pt x="14404" y="3820"/>
                  <a:pt x="14412" y="3820"/>
                </a:cubicBezTo>
                <a:cubicBezTo>
                  <a:pt x="14425" y="3767"/>
                  <a:pt x="14432" y="3769"/>
                  <a:pt x="14461" y="3721"/>
                </a:cubicBezTo>
                <a:cubicBezTo>
                  <a:pt x="14478" y="3694"/>
                  <a:pt x="14495" y="3652"/>
                  <a:pt x="14511" y="3621"/>
                </a:cubicBezTo>
                <a:cubicBezTo>
                  <a:pt x="14528" y="3588"/>
                  <a:pt x="14544" y="3554"/>
                  <a:pt x="14560" y="3522"/>
                </a:cubicBezTo>
                <a:cubicBezTo>
                  <a:pt x="14581" y="3481"/>
                  <a:pt x="14593" y="3441"/>
                  <a:pt x="14610" y="3398"/>
                </a:cubicBezTo>
                <a:cubicBezTo>
                  <a:pt x="14632" y="3376"/>
                  <a:pt x="14641" y="3371"/>
                  <a:pt x="14635" y="3349"/>
                </a:cubicBezTo>
                <a:cubicBezTo>
                  <a:pt x="14649" y="3331"/>
                  <a:pt x="14666" y="3307"/>
                  <a:pt x="14684" y="3274"/>
                </a:cubicBezTo>
                <a:cubicBezTo>
                  <a:pt x="14706" y="3233"/>
                  <a:pt x="14735" y="3192"/>
                  <a:pt x="14759" y="3150"/>
                </a:cubicBezTo>
                <a:cubicBezTo>
                  <a:pt x="14770" y="3130"/>
                  <a:pt x="14774" y="3096"/>
                  <a:pt x="14784" y="3076"/>
                </a:cubicBezTo>
                <a:cubicBezTo>
                  <a:pt x="14802" y="3051"/>
                  <a:pt x="14800" y="3075"/>
                  <a:pt x="14808" y="3026"/>
                </a:cubicBezTo>
                <a:cubicBezTo>
                  <a:pt x="14821" y="3005"/>
                  <a:pt x="14819" y="2992"/>
                  <a:pt x="14833" y="2952"/>
                </a:cubicBezTo>
                <a:cubicBezTo>
                  <a:pt x="14847" y="2912"/>
                  <a:pt x="14884" y="2890"/>
                  <a:pt x="14908" y="2853"/>
                </a:cubicBezTo>
                <a:cubicBezTo>
                  <a:pt x="14924" y="2829"/>
                  <a:pt x="14943" y="2782"/>
                  <a:pt x="14957" y="2753"/>
                </a:cubicBezTo>
                <a:cubicBezTo>
                  <a:pt x="14976" y="2714"/>
                  <a:pt x="15007" y="2692"/>
                  <a:pt x="15032" y="2654"/>
                </a:cubicBezTo>
                <a:cubicBezTo>
                  <a:pt x="15043" y="2637"/>
                  <a:pt x="15047" y="2599"/>
                  <a:pt x="15056" y="2580"/>
                </a:cubicBezTo>
                <a:cubicBezTo>
                  <a:pt x="15077" y="2565"/>
                  <a:pt x="15085" y="2571"/>
                  <a:pt x="15106" y="2555"/>
                </a:cubicBezTo>
                <a:cubicBezTo>
                  <a:pt x="15127" y="2522"/>
                  <a:pt x="15141" y="2485"/>
                  <a:pt x="15180" y="2456"/>
                </a:cubicBezTo>
                <a:cubicBezTo>
                  <a:pt x="15203" y="2433"/>
                  <a:pt x="15207" y="2425"/>
                  <a:pt x="15230" y="2431"/>
                </a:cubicBezTo>
                <a:cubicBezTo>
                  <a:pt x="15246" y="2410"/>
                  <a:pt x="15239" y="2402"/>
                  <a:pt x="15255" y="2381"/>
                </a:cubicBezTo>
                <a:cubicBezTo>
                  <a:pt x="15285" y="2361"/>
                  <a:pt x="15284" y="2363"/>
                  <a:pt x="15304" y="2332"/>
                </a:cubicBezTo>
                <a:cubicBezTo>
                  <a:pt x="15320" y="2316"/>
                  <a:pt x="15350" y="2286"/>
                  <a:pt x="15379" y="2257"/>
                </a:cubicBezTo>
                <a:cubicBezTo>
                  <a:pt x="15406" y="2230"/>
                  <a:pt x="15427" y="2224"/>
                  <a:pt x="15453" y="2208"/>
                </a:cubicBezTo>
                <a:cubicBezTo>
                  <a:pt x="15453" y="2183"/>
                  <a:pt x="15453" y="2175"/>
                  <a:pt x="15478" y="2183"/>
                </a:cubicBezTo>
              </a:path>
              <a:path w="3350" h="4068">
                <a:moveTo>
                  <a:pt x="15379" y="2480"/>
                </a:moveTo>
                <a:cubicBezTo>
                  <a:pt x="15379" y="2472"/>
                  <a:pt x="15379" y="2464"/>
                  <a:pt x="15379" y="2456"/>
                </a:cubicBezTo>
                <a:cubicBezTo>
                  <a:pt x="15434" y="2474"/>
                  <a:pt x="15382" y="2501"/>
                  <a:pt x="15404" y="2555"/>
                </a:cubicBezTo>
                <a:cubicBezTo>
                  <a:pt x="15422" y="2597"/>
                  <a:pt x="15429" y="2602"/>
                  <a:pt x="15429" y="2654"/>
                </a:cubicBezTo>
              </a:path>
              <a:path w="3350" h="4068">
                <a:moveTo>
                  <a:pt x="15429" y="2927"/>
                </a:moveTo>
                <a:cubicBezTo>
                  <a:pt x="15429" y="2986"/>
                  <a:pt x="15448" y="3001"/>
                  <a:pt x="15453" y="3051"/>
                </a:cubicBezTo>
                <a:cubicBezTo>
                  <a:pt x="15458" y="3094"/>
                  <a:pt x="15468" y="3111"/>
                  <a:pt x="15478" y="3150"/>
                </a:cubicBezTo>
              </a:path>
              <a:path w="3350" h="4068">
                <a:moveTo>
                  <a:pt x="15453" y="3324"/>
                </a:moveTo>
                <a:cubicBezTo>
                  <a:pt x="15476" y="3355"/>
                  <a:pt x="15500" y="3410"/>
                  <a:pt x="15503" y="3448"/>
                </a:cubicBezTo>
                <a:cubicBezTo>
                  <a:pt x="15503" y="3489"/>
                  <a:pt x="15503" y="3497"/>
                  <a:pt x="15503" y="3522"/>
                </a:cubicBezTo>
              </a:path>
              <a:path w="3350" h="4068">
                <a:moveTo>
                  <a:pt x="15478" y="3696"/>
                </a:moveTo>
                <a:cubicBezTo>
                  <a:pt x="15502" y="3728"/>
                  <a:pt x="15524" y="3781"/>
                  <a:pt x="15528" y="3820"/>
                </a:cubicBezTo>
                <a:cubicBezTo>
                  <a:pt x="15531" y="3844"/>
                  <a:pt x="15528" y="3870"/>
                  <a:pt x="15528" y="3894"/>
                </a:cubicBezTo>
              </a:path>
              <a:path w="3350" h="4068">
                <a:moveTo>
                  <a:pt x="15503" y="4043"/>
                </a:moveTo>
                <a:cubicBezTo>
                  <a:pt x="15503" y="4101"/>
                  <a:pt x="15503" y="4159"/>
                  <a:pt x="15503" y="4217"/>
                </a:cubicBezTo>
              </a:path>
              <a:path w="3350" h="4068">
                <a:moveTo>
                  <a:pt x="15478" y="4415"/>
                </a:moveTo>
                <a:cubicBezTo>
                  <a:pt x="15478" y="4465"/>
                  <a:pt x="15478" y="4514"/>
                  <a:pt x="15478" y="4564"/>
                </a:cubicBezTo>
              </a:path>
              <a:path w="3350" h="4068">
                <a:moveTo>
                  <a:pt x="15404" y="4787"/>
                </a:moveTo>
                <a:cubicBezTo>
                  <a:pt x="15404" y="4847"/>
                  <a:pt x="15414" y="4890"/>
                  <a:pt x="15379" y="4936"/>
                </a:cubicBezTo>
              </a:path>
              <a:path w="3350" h="4068">
                <a:moveTo>
                  <a:pt x="15329" y="5085"/>
                </a:moveTo>
                <a:cubicBezTo>
                  <a:pt x="15329" y="5118"/>
                  <a:pt x="15329" y="5151"/>
                  <a:pt x="15329" y="5184"/>
                </a:cubicBezTo>
              </a:path>
              <a:path w="3350" h="4068">
                <a:moveTo>
                  <a:pt x="16073" y="4043"/>
                </a:moveTo>
                <a:cubicBezTo>
                  <a:pt x="16081" y="4043"/>
                  <a:pt x="16090" y="4043"/>
                  <a:pt x="16098" y="4043"/>
                </a:cubicBezTo>
                <a:cubicBezTo>
                  <a:pt x="16085" y="4005"/>
                  <a:pt x="16069" y="4018"/>
                  <a:pt x="16024" y="4018"/>
                </a:cubicBezTo>
                <a:cubicBezTo>
                  <a:pt x="16016" y="4018"/>
                  <a:pt x="16007" y="4018"/>
                  <a:pt x="15999" y="4018"/>
                </a:cubicBezTo>
              </a:path>
              <a:path w="3350" h="4068">
                <a:moveTo>
                  <a:pt x="15776" y="3969"/>
                </a:moveTo>
                <a:cubicBezTo>
                  <a:pt x="15728" y="3976"/>
                  <a:pt x="15718" y="3983"/>
                  <a:pt x="15677" y="3994"/>
                </a:cubicBezTo>
              </a:path>
              <a:path w="3350" h="4068">
                <a:moveTo>
                  <a:pt x="15478" y="3969"/>
                </a:moveTo>
                <a:cubicBezTo>
                  <a:pt x="15453" y="3969"/>
                  <a:pt x="15429" y="3969"/>
                  <a:pt x="15404" y="3969"/>
                </a:cubicBezTo>
              </a:path>
              <a:path w="3350" h="4068">
                <a:moveTo>
                  <a:pt x="15255" y="3994"/>
                </a:moveTo>
                <a:cubicBezTo>
                  <a:pt x="15202" y="3994"/>
                  <a:pt x="15217" y="4006"/>
                  <a:pt x="15180" y="4018"/>
                </a:cubicBezTo>
              </a:path>
              <a:path w="3350" h="4068">
                <a:moveTo>
                  <a:pt x="15081" y="3994"/>
                </a:moveTo>
                <a:cubicBezTo>
                  <a:pt x="15043" y="4021"/>
                  <a:pt x="15019" y="4015"/>
                  <a:pt x="14982" y="4043"/>
                </a:cubicBezTo>
              </a:path>
              <a:path w="3350" h="4068">
                <a:moveTo>
                  <a:pt x="14759" y="3994"/>
                </a:moveTo>
                <a:cubicBezTo>
                  <a:pt x="14707" y="4015"/>
                  <a:pt x="14688" y="4018"/>
                  <a:pt x="14635" y="4018"/>
                </a:cubicBezTo>
              </a:path>
              <a:path w="3350" h="4068">
                <a:moveTo>
                  <a:pt x="14486" y="3944"/>
                </a:moveTo>
                <a:cubicBezTo>
                  <a:pt x="14454" y="3968"/>
                  <a:pt x="14443" y="3970"/>
                  <a:pt x="14412" y="3994"/>
                </a:cubicBezTo>
              </a:path>
              <a:path w="3350" h="4068">
                <a:moveTo>
                  <a:pt x="14089" y="2059"/>
                </a:moveTo>
                <a:cubicBezTo>
                  <a:pt x="14059" y="1926"/>
                  <a:pt x="14049" y="1862"/>
                  <a:pt x="14039" y="1736"/>
                </a:cubicBezTo>
                <a:cubicBezTo>
                  <a:pt x="14149" y="1787"/>
                  <a:pt x="14230" y="1864"/>
                  <a:pt x="14337" y="2009"/>
                </a:cubicBezTo>
                <a:cubicBezTo>
                  <a:pt x="14670" y="2461"/>
                  <a:pt x="15003" y="2917"/>
                  <a:pt x="15329" y="3373"/>
                </a:cubicBezTo>
                <a:cubicBezTo>
                  <a:pt x="15725" y="3927"/>
                  <a:pt x="16142" y="4468"/>
                  <a:pt x="16520" y="5035"/>
                </a:cubicBezTo>
                <a:cubicBezTo>
                  <a:pt x="16641" y="5216"/>
                  <a:pt x="16775" y="5418"/>
                  <a:pt x="16818" y="5631"/>
                </a:cubicBezTo>
                <a:cubicBezTo>
                  <a:pt x="16810" y="5623"/>
                  <a:pt x="16801" y="5614"/>
                  <a:pt x="16793" y="5606"/>
                </a:cubicBezTo>
              </a:path>
              <a:path w="3350" h="4068">
                <a:moveTo>
                  <a:pt x="16669" y="3026"/>
                </a:moveTo>
                <a:cubicBezTo>
                  <a:pt x="16817" y="2835"/>
                  <a:pt x="17117" y="2538"/>
                  <a:pt x="17190" y="2282"/>
                </a:cubicBezTo>
                <a:cubicBezTo>
                  <a:pt x="17190" y="2257"/>
                  <a:pt x="17190" y="2233"/>
                  <a:pt x="17190" y="2208"/>
                </a:cubicBezTo>
                <a:cubicBezTo>
                  <a:pt x="16952" y="2246"/>
                  <a:pt x="16839" y="2326"/>
                  <a:pt x="16619" y="2505"/>
                </a:cubicBezTo>
                <a:cubicBezTo>
                  <a:pt x="16137" y="2897"/>
                  <a:pt x="15652" y="3273"/>
                  <a:pt x="15156" y="3646"/>
                </a:cubicBezTo>
                <a:cubicBezTo>
                  <a:pt x="14770" y="3936"/>
                  <a:pt x="14359" y="4225"/>
                  <a:pt x="14064" y="4614"/>
                </a:cubicBezTo>
                <a:cubicBezTo>
                  <a:pt x="13963" y="4747"/>
                  <a:pt x="13894" y="4885"/>
                  <a:pt x="13841" y="50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5271" t="69641" r="13664" b="5714"/>
          <a:stretch/>
        </p:blipFill>
        <p:spPr>
          <a:xfrm>
            <a:off x="0" y="0"/>
            <a:ext cx="8964720" cy="3751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95360" y="1177920"/>
            <a:ext cx="482760" cy="287280"/>
          </a:xfrm>
          <a:custGeom>
            <a:avLst/>
            <a:gdLst/>
            <a:ahLst/>
            <a:rect l="l" t="t" r="r" b="b"/>
            <a:pathLst>
              <a:path w="1340" h="795">
                <a:moveTo>
                  <a:pt x="6747" y="3448"/>
                </a:moveTo>
                <a:cubicBezTo>
                  <a:pt x="6826" y="3425"/>
                  <a:pt x="6896" y="3436"/>
                  <a:pt x="6896" y="3349"/>
                </a:cubicBezTo>
                <a:cubicBezTo>
                  <a:pt x="6896" y="3289"/>
                  <a:pt x="6845" y="3276"/>
                  <a:pt x="6796" y="3274"/>
                </a:cubicBezTo>
                <a:cubicBezTo>
                  <a:pt x="6688" y="3269"/>
                  <a:pt x="6562" y="3360"/>
                  <a:pt x="6499" y="3448"/>
                </a:cubicBezTo>
                <a:cubicBezTo>
                  <a:pt x="6424" y="3554"/>
                  <a:pt x="6358" y="3687"/>
                  <a:pt x="6375" y="3820"/>
                </a:cubicBezTo>
                <a:cubicBezTo>
                  <a:pt x="6385" y="3896"/>
                  <a:pt x="6442" y="4039"/>
                  <a:pt x="6524" y="4068"/>
                </a:cubicBezTo>
                <a:cubicBezTo>
                  <a:pt x="6609" y="4098"/>
                  <a:pt x="6719" y="4043"/>
                  <a:pt x="6796" y="4018"/>
                </a:cubicBezTo>
                <a:cubicBezTo>
                  <a:pt x="6821" y="4010"/>
                  <a:pt x="6846" y="4002"/>
                  <a:pt x="6871" y="3994"/>
                </a:cubicBezTo>
              </a:path>
              <a:path w="1340" h="795">
                <a:moveTo>
                  <a:pt x="7714" y="3597"/>
                </a:moveTo>
                <a:cubicBezTo>
                  <a:pt x="7714" y="3589"/>
                  <a:pt x="7714" y="3580"/>
                  <a:pt x="7714" y="3572"/>
                </a:cubicBezTo>
                <a:cubicBezTo>
                  <a:pt x="7656" y="3572"/>
                  <a:pt x="7620" y="3584"/>
                  <a:pt x="7565" y="3597"/>
                </a:cubicBezTo>
                <a:cubicBezTo>
                  <a:pt x="7510" y="3610"/>
                  <a:pt x="7487" y="3588"/>
                  <a:pt x="7441" y="3621"/>
                </a:cubicBezTo>
              </a:path>
              <a:path w="1340" h="795">
                <a:moveTo>
                  <a:pt x="7640" y="3696"/>
                </a:moveTo>
                <a:cubicBezTo>
                  <a:pt x="7656" y="3704"/>
                  <a:pt x="7673" y="3713"/>
                  <a:pt x="7689" y="3721"/>
                </a:cubicBezTo>
                <a:cubicBezTo>
                  <a:pt x="7606" y="3721"/>
                  <a:pt x="7537" y="3725"/>
                  <a:pt x="7466" y="3746"/>
                </a:cubicBezTo>
                <a:cubicBezTo>
                  <a:pt x="7458" y="3746"/>
                  <a:pt x="7449" y="3746"/>
                  <a:pt x="7441" y="37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1081080"/>
            <a:ext cx="901800" cy="276120"/>
          </a:xfrm>
          <a:custGeom>
            <a:avLst/>
            <a:gdLst/>
            <a:ahLst/>
            <a:rect l="l" t="t" r="r" b="b"/>
            <a:pathLst>
              <a:path w="2507" h="770">
                <a:moveTo>
                  <a:pt x="8781" y="3299"/>
                </a:moveTo>
                <a:cubicBezTo>
                  <a:pt x="8758" y="3291"/>
                  <a:pt x="8734" y="3248"/>
                  <a:pt x="8731" y="3225"/>
                </a:cubicBezTo>
                <a:cubicBezTo>
                  <a:pt x="8725" y="3177"/>
                  <a:pt x="8752" y="3139"/>
                  <a:pt x="8781" y="3101"/>
                </a:cubicBezTo>
                <a:cubicBezTo>
                  <a:pt x="8811" y="3061"/>
                  <a:pt x="8906" y="3012"/>
                  <a:pt x="8954" y="3001"/>
                </a:cubicBezTo>
                <a:cubicBezTo>
                  <a:pt x="9043" y="2981"/>
                  <a:pt x="9092" y="3020"/>
                  <a:pt x="9153" y="3076"/>
                </a:cubicBezTo>
                <a:cubicBezTo>
                  <a:pt x="9211" y="3130"/>
                  <a:pt x="9173" y="3235"/>
                  <a:pt x="9153" y="3299"/>
                </a:cubicBezTo>
                <a:cubicBezTo>
                  <a:pt x="9120" y="3406"/>
                  <a:pt x="9055" y="3492"/>
                  <a:pt x="8979" y="3572"/>
                </a:cubicBezTo>
                <a:cubicBezTo>
                  <a:pt x="8926" y="3627"/>
                  <a:pt x="8863" y="3666"/>
                  <a:pt x="8855" y="3746"/>
                </a:cubicBezTo>
                <a:cubicBezTo>
                  <a:pt x="8855" y="3754"/>
                  <a:pt x="8855" y="3762"/>
                  <a:pt x="8855" y="3770"/>
                </a:cubicBezTo>
                <a:cubicBezTo>
                  <a:pt x="8911" y="3770"/>
                  <a:pt x="8952" y="3754"/>
                  <a:pt x="9004" y="3746"/>
                </a:cubicBezTo>
                <a:cubicBezTo>
                  <a:pt x="9106" y="3730"/>
                  <a:pt x="9223" y="3746"/>
                  <a:pt x="9327" y="3746"/>
                </a:cubicBezTo>
              </a:path>
              <a:path w="2507" h="770">
                <a:moveTo>
                  <a:pt x="9748" y="3423"/>
                </a:moveTo>
                <a:cubicBezTo>
                  <a:pt x="9818" y="3376"/>
                  <a:pt x="9798" y="3360"/>
                  <a:pt x="9798" y="3448"/>
                </a:cubicBezTo>
                <a:cubicBezTo>
                  <a:pt x="9798" y="3555"/>
                  <a:pt x="9798" y="3663"/>
                  <a:pt x="9798" y="3770"/>
                </a:cubicBezTo>
              </a:path>
              <a:path w="2507" h="770">
                <a:moveTo>
                  <a:pt x="10096" y="3349"/>
                </a:moveTo>
                <a:cubicBezTo>
                  <a:pt x="10104" y="3332"/>
                  <a:pt x="10112" y="3316"/>
                  <a:pt x="10120" y="3299"/>
                </a:cubicBezTo>
                <a:cubicBezTo>
                  <a:pt x="10106" y="3358"/>
                  <a:pt x="10059" y="3406"/>
                  <a:pt x="10046" y="3473"/>
                </a:cubicBezTo>
                <a:cubicBezTo>
                  <a:pt x="10032" y="3547"/>
                  <a:pt x="10042" y="3630"/>
                  <a:pt x="10071" y="3696"/>
                </a:cubicBezTo>
                <a:cubicBezTo>
                  <a:pt x="10096" y="3751"/>
                  <a:pt x="10158" y="3764"/>
                  <a:pt x="10220" y="3746"/>
                </a:cubicBezTo>
                <a:cubicBezTo>
                  <a:pt x="10295" y="3724"/>
                  <a:pt x="10384" y="3669"/>
                  <a:pt x="10443" y="3621"/>
                </a:cubicBezTo>
              </a:path>
              <a:path w="2507" h="770">
                <a:moveTo>
                  <a:pt x="10294" y="3324"/>
                </a:moveTo>
                <a:cubicBezTo>
                  <a:pt x="10317" y="3301"/>
                  <a:pt x="10325" y="3297"/>
                  <a:pt x="10319" y="3274"/>
                </a:cubicBezTo>
                <a:cubicBezTo>
                  <a:pt x="10246" y="3274"/>
                  <a:pt x="10190" y="3256"/>
                  <a:pt x="10120" y="3249"/>
                </a:cubicBezTo>
                <a:cubicBezTo>
                  <a:pt x="9976" y="3235"/>
                  <a:pt x="9840" y="3269"/>
                  <a:pt x="9699" y="3274"/>
                </a:cubicBezTo>
                <a:cubicBezTo>
                  <a:pt x="9640" y="3276"/>
                  <a:pt x="9621" y="3270"/>
                  <a:pt x="9575" y="3299"/>
                </a:cubicBezTo>
              </a:path>
              <a:path w="2507" h="770">
                <a:moveTo>
                  <a:pt x="10716" y="3621"/>
                </a:moveTo>
                <a:cubicBezTo>
                  <a:pt x="10724" y="3629"/>
                  <a:pt x="10732" y="3638"/>
                  <a:pt x="10740" y="3646"/>
                </a:cubicBezTo>
                <a:cubicBezTo>
                  <a:pt x="10740" y="3591"/>
                  <a:pt x="10719" y="3552"/>
                  <a:pt x="10716" y="3497"/>
                </a:cubicBezTo>
                <a:cubicBezTo>
                  <a:pt x="10711" y="3408"/>
                  <a:pt x="10706" y="3366"/>
                  <a:pt x="10765" y="3299"/>
                </a:cubicBezTo>
                <a:cubicBezTo>
                  <a:pt x="10843" y="3211"/>
                  <a:pt x="10930" y="3225"/>
                  <a:pt x="11038" y="3225"/>
                </a:cubicBezTo>
                <a:cubicBezTo>
                  <a:pt x="11104" y="3225"/>
                  <a:pt x="11171" y="3225"/>
                  <a:pt x="11237" y="32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5040" y="1776240"/>
            <a:ext cx="125640" cy="63720"/>
          </a:xfrm>
          <a:custGeom>
            <a:avLst/>
            <a:gdLst/>
            <a:ahLst/>
            <a:rect l="l" t="t" r="r" b="b"/>
            <a:pathLst>
              <a:path w="348" h="175">
                <a:moveTo>
                  <a:pt x="7863" y="4961"/>
                </a:moveTo>
                <a:cubicBezTo>
                  <a:pt x="7825" y="4932"/>
                  <a:pt x="7812" y="4936"/>
                  <a:pt x="7764" y="4936"/>
                </a:cubicBezTo>
                <a:cubicBezTo>
                  <a:pt x="7681" y="4936"/>
                  <a:pt x="7599" y="4936"/>
                  <a:pt x="7516" y="4936"/>
                </a:cubicBezTo>
              </a:path>
              <a:path w="348" h="175">
                <a:moveTo>
                  <a:pt x="7739" y="5110"/>
                </a:moveTo>
                <a:cubicBezTo>
                  <a:pt x="7876" y="5110"/>
                  <a:pt x="7682" y="5110"/>
                  <a:pt x="7665" y="51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25880" y="1581120"/>
            <a:ext cx="795240" cy="293760"/>
          </a:xfrm>
          <a:custGeom>
            <a:avLst/>
            <a:gdLst/>
            <a:ahLst/>
            <a:rect l="l" t="t" r="r" b="b"/>
            <a:pathLst>
              <a:path w="2208" h="820">
                <a:moveTo>
                  <a:pt x="8731" y="4614"/>
                </a:moveTo>
                <a:cubicBezTo>
                  <a:pt x="8709" y="4636"/>
                  <a:pt x="8704" y="4644"/>
                  <a:pt x="8682" y="4638"/>
                </a:cubicBezTo>
                <a:cubicBezTo>
                  <a:pt x="8682" y="4587"/>
                  <a:pt x="8663" y="4498"/>
                  <a:pt x="8706" y="4465"/>
                </a:cubicBezTo>
                <a:cubicBezTo>
                  <a:pt x="8751" y="4430"/>
                  <a:pt x="8847" y="4380"/>
                  <a:pt x="8905" y="4390"/>
                </a:cubicBezTo>
                <a:cubicBezTo>
                  <a:pt x="9009" y="4408"/>
                  <a:pt x="9047" y="4469"/>
                  <a:pt x="9054" y="4564"/>
                </a:cubicBezTo>
                <a:cubicBezTo>
                  <a:pt x="9064" y="4688"/>
                  <a:pt x="8994" y="4787"/>
                  <a:pt x="8930" y="4887"/>
                </a:cubicBezTo>
                <a:cubicBezTo>
                  <a:pt x="8877" y="4970"/>
                  <a:pt x="8825" y="5047"/>
                  <a:pt x="8781" y="5135"/>
                </a:cubicBezTo>
                <a:cubicBezTo>
                  <a:pt x="8761" y="5175"/>
                  <a:pt x="8752" y="5181"/>
                  <a:pt x="8756" y="5209"/>
                </a:cubicBezTo>
                <a:cubicBezTo>
                  <a:pt x="8829" y="5209"/>
                  <a:pt x="8863" y="5171"/>
                  <a:pt x="8930" y="5159"/>
                </a:cubicBezTo>
                <a:cubicBezTo>
                  <a:pt x="9021" y="5143"/>
                  <a:pt x="9111" y="5114"/>
                  <a:pt x="9203" y="5110"/>
                </a:cubicBezTo>
                <a:cubicBezTo>
                  <a:pt x="9266" y="5107"/>
                  <a:pt x="9292" y="5108"/>
                  <a:pt x="9351" y="5085"/>
                </a:cubicBezTo>
              </a:path>
              <a:path w="2208" h="820">
                <a:moveTo>
                  <a:pt x="9897" y="4762"/>
                </a:moveTo>
                <a:cubicBezTo>
                  <a:pt x="9965" y="4762"/>
                  <a:pt x="9987" y="4750"/>
                  <a:pt x="9922" y="4787"/>
                </a:cubicBezTo>
                <a:cubicBezTo>
                  <a:pt x="9854" y="4826"/>
                  <a:pt x="9830" y="4891"/>
                  <a:pt x="9773" y="4936"/>
                </a:cubicBezTo>
                <a:cubicBezTo>
                  <a:pt x="9722" y="4977"/>
                  <a:pt x="9714" y="4997"/>
                  <a:pt x="9699" y="5060"/>
                </a:cubicBezTo>
              </a:path>
              <a:path w="2208" h="820">
                <a:moveTo>
                  <a:pt x="9823" y="5035"/>
                </a:moveTo>
                <a:cubicBezTo>
                  <a:pt x="9867" y="5029"/>
                  <a:pt x="9920" y="5025"/>
                  <a:pt x="9897" y="4961"/>
                </a:cubicBezTo>
                <a:cubicBezTo>
                  <a:pt x="9874" y="4897"/>
                  <a:pt x="9787" y="4857"/>
                  <a:pt x="9723" y="4837"/>
                </a:cubicBezTo>
                <a:cubicBezTo>
                  <a:pt x="9690" y="4837"/>
                  <a:pt x="9674" y="4837"/>
                  <a:pt x="9649" y="4837"/>
                </a:cubicBezTo>
              </a:path>
              <a:path w="2208" h="820">
                <a:moveTo>
                  <a:pt x="10220" y="4738"/>
                </a:moveTo>
                <a:cubicBezTo>
                  <a:pt x="10258" y="4699"/>
                  <a:pt x="10260" y="4682"/>
                  <a:pt x="10294" y="4688"/>
                </a:cubicBezTo>
                <a:cubicBezTo>
                  <a:pt x="10329" y="4735"/>
                  <a:pt x="10319" y="4775"/>
                  <a:pt x="10319" y="4837"/>
                </a:cubicBezTo>
                <a:cubicBezTo>
                  <a:pt x="10319" y="4911"/>
                  <a:pt x="10319" y="4986"/>
                  <a:pt x="10319" y="5060"/>
                </a:cubicBezTo>
              </a:path>
              <a:path w="2208" h="820">
                <a:moveTo>
                  <a:pt x="10542" y="4713"/>
                </a:moveTo>
                <a:cubicBezTo>
                  <a:pt x="10562" y="4672"/>
                  <a:pt x="10571" y="4645"/>
                  <a:pt x="10567" y="4688"/>
                </a:cubicBezTo>
                <a:cubicBezTo>
                  <a:pt x="10553" y="4759"/>
                  <a:pt x="10502" y="4807"/>
                  <a:pt x="10517" y="4887"/>
                </a:cubicBezTo>
                <a:cubicBezTo>
                  <a:pt x="10531" y="4958"/>
                  <a:pt x="10578" y="5028"/>
                  <a:pt x="10641" y="5035"/>
                </a:cubicBezTo>
                <a:cubicBezTo>
                  <a:pt x="10704" y="5042"/>
                  <a:pt x="10777" y="4985"/>
                  <a:pt x="10815" y="4936"/>
                </a:cubicBezTo>
                <a:cubicBezTo>
                  <a:pt x="10837" y="4893"/>
                  <a:pt x="10841" y="4882"/>
                  <a:pt x="10864" y="4862"/>
                </a:cubicBezTo>
              </a:path>
              <a:path w="2208" h="820">
                <a:moveTo>
                  <a:pt x="10889" y="4688"/>
                </a:moveTo>
                <a:cubicBezTo>
                  <a:pt x="10874" y="4628"/>
                  <a:pt x="10828" y="4627"/>
                  <a:pt x="10765" y="4638"/>
                </a:cubicBezTo>
                <a:cubicBezTo>
                  <a:pt x="10630" y="4662"/>
                  <a:pt x="10506" y="4663"/>
                  <a:pt x="10368" y="4663"/>
                </a:cubicBezTo>
                <a:cubicBezTo>
                  <a:pt x="10302" y="4663"/>
                  <a:pt x="10236" y="4663"/>
                  <a:pt x="10170" y="46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60880" y="1724040"/>
            <a:ext cx="81000" cy="88920"/>
          </a:xfrm>
          <a:custGeom>
            <a:avLst/>
            <a:gdLst/>
            <a:ahLst/>
            <a:rect l="l" t="t" r="r" b="b"/>
            <a:pathLst>
              <a:path w="224" h="249">
                <a:moveTo>
                  <a:pt x="11733" y="4862"/>
                </a:moveTo>
                <a:cubicBezTo>
                  <a:pt x="11789" y="4824"/>
                  <a:pt x="11782" y="4846"/>
                  <a:pt x="11782" y="4787"/>
                </a:cubicBezTo>
                <a:cubicBezTo>
                  <a:pt x="11728" y="4787"/>
                  <a:pt x="11698" y="4799"/>
                  <a:pt x="11658" y="4837"/>
                </a:cubicBezTo>
                <a:cubicBezTo>
                  <a:pt x="11616" y="4876"/>
                  <a:pt x="11594" y="4918"/>
                  <a:pt x="11559" y="4961"/>
                </a:cubicBezTo>
              </a:path>
              <a:path w="224" h="249">
                <a:moveTo>
                  <a:pt x="11708" y="5035"/>
                </a:moveTo>
                <a:cubicBezTo>
                  <a:pt x="11772" y="4960"/>
                  <a:pt x="11777" y="4966"/>
                  <a:pt x="11708" y="4911"/>
                </a:cubicBezTo>
                <a:cubicBezTo>
                  <a:pt x="11670" y="4880"/>
                  <a:pt x="11609" y="4872"/>
                  <a:pt x="11559" y="48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94160" y="1500120"/>
            <a:ext cx="561960" cy="250920"/>
          </a:xfrm>
          <a:custGeom>
            <a:avLst/>
            <a:gdLst/>
            <a:ahLst/>
            <a:rect l="l" t="t" r="r" b="b"/>
            <a:pathLst>
              <a:path w="1564" h="696">
                <a:moveTo>
                  <a:pt x="12328" y="4217"/>
                </a:moveTo>
                <a:cubicBezTo>
                  <a:pt x="12372" y="4195"/>
                  <a:pt x="12383" y="4192"/>
                  <a:pt x="12402" y="4167"/>
                </a:cubicBezTo>
                <a:cubicBezTo>
                  <a:pt x="12339" y="4232"/>
                  <a:pt x="12286" y="4303"/>
                  <a:pt x="12254" y="4390"/>
                </a:cubicBezTo>
                <a:cubicBezTo>
                  <a:pt x="12207" y="4516"/>
                  <a:pt x="12187" y="4662"/>
                  <a:pt x="12254" y="4787"/>
                </a:cubicBezTo>
                <a:cubicBezTo>
                  <a:pt x="12286" y="4847"/>
                  <a:pt x="12403" y="4901"/>
                  <a:pt x="12452" y="4837"/>
                </a:cubicBezTo>
                <a:cubicBezTo>
                  <a:pt x="12508" y="4764"/>
                  <a:pt x="12467" y="4687"/>
                  <a:pt x="12402" y="4638"/>
                </a:cubicBezTo>
                <a:cubicBezTo>
                  <a:pt x="12351" y="4599"/>
                  <a:pt x="12275" y="4602"/>
                  <a:pt x="12229" y="4638"/>
                </a:cubicBezTo>
                <a:cubicBezTo>
                  <a:pt x="12221" y="4646"/>
                  <a:pt x="12212" y="4655"/>
                  <a:pt x="12204" y="4663"/>
                </a:cubicBezTo>
              </a:path>
              <a:path w="1564" h="696">
                <a:moveTo>
                  <a:pt x="12750" y="4713"/>
                </a:moveTo>
                <a:cubicBezTo>
                  <a:pt x="12808" y="4713"/>
                  <a:pt x="12865" y="4713"/>
                  <a:pt x="12923" y="4713"/>
                </a:cubicBezTo>
              </a:path>
              <a:path w="1564" h="696">
                <a:moveTo>
                  <a:pt x="13221" y="4217"/>
                </a:moveTo>
                <a:cubicBezTo>
                  <a:pt x="13244" y="4194"/>
                  <a:pt x="13248" y="4186"/>
                  <a:pt x="13271" y="4192"/>
                </a:cubicBezTo>
                <a:cubicBezTo>
                  <a:pt x="13271" y="4278"/>
                  <a:pt x="13256" y="4334"/>
                  <a:pt x="13221" y="4415"/>
                </a:cubicBezTo>
                <a:cubicBezTo>
                  <a:pt x="13207" y="4447"/>
                  <a:pt x="13164" y="4582"/>
                  <a:pt x="13196" y="4614"/>
                </a:cubicBezTo>
                <a:cubicBezTo>
                  <a:pt x="13244" y="4661"/>
                  <a:pt x="13330" y="4679"/>
                  <a:pt x="13395" y="4663"/>
                </a:cubicBezTo>
                <a:cubicBezTo>
                  <a:pt x="13467" y="4646"/>
                  <a:pt x="13545" y="4625"/>
                  <a:pt x="13618" y="4614"/>
                </a:cubicBezTo>
                <a:cubicBezTo>
                  <a:pt x="13674" y="4605"/>
                  <a:pt x="13723" y="4613"/>
                  <a:pt x="13767" y="4638"/>
                </a:cubicBezTo>
              </a:path>
              <a:path w="1564" h="696">
                <a:moveTo>
                  <a:pt x="13593" y="4564"/>
                </a:moveTo>
                <a:cubicBezTo>
                  <a:pt x="13576" y="4556"/>
                  <a:pt x="13560" y="4547"/>
                  <a:pt x="13543" y="4539"/>
                </a:cubicBezTo>
                <a:cubicBezTo>
                  <a:pt x="13543" y="4596"/>
                  <a:pt x="13554" y="4659"/>
                  <a:pt x="13568" y="4713"/>
                </a:cubicBezTo>
                <a:cubicBezTo>
                  <a:pt x="13576" y="4738"/>
                  <a:pt x="13585" y="4762"/>
                  <a:pt x="13593" y="47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97320" y="1347840"/>
            <a:ext cx="687600" cy="349200"/>
          </a:xfrm>
          <a:custGeom>
            <a:avLst/>
            <a:gdLst/>
            <a:ahLst/>
            <a:rect l="l" t="t" r="r" b="b"/>
            <a:pathLst>
              <a:path w="1911" h="968">
                <a:moveTo>
                  <a:pt x="14709" y="4291"/>
                </a:moveTo>
                <a:cubicBezTo>
                  <a:pt x="14709" y="4283"/>
                  <a:pt x="14709" y="4274"/>
                  <a:pt x="14709" y="4266"/>
                </a:cubicBezTo>
                <a:cubicBezTo>
                  <a:pt x="14689" y="4279"/>
                  <a:pt x="14617" y="4348"/>
                  <a:pt x="14585" y="4390"/>
                </a:cubicBezTo>
                <a:cubicBezTo>
                  <a:pt x="14549" y="4437"/>
                  <a:pt x="14484" y="4481"/>
                  <a:pt x="14461" y="4539"/>
                </a:cubicBezTo>
                <a:cubicBezTo>
                  <a:pt x="14461" y="4547"/>
                  <a:pt x="14461" y="4556"/>
                  <a:pt x="14461" y="4564"/>
                </a:cubicBezTo>
              </a:path>
              <a:path w="1911" h="968">
                <a:moveTo>
                  <a:pt x="14684" y="4614"/>
                </a:moveTo>
                <a:cubicBezTo>
                  <a:pt x="14703" y="4571"/>
                  <a:pt x="14734" y="4525"/>
                  <a:pt x="14684" y="4490"/>
                </a:cubicBezTo>
                <a:cubicBezTo>
                  <a:pt x="14607" y="4437"/>
                  <a:pt x="14552" y="4369"/>
                  <a:pt x="14461" y="4341"/>
                </a:cubicBezTo>
                <a:cubicBezTo>
                  <a:pt x="14453" y="4341"/>
                  <a:pt x="14444" y="4341"/>
                  <a:pt x="14436" y="4341"/>
                </a:cubicBezTo>
              </a:path>
              <a:path w="1911" h="968">
                <a:moveTo>
                  <a:pt x="15106" y="4093"/>
                </a:moveTo>
                <a:cubicBezTo>
                  <a:pt x="15125" y="4035"/>
                  <a:pt x="15116" y="4010"/>
                  <a:pt x="15156" y="4018"/>
                </a:cubicBezTo>
                <a:cubicBezTo>
                  <a:pt x="15156" y="4102"/>
                  <a:pt x="15145" y="4184"/>
                  <a:pt x="15131" y="4266"/>
                </a:cubicBezTo>
                <a:cubicBezTo>
                  <a:pt x="15109" y="4393"/>
                  <a:pt x="15106" y="4508"/>
                  <a:pt x="15106" y="4638"/>
                </a:cubicBezTo>
                <a:cubicBezTo>
                  <a:pt x="15106" y="4683"/>
                  <a:pt x="15103" y="4696"/>
                  <a:pt x="15131" y="4713"/>
                </a:cubicBezTo>
              </a:path>
              <a:path w="1911" h="968">
                <a:moveTo>
                  <a:pt x="15429" y="4366"/>
                </a:moveTo>
                <a:cubicBezTo>
                  <a:pt x="15429" y="4317"/>
                  <a:pt x="15440" y="4306"/>
                  <a:pt x="15453" y="4266"/>
                </a:cubicBezTo>
                <a:cubicBezTo>
                  <a:pt x="15466" y="4227"/>
                  <a:pt x="15490" y="4169"/>
                  <a:pt x="15528" y="4142"/>
                </a:cubicBezTo>
                <a:cubicBezTo>
                  <a:pt x="15572" y="4111"/>
                  <a:pt x="15645" y="4076"/>
                  <a:pt x="15701" y="4093"/>
                </a:cubicBezTo>
                <a:cubicBezTo>
                  <a:pt x="15794" y="4121"/>
                  <a:pt x="15839" y="4227"/>
                  <a:pt x="15850" y="4316"/>
                </a:cubicBezTo>
                <a:cubicBezTo>
                  <a:pt x="15862" y="4411"/>
                  <a:pt x="15856" y="4508"/>
                  <a:pt x="15801" y="4589"/>
                </a:cubicBezTo>
                <a:cubicBezTo>
                  <a:pt x="15753" y="4660"/>
                  <a:pt x="15588" y="4582"/>
                  <a:pt x="15528" y="4564"/>
                </a:cubicBezTo>
                <a:cubicBezTo>
                  <a:pt x="15443" y="4538"/>
                  <a:pt x="15341" y="4471"/>
                  <a:pt x="15354" y="4366"/>
                </a:cubicBezTo>
                <a:cubicBezTo>
                  <a:pt x="15378" y="4294"/>
                  <a:pt x="15384" y="4271"/>
                  <a:pt x="15429" y="4242"/>
                </a:cubicBezTo>
              </a:path>
              <a:path w="1911" h="968">
                <a:moveTo>
                  <a:pt x="16272" y="3795"/>
                </a:moveTo>
                <a:cubicBezTo>
                  <a:pt x="16272" y="3758"/>
                  <a:pt x="16301" y="3726"/>
                  <a:pt x="16272" y="3746"/>
                </a:cubicBezTo>
                <a:cubicBezTo>
                  <a:pt x="16213" y="3786"/>
                  <a:pt x="16204" y="3906"/>
                  <a:pt x="16197" y="3969"/>
                </a:cubicBezTo>
                <a:cubicBezTo>
                  <a:pt x="16189" y="4044"/>
                  <a:pt x="16181" y="4151"/>
                  <a:pt x="16222" y="4217"/>
                </a:cubicBezTo>
                <a:cubicBezTo>
                  <a:pt x="16246" y="4256"/>
                  <a:pt x="16282" y="4242"/>
                  <a:pt x="16321" y="4242"/>
                </a:cubicBezTo>
                <a:cubicBezTo>
                  <a:pt x="16330" y="4179"/>
                  <a:pt x="16364" y="4148"/>
                  <a:pt x="16321" y="4093"/>
                </a:cubicBezTo>
                <a:cubicBezTo>
                  <a:pt x="16296" y="4061"/>
                  <a:pt x="16282" y="4052"/>
                  <a:pt x="16247" y="40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2160720"/>
            <a:ext cx="127080" cy="46080"/>
          </a:xfrm>
          <a:custGeom>
            <a:avLst/>
            <a:gdLst/>
            <a:ahLst/>
            <a:rect l="l" t="t" r="r" b="b"/>
            <a:pathLst>
              <a:path w="349" h="125">
                <a:moveTo>
                  <a:pt x="7764" y="6052"/>
                </a:moveTo>
                <a:cubicBezTo>
                  <a:pt x="7772" y="6044"/>
                  <a:pt x="7781" y="6036"/>
                  <a:pt x="7789" y="6028"/>
                </a:cubicBezTo>
                <a:cubicBezTo>
                  <a:pt x="7732" y="6028"/>
                  <a:pt x="7692" y="6012"/>
                  <a:pt x="7640" y="6003"/>
                </a:cubicBezTo>
                <a:cubicBezTo>
                  <a:pt x="7578" y="5993"/>
                  <a:pt x="7504" y="6003"/>
                  <a:pt x="7441" y="6003"/>
                </a:cubicBezTo>
              </a:path>
              <a:path w="349" h="125">
                <a:moveTo>
                  <a:pt x="7764" y="6127"/>
                </a:moveTo>
                <a:cubicBezTo>
                  <a:pt x="7831" y="6127"/>
                  <a:pt x="7680" y="6127"/>
                  <a:pt x="7665" y="6127"/>
                </a:cubicBezTo>
                <a:cubicBezTo>
                  <a:pt x="7624" y="6127"/>
                  <a:pt x="7582" y="6127"/>
                  <a:pt x="7541" y="61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81240" y="2089080"/>
            <a:ext cx="473040" cy="268200"/>
          </a:xfrm>
          <a:custGeom>
            <a:avLst/>
            <a:gdLst/>
            <a:ahLst/>
            <a:rect l="l" t="t" r="r" b="b"/>
            <a:pathLst>
              <a:path w="1315" h="745">
                <a:moveTo>
                  <a:pt x="8558" y="5928"/>
                </a:moveTo>
                <a:cubicBezTo>
                  <a:pt x="8597" y="5889"/>
                  <a:pt x="8618" y="5765"/>
                  <a:pt x="8657" y="5804"/>
                </a:cubicBezTo>
                <a:cubicBezTo>
                  <a:pt x="8679" y="5826"/>
                  <a:pt x="8638" y="5952"/>
                  <a:pt x="8632" y="5978"/>
                </a:cubicBezTo>
                <a:cubicBezTo>
                  <a:pt x="8608" y="6072"/>
                  <a:pt x="8563" y="6154"/>
                  <a:pt x="8558" y="6251"/>
                </a:cubicBezTo>
                <a:cubicBezTo>
                  <a:pt x="8555" y="6302"/>
                  <a:pt x="8547" y="6346"/>
                  <a:pt x="8607" y="6350"/>
                </a:cubicBezTo>
                <a:cubicBezTo>
                  <a:pt x="8672" y="6355"/>
                  <a:pt x="8747" y="6345"/>
                  <a:pt x="8806" y="6325"/>
                </a:cubicBezTo>
                <a:cubicBezTo>
                  <a:pt x="8869" y="6304"/>
                  <a:pt x="8910" y="6300"/>
                  <a:pt x="8979" y="6300"/>
                </a:cubicBezTo>
                <a:cubicBezTo>
                  <a:pt x="9028" y="6300"/>
                  <a:pt x="9041" y="6296"/>
                  <a:pt x="9079" y="6325"/>
                </a:cubicBezTo>
              </a:path>
              <a:path w="1315" h="745">
                <a:moveTo>
                  <a:pt x="8806" y="6152"/>
                </a:moveTo>
                <a:cubicBezTo>
                  <a:pt x="8806" y="6263"/>
                  <a:pt x="8799" y="6368"/>
                  <a:pt x="8830" y="6474"/>
                </a:cubicBezTo>
                <a:cubicBezTo>
                  <a:pt x="8838" y="6499"/>
                  <a:pt x="8847" y="6523"/>
                  <a:pt x="8855" y="6548"/>
                </a:cubicBezTo>
              </a:path>
              <a:path w="1315" h="745">
                <a:moveTo>
                  <a:pt x="9277" y="6226"/>
                </a:moveTo>
                <a:cubicBezTo>
                  <a:pt x="9239" y="6213"/>
                  <a:pt x="9252" y="6197"/>
                  <a:pt x="9252" y="6152"/>
                </a:cubicBezTo>
                <a:cubicBezTo>
                  <a:pt x="9252" y="6085"/>
                  <a:pt x="9277" y="6020"/>
                  <a:pt x="9351" y="6003"/>
                </a:cubicBezTo>
                <a:cubicBezTo>
                  <a:pt x="9434" y="5984"/>
                  <a:pt x="9496" y="6061"/>
                  <a:pt x="9525" y="6127"/>
                </a:cubicBezTo>
                <a:cubicBezTo>
                  <a:pt x="9566" y="6220"/>
                  <a:pt x="9564" y="6309"/>
                  <a:pt x="9475" y="6375"/>
                </a:cubicBezTo>
                <a:cubicBezTo>
                  <a:pt x="9426" y="6411"/>
                  <a:pt x="9300" y="6423"/>
                  <a:pt x="9252" y="6375"/>
                </a:cubicBezTo>
                <a:cubicBezTo>
                  <a:pt x="9244" y="6358"/>
                  <a:pt x="9235" y="6342"/>
                  <a:pt x="9227" y="6325"/>
                </a:cubicBezTo>
              </a:path>
              <a:path w="1315" h="745">
                <a:moveTo>
                  <a:pt x="9823" y="6375"/>
                </a:moveTo>
                <a:cubicBezTo>
                  <a:pt x="9847" y="6375"/>
                  <a:pt x="9856" y="6375"/>
                  <a:pt x="9872" y="63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97200" y="2044800"/>
            <a:ext cx="669960" cy="233280"/>
          </a:xfrm>
          <a:custGeom>
            <a:avLst/>
            <a:gdLst/>
            <a:ahLst/>
            <a:rect l="l" t="t" r="r" b="b"/>
            <a:pathLst>
              <a:path w="1861" h="646">
                <a:moveTo>
                  <a:pt x="10269" y="5953"/>
                </a:moveTo>
                <a:cubicBezTo>
                  <a:pt x="10269" y="5915"/>
                  <a:pt x="10253" y="5849"/>
                  <a:pt x="10294" y="5829"/>
                </a:cubicBezTo>
                <a:cubicBezTo>
                  <a:pt x="10329" y="5812"/>
                  <a:pt x="10374" y="5782"/>
                  <a:pt x="10418" y="5779"/>
                </a:cubicBezTo>
                <a:cubicBezTo>
                  <a:pt x="10474" y="5775"/>
                  <a:pt x="10531" y="5778"/>
                  <a:pt x="10567" y="5829"/>
                </a:cubicBezTo>
                <a:cubicBezTo>
                  <a:pt x="10612" y="5892"/>
                  <a:pt x="10596" y="5964"/>
                  <a:pt x="10567" y="6028"/>
                </a:cubicBezTo>
                <a:cubicBezTo>
                  <a:pt x="10535" y="6100"/>
                  <a:pt x="10490" y="6165"/>
                  <a:pt x="10443" y="6226"/>
                </a:cubicBezTo>
                <a:cubicBezTo>
                  <a:pt x="10429" y="6244"/>
                  <a:pt x="10330" y="6297"/>
                  <a:pt x="10344" y="6325"/>
                </a:cubicBezTo>
                <a:cubicBezTo>
                  <a:pt x="10352" y="6325"/>
                  <a:pt x="10360" y="6325"/>
                  <a:pt x="10368" y="6325"/>
                </a:cubicBezTo>
                <a:cubicBezTo>
                  <a:pt x="10413" y="6314"/>
                  <a:pt x="10470" y="6292"/>
                  <a:pt x="10517" y="6276"/>
                </a:cubicBezTo>
                <a:cubicBezTo>
                  <a:pt x="10585" y="6253"/>
                  <a:pt x="10644" y="6232"/>
                  <a:pt x="10716" y="6226"/>
                </a:cubicBezTo>
                <a:cubicBezTo>
                  <a:pt x="10740" y="6226"/>
                  <a:pt x="10749" y="6226"/>
                  <a:pt x="10765" y="6226"/>
                </a:cubicBezTo>
              </a:path>
              <a:path w="1861" h="646">
                <a:moveTo>
                  <a:pt x="11038" y="5755"/>
                </a:moveTo>
                <a:cubicBezTo>
                  <a:pt x="11038" y="5738"/>
                  <a:pt x="11038" y="5722"/>
                  <a:pt x="11038" y="5705"/>
                </a:cubicBezTo>
                <a:cubicBezTo>
                  <a:pt x="11038" y="5887"/>
                  <a:pt x="11038" y="6069"/>
                  <a:pt x="11038" y="6251"/>
                </a:cubicBezTo>
              </a:path>
              <a:path w="1861" h="646">
                <a:moveTo>
                  <a:pt x="11385" y="5904"/>
                </a:moveTo>
                <a:cubicBezTo>
                  <a:pt x="11385" y="5843"/>
                  <a:pt x="11372" y="5777"/>
                  <a:pt x="11410" y="5730"/>
                </a:cubicBezTo>
                <a:cubicBezTo>
                  <a:pt x="11452" y="5678"/>
                  <a:pt x="11499" y="5680"/>
                  <a:pt x="11559" y="5680"/>
                </a:cubicBezTo>
                <a:cubicBezTo>
                  <a:pt x="11636" y="5680"/>
                  <a:pt x="11653" y="5674"/>
                  <a:pt x="11658" y="5755"/>
                </a:cubicBezTo>
                <a:cubicBezTo>
                  <a:pt x="11663" y="5834"/>
                  <a:pt x="11652" y="5935"/>
                  <a:pt x="11609" y="6003"/>
                </a:cubicBezTo>
                <a:cubicBezTo>
                  <a:pt x="11560" y="6080"/>
                  <a:pt x="11516" y="6131"/>
                  <a:pt x="11509" y="6226"/>
                </a:cubicBezTo>
                <a:cubicBezTo>
                  <a:pt x="11505" y="6278"/>
                  <a:pt x="11519" y="6315"/>
                  <a:pt x="11584" y="6300"/>
                </a:cubicBezTo>
                <a:cubicBezTo>
                  <a:pt x="11690" y="6276"/>
                  <a:pt x="11794" y="6255"/>
                  <a:pt x="11906" y="6251"/>
                </a:cubicBezTo>
                <a:cubicBezTo>
                  <a:pt x="11980" y="6249"/>
                  <a:pt x="12055" y="6251"/>
                  <a:pt x="12129" y="62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4920" y="2098800"/>
            <a:ext cx="88920" cy="98280"/>
          </a:xfrm>
          <a:custGeom>
            <a:avLst/>
            <a:gdLst/>
            <a:ahLst/>
            <a:rect l="l" t="t" r="r" b="b"/>
            <a:pathLst>
              <a:path w="249" h="274">
                <a:moveTo>
                  <a:pt x="13320" y="5854"/>
                </a:moveTo>
                <a:cubicBezTo>
                  <a:pt x="13328" y="5846"/>
                  <a:pt x="13337" y="5837"/>
                  <a:pt x="13345" y="5829"/>
                </a:cubicBezTo>
                <a:cubicBezTo>
                  <a:pt x="13283" y="5844"/>
                  <a:pt x="13285" y="5881"/>
                  <a:pt x="13246" y="5928"/>
                </a:cubicBezTo>
                <a:cubicBezTo>
                  <a:pt x="13197" y="5987"/>
                  <a:pt x="13161" y="6026"/>
                  <a:pt x="13146" y="6102"/>
                </a:cubicBezTo>
              </a:path>
              <a:path w="249" h="274">
                <a:moveTo>
                  <a:pt x="13271" y="6102"/>
                </a:moveTo>
                <a:cubicBezTo>
                  <a:pt x="13311" y="6082"/>
                  <a:pt x="13327" y="6083"/>
                  <a:pt x="13320" y="6052"/>
                </a:cubicBezTo>
                <a:cubicBezTo>
                  <a:pt x="13260" y="6005"/>
                  <a:pt x="13212" y="6000"/>
                  <a:pt x="13146" y="5978"/>
                </a:cubicBezTo>
                <a:cubicBezTo>
                  <a:pt x="13130" y="5970"/>
                  <a:pt x="13113" y="5961"/>
                  <a:pt x="13097" y="59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56120" y="1874880"/>
            <a:ext cx="455760" cy="339840"/>
          </a:xfrm>
          <a:custGeom>
            <a:avLst/>
            <a:gdLst/>
            <a:ahLst/>
            <a:rect l="l" t="t" r="r" b="b"/>
            <a:pathLst>
              <a:path w="1266" h="944">
                <a:moveTo>
                  <a:pt x="13767" y="5655"/>
                </a:moveTo>
                <a:cubicBezTo>
                  <a:pt x="13789" y="5633"/>
                  <a:pt x="13794" y="5625"/>
                  <a:pt x="13816" y="5631"/>
                </a:cubicBezTo>
                <a:cubicBezTo>
                  <a:pt x="13816" y="5805"/>
                  <a:pt x="13816" y="5978"/>
                  <a:pt x="13816" y="6152"/>
                </a:cubicBezTo>
              </a:path>
              <a:path w="1266" h="944">
                <a:moveTo>
                  <a:pt x="14114" y="5928"/>
                </a:moveTo>
                <a:cubicBezTo>
                  <a:pt x="14114" y="5861"/>
                  <a:pt x="14110" y="5810"/>
                  <a:pt x="14139" y="5755"/>
                </a:cubicBezTo>
                <a:cubicBezTo>
                  <a:pt x="14175" y="5686"/>
                  <a:pt x="14231" y="5624"/>
                  <a:pt x="14312" y="5606"/>
                </a:cubicBezTo>
                <a:cubicBezTo>
                  <a:pt x="14397" y="5587"/>
                  <a:pt x="14436" y="5692"/>
                  <a:pt x="14461" y="5755"/>
                </a:cubicBezTo>
                <a:cubicBezTo>
                  <a:pt x="14492" y="5835"/>
                  <a:pt x="14499" y="5956"/>
                  <a:pt x="14436" y="6028"/>
                </a:cubicBezTo>
                <a:cubicBezTo>
                  <a:pt x="14415" y="6052"/>
                  <a:pt x="14295" y="6110"/>
                  <a:pt x="14263" y="6102"/>
                </a:cubicBezTo>
                <a:cubicBezTo>
                  <a:pt x="14183" y="6081"/>
                  <a:pt x="14172" y="6023"/>
                  <a:pt x="14163" y="5953"/>
                </a:cubicBezTo>
              </a:path>
              <a:path w="1266" h="944">
                <a:moveTo>
                  <a:pt x="14883" y="5283"/>
                </a:moveTo>
                <a:cubicBezTo>
                  <a:pt x="14912" y="5262"/>
                  <a:pt x="14932" y="5173"/>
                  <a:pt x="14932" y="5209"/>
                </a:cubicBezTo>
                <a:cubicBezTo>
                  <a:pt x="14932" y="5264"/>
                  <a:pt x="14869" y="5276"/>
                  <a:pt x="14858" y="5333"/>
                </a:cubicBezTo>
                <a:cubicBezTo>
                  <a:pt x="14845" y="5403"/>
                  <a:pt x="14814" y="5508"/>
                  <a:pt x="14833" y="5581"/>
                </a:cubicBezTo>
                <a:cubicBezTo>
                  <a:pt x="14849" y="5642"/>
                  <a:pt x="14898" y="5674"/>
                  <a:pt x="14957" y="5680"/>
                </a:cubicBezTo>
                <a:cubicBezTo>
                  <a:pt x="14999" y="5684"/>
                  <a:pt x="15028" y="5642"/>
                  <a:pt x="15032" y="5606"/>
                </a:cubicBezTo>
                <a:cubicBezTo>
                  <a:pt x="15036" y="5570"/>
                  <a:pt x="15024" y="5519"/>
                  <a:pt x="14982" y="5507"/>
                </a:cubicBezTo>
                <a:cubicBezTo>
                  <a:pt x="14941" y="5507"/>
                  <a:pt x="14933" y="5507"/>
                  <a:pt x="14908" y="55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60760" y="2714760"/>
            <a:ext cx="125280" cy="81000"/>
          </a:xfrm>
          <a:custGeom>
            <a:avLst/>
            <a:gdLst/>
            <a:ahLst/>
            <a:rect l="l" t="t" r="r" b="b"/>
            <a:pathLst>
              <a:path w="348" h="224">
                <a:moveTo>
                  <a:pt x="7665" y="7541"/>
                </a:moveTo>
                <a:cubicBezTo>
                  <a:pt x="7689" y="7541"/>
                  <a:pt x="7698" y="7541"/>
                  <a:pt x="7714" y="7541"/>
                </a:cubicBezTo>
                <a:cubicBezTo>
                  <a:pt x="7649" y="7541"/>
                  <a:pt x="7595" y="7555"/>
                  <a:pt x="7541" y="7565"/>
                </a:cubicBezTo>
                <a:cubicBezTo>
                  <a:pt x="7495" y="7574"/>
                  <a:pt x="7439" y="7565"/>
                  <a:pt x="7392" y="7565"/>
                </a:cubicBezTo>
              </a:path>
              <a:path w="348" h="224">
                <a:moveTo>
                  <a:pt x="7739" y="7764"/>
                </a:moveTo>
                <a:cubicBezTo>
                  <a:pt x="7739" y="7756"/>
                  <a:pt x="7739" y="7747"/>
                  <a:pt x="7739" y="7739"/>
                </a:cubicBezTo>
                <a:cubicBezTo>
                  <a:pt x="7673" y="7739"/>
                  <a:pt x="7607" y="7739"/>
                  <a:pt x="7541" y="77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5880" y="2598840"/>
            <a:ext cx="366480" cy="250560"/>
          </a:xfrm>
          <a:custGeom>
            <a:avLst/>
            <a:gdLst/>
            <a:ahLst/>
            <a:rect l="l" t="t" r="r" b="b"/>
            <a:pathLst>
              <a:path w="1018" h="696">
                <a:moveTo>
                  <a:pt x="8706" y="7243"/>
                </a:moveTo>
                <a:cubicBezTo>
                  <a:pt x="8706" y="7218"/>
                  <a:pt x="8706" y="7210"/>
                  <a:pt x="8731" y="7218"/>
                </a:cubicBezTo>
                <a:cubicBezTo>
                  <a:pt x="8768" y="7230"/>
                  <a:pt x="8766" y="7291"/>
                  <a:pt x="8756" y="7342"/>
                </a:cubicBezTo>
                <a:cubicBezTo>
                  <a:pt x="8737" y="7435"/>
                  <a:pt x="8696" y="7525"/>
                  <a:pt x="8682" y="7615"/>
                </a:cubicBezTo>
                <a:cubicBezTo>
                  <a:pt x="8674" y="7667"/>
                  <a:pt x="8674" y="7739"/>
                  <a:pt x="8731" y="7764"/>
                </a:cubicBezTo>
                <a:cubicBezTo>
                  <a:pt x="8755" y="7775"/>
                  <a:pt x="8876" y="7722"/>
                  <a:pt x="8905" y="7714"/>
                </a:cubicBezTo>
                <a:cubicBezTo>
                  <a:pt x="8979" y="7695"/>
                  <a:pt x="9027" y="7689"/>
                  <a:pt x="9103" y="7689"/>
                </a:cubicBezTo>
                <a:cubicBezTo>
                  <a:pt x="9171" y="7689"/>
                  <a:pt x="9197" y="7696"/>
                  <a:pt x="9252" y="7714"/>
                </a:cubicBezTo>
                <a:cubicBezTo>
                  <a:pt x="9279" y="7723"/>
                  <a:pt x="9341" y="7718"/>
                  <a:pt x="9277" y="7739"/>
                </a:cubicBezTo>
              </a:path>
              <a:path w="1018" h="696">
                <a:moveTo>
                  <a:pt x="8979" y="7541"/>
                </a:moveTo>
                <a:cubicBezTo>
                  <a:pt x="8994" y="7598"/>
                  <a:pt x="9026" y="7646"/>
                  <a:pt x="9029" y="7714"/>
                </a:cubicBezTo>
                <a:cubicBezTo>
                  <a:pt x="9032" y="7788"/>
                  <a:pt x="9054" y="7840"/>
                  <a:pt x="9054" y="7913"/>
                </a:cubicBezTo>
              </a:path>
              <a:path w="1018" h="696">
                <a:moveTo>
                  <a:pt x="9674" y="7739"/>
                </a:moveTo>
                <a:cubicBezTo>
                  <a:pt x="9674" y="7706"/>
                  <a:pt x="9691" y="7652"/>
                  <a:pt x="9699" y="7714"/>
                </a:cubicBezTo>
                <a:cubicBezTo>
                  <a:pt x="9699" y="7722"/>
                  <a:pt x="9699" y="7731"/>
                  <a:pt x="9699" y="77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52920" y="2517840"/>
            <a:ext cx="812880" cy="260280"/>
          </a:xfrm>
          <a:custGeom>
            <a:avLst/>
            <a:gdLst/>
            <a:ahLst/>
            <a:rect l="l" t="t" r="r" b="b"/>
            <a:pathLst>
              <a:path w="2258" h="720">
                <a:moveTo>
                  <a:pt x="10145" y="7441"/>
                </a:moveTo>
                <a:cubicBezTo>
                  <a:pt x="10145" y="7386"/>
                  <a:pt x="10156" y="7370"/>
                  <a:pt x="10170" y="7317"/>
                </a:cubicBezTo>
                <a:cubicBezTo>
                  <a:pt x="10182" y="7271"/>
                  <a:pt x="10265" y="7231"/>
                  <a:pt x="10319" y="7243"/>
                </a:cubicBezTo>
                <a:cubicBezTo>
                  <a:pt x="10424" y="7267"/>
                  <a:pt x="10459" y="7351"/>
                  <a:pt x="10492" y="7441"/>
                </a:cubicBezTo>
                <a:cubicBezTo>
                  <a:pt x="10520" y="7518"/>
                  <a:pt x="10548" y="7671"/>
                  <a:pt x="10443" y="7714"/>
                </a:cubicBezTo>
                <a:cubicBezTo>
                  <a:pt x="10360" y="7748"/>
                  <a:pt x="10247" y="7708"/>
                  <a:pt x="10195" y="7640"/>
                </a:cubicBezTo>
                <a:cubicBezTo>
                  <a:pt x="10149" y="7579"/>
                  <a:pt x="10167" y="7503"/>
                  <a:pt x="10195" y="7441"/>
                </a:cubicBezTo>
                <a:cubicBezTo>
                  <a:pt x="10222" y="7388"/>
                  <a:pt x="10234" y="7368"/>
                  <a:pt x="10269" y="7342"/>
                </a:cubicBezTo>
              </a:path>
              <a:path w="2258" h="720">
                <a:moveTo>
                  <a:pt x="10889" y="7392"/>
                </a:moveTo>
                <a:cubicBezTo>
                  <a:pt x="10882" y="7366"/>
                  <a:pt x="10846" y="7325"/>
                  <a:pt x="10864" y="7293"/>
                </a:cubicBezTo>
                <a:cubicBezTo>
                  <a:pt x="10878" y="7269"/>
                  <a:pt x="10907" y="7202"/>
                  <a:pt x="10939" y="7193"/>
                </a:cubicBezTo>
                <a:cubicBezTo>
                  <a:pt x="10979" y="7181"/>
                  <a:pt x="11063" y="7185"/>
                  <a:pt x="11088" y="7218"/>
                </a:cubicBezTo>
                <a:cubicBezTo>
                  <a:pt x="11142" y="7289"/>
                  <a:pt x="11146" y="7335"/>
                  <a:pt x="11112" y="7417"/>
                </a:cubicBezTo>
                <a:cubicBezTo>
                  <a:pt x="11086" y="7479"/>
                  <a:pt x="11028" y="7536"/>
                  <a:pt x="10988" y="7590"/>
                </a:cubicBezTo>
                <a:cubicBezTo>
                  <a:pt x="10964" y="7615"/>
                  <a:pt x="10956" y="7624"/>
                  <a:pt x="10939" y="7640"/>
                </a:cubicBezTo>
                <a:cubicBezTo>
                  <a:pt x="11004" y="7640"/>
                  <a:pt x="11052" y="7625"/>
                  <a:pt x="11112" y="7615"/>
                </a:cubicBezTo>
                <a:cubicBezTo>
                  <a:pt x="11172" y="7605"/>
                  <a:pt x="11223" y="7590"/>
                  <a:pt x="11286" y="7590"/>
                </a:cubicBezTo>
              </a:path>
              <a:path w="2258" h="720">
                <a:moveTo>
                  <a:pt x="11485" y="7268"/>
                </a:moveTo>
                <a:cubicBezTo>
                  <a:pt x="11516" y="7199"/>
                  <a:pt x="11516" y="7158"/>
                  <a:pt x="11559" y="7144"/>
                </a:cubicBezTo>
                <a:cubicBezTo>
                  <a:pt x="11570" y="7237"/>
                  <a:pt x="11584" y="7320"/>
                  <a:pt x="11584" y="7417"/>
                </a:cubicBezTo>
                <a:cubicBezTo>
                  <a:pt x="11584" y="7485"/>
                  <a:pt x="11570" y="7539"/>
                  <a:pt x="11609" y="7590"/>
                </a:cubicBezTo>
              </a:path>
              <a:path w="2258" h="720">
                <a:moveTo>
                  <a:pt x="11881" y="7243"/>
                </a:moveTo>
                <a:cubicBezTo>
                  <a:pt x="11881" y="7192"/>
                  <a:pt x="11892" y="7185"/>
                  <a:pt x="11906" y="7144"/>
                </a:cubicBezTo>
                <a:cubicBezTo>
                  <a:pt x="11928" y="7080"/>
                  <a:pt x="11964" y="7031"/>
                  <a:pt x="12030" y="6995"/>
                </a:cubicBezTo>
                <a:cubicBezTo>
                  <a:pt x="12071" y="6973"/>
                  <a:pt x="12135" y="7005"/>
                  <a:pt x="12154" y="7045"/>
                </a:cubicBezTo>
                <a:cubicBezTo>
                  <a:pt x="12202" y="7146"/>
                  <a:pt x="12177" y="7270"/>
                  <a:pt x="12129" y="7367"/>
                </a:cubicBezTo>
                <a:cubicBezTo>
                  <a:pt x="12097" y="7431"/>
                  <a:pt x="12023" y="7523"/>
                  <a:pt x="12005" y="7590"/>
                </a:cubicBezTo>
                <a:cubicBezTo>
                  <a:pt x="11986" y="7659"/>
                  <a:pt x="12049" y="7682"/>
                  <a:pt x="12105" y="7665"/>
                </a:cubicBezTo>
                <a:cubicBezTo>
                  <a:pt x="12186" y="7641"/>
                  <a:pt x="12274" y="7598"/>
                  <a:pt x="12353" y="7565"/>
                </a:cubicBezTo>
                <a:cubicBezTo>
                  <a:pt x="12369" y="7557"/>
                  <a:pt x="12386" y="7549"/>
                  <a:pt x="12402" y="7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86200" y="2500200"/>
            <a:ext cx="71640" cy="108000"/>
          </a:xfrm>
          <a:custGeom>
            <a:avLst/>
            <a:gdLst/>
            <a:ahLst/>
            <a:rect l="l" t="t" r="r" b="b"/>
            <a:pathLst>
              <a:path w="200" h="299">
                <a:moveTo>
                  <a:pt x="13395" y="7020"/>
                </a:moveTo>
                <a:cubicBezTo>
                  <a:pt x="13416" y="7003"/>
                  <a:pt x="13464" y="6980"/>
                  <a:pt x="13469" y="6970"/>
                </a:cubicBezTo>
                <a:cubicBezTo>
                  <a:pt x="13469" y="6962"/>
                  <a:pt x="13469" y="6953"/>
                  <a:pt x="13469" y="6945"/>
                </a:cubicBezTo>
                <a:cubicBezTo>
                  <a:pt x="13421" y="7005"/>
                  <a:pt x="13381" y="7077"/>
                  <a:pt x="13345" y="7144"/>
                </a:cubicBezTo>
                <a:cubicBezTo>
                  <a:pt x="13319" y="7193"/>
                  <a:pt x="13306" y="7210"/>
                  <a:pt x="13295" y="7243"/>
                </a:cubicBezTo>
              </a:path>
              <a:path w="200" h="299">
                <a:moveTo>
                  <a:pt x="13469" y="7218"/>
                </a:moveTo>
                <a:cubicBezTo>
                  <a:pt x="13499" y="7189"/>
                  <a:pt x="13435" y="7139"/>
                  <a:pt x="13395" y="7094"/>
                </a:cubicBezTo>
                <a:cubicBezTo>
                  <a:pt x="13353" y="7053"/>
                  <a:pt x="13345" y="7045"/>
                  <a:pt x="13320" y="70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41960" y="2482920"/>
            <a:ext cx="322200" cy="223920"/>
          </a:xfrm>
          <a:custGeom>
            <a:avLst/>
            <a:gdLst/>
            <a:ahLst/>
            <a:rect l="l" t="t" r="r" b="b"/>
            <a:pathLst>
              <a:path w="894" h="621">
                <a:moveTo>
                  <a:pt x="14560" y="6945"/>
                </a:moveTo>
                <a:cubicBezTo>
                  <a:pt x="14560" y="6904"/>
                  <a:pt x="14552" y="6888"/>
                  <a:pt x="14585" y="6896"/>
                </a:cubicBezTo>
                <a:cubicBezTo>
                  <a:pt x="14585" y="6975"/>
                  <a:pt x="14567" y="7044"/>
                  <a:pt x="14560" y="7119"/>
                </a:cubicBezTo>
                <a:cubicBezTo>
                  <a:pt x="14548" y="7248"/>
                  <a:pt x="14560" y="7386"/>
                  <a:pt x="14560" y="7516"/>
                </a:cubicBezTo>
              </a:path>
              <a:path w="894" h="621">
                <a:moveTo>
                  <a:pt x="14932" y="7193"/>
                </a:moveTo>
                <a:cubicBezTo>
                  <a:pt x="14932" y="7137"/>
                  <a:pt x="14952" y="7160"/>
                  <a:pt x="14957" y="7119"/>
                </a:cubicBezTo>
                <a:cubicBezTo>
                  <a:pt x="14961" y="7086"/>
                  <a:pt x="14987" y="7025"/>
                  <a:pt x="15007" y="6995"/>
                </a:cubicBezTo>
                <a:cubicBezTo>
                  <a:pt x="15043" y="6942"/>
                  <a:pt x="15123" y="6924"/>
                  <a:pt x="15180" y="6921"/>
                </a:cubicBezTo>
                <a:cubicBezTo>
                  <a:pt x="15288" y="6915"/>
                  <a:pt x="15357" y="6975"/>
                  <a:pt x="15404" y="7069"/>
                </a:cubicBezTo>
                <a:cubicBezTo>
                  <a:pt x="15447" y="7154"/>
                  <a:pt x="15481" y="7278"/>
                  <a:pt x="15429" y="7367"/>
                </a:cubicBezTo>
                <a:cubicBezTo>
                  <a:pt x="15367" y="7473"/>
                  <a:pt x="15288" y="7466"/>
                  <a:pt x="15180" y="7466"/>
                </a:cubicBezTo>
                <a:cubicBezTo>
                  <a:pt x="15073" y="7466"/>
                  <a:pt x="14968" y="7467"/>
                  <a:pt x="14957" y="7342"/>
                </a:cubicBezTo>
                <a:cubicBezTo>
                  <a:pt x="14945" y="7207"/>
                  <a:pt x="15021" y="7137"/>
                  <a:pt x="15106" y="70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88000" y="2384280"/>
            <a:ext cx="125280" cy="125640"/>
          </a:xfrm>
          <a:custGeom>
            <a:avLst/>
            <a:gdLst/>
            <a:ahLst/>
            <a:rect l="l" t="t" r="r" b="b"/>
            <a:pathLst>
              <a:path w="348" h="348">
                <a:moveTo>
                  <a:pt x="15801" y="6648"/>
                </a:moveTo>
                <a:cubicBezTo>
                  <a:pt x="15814" y="6607"/>
                  <a:pt x="15849" y="6623"/>
                  <a:pt x="15900" y="6623"/>
                </a:cubicBezTo>
                <a:cubicBezTo>
                  <a:pt x="15944" y="6623"/>
                  <a:pt x="16131" y="6593"/>
                  <a:pt x="16148" y="6648"/>
                </a:cubicBezTo>
                <a:cubicBezTo>
                  <a:pt x="16165" y="6704"/>
                  <a:pt x="16093" y="6770"/>
                  <a:pt x="16073" y="6821"/>
                </a:cubicBezTo>
                <a:cubicBezTo>
                  <a:pt x="16049" y="6884"/>
                  <a:pt x="16040" y="6919"/>
                  <a:pt x="15999" y="6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89120" y="3197160"/>
            <a:ext cx="90720" cy="810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7392" y="8930"/>
                </a:moveTo>
                <a:cubicBezTo>
                  <a:pt x="7417" y="8930"/>
                  <a:pt x="7425" y="8930"/>
                  <a:pt x="7441" y="8930"/>
                </a:cubicBezTo>
                <a:cubicBezTo>
                  <a:pt x="7396" y="8930"/>
                  <a:pt x="7382" y="8909"/>
                  <a:pt x="7342" y="8905"/>
                </a:cubicBezTo>
                <a:cubicBezTo>
                  <a:pt x="7288" y="8899"/>
                  <a:pt x="7263" y="8895"/>
                  <a:pt x="7218" y="8880"/>
                </a:cubicBezTo>
                <a:cubicBezTo>
                  <a:pt x="7210" y="8880"/>
                  <a:pt x="7201" y="8880"/>
                  <a:pt x="7193" y="8880"/>
                </a:cubicBezTo>
              </a:path>
              <a:path w="249" h="224">
                <a:moveTo>
                  <a:pt x="7417" y="9103"/>
                </a:moveTo>
                <a:cubicBezTo>
                  <a:pt x="7373" y="9071"/>
                  <a:pt x="7337" y="9101"/>
                  <a:pt x="7293" y="9079"/>
                </a:cubicBezTo>
                <a:cubicBezTo>
                  <a:pt x="7251" y="9058"/>
                  <a:pt x="7244" y="9054"/>
                  <a:pt x="7193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81240" y="3054240"/>
            <a:ext cx="330120" cy="268560"/>
          </a:xfrm>
          <a:custGeom>
            <a:avLst/>
            <a:gdLst/>
            <a:ahLst/>
            <a:rect l="l" t="t" r="r" b="b"/>
            <a:pathLst>
              <a:path w="918" h="745">
                <a:moveTo>
                  <a:pt x="8632" y="8533"/>
                </a:moveTo>
                <a:cubicBezTo>
                  <a:pt x="8681" y="8500"/>
                  <a:pt x="8671" y="8495"/>
                  <a:pt x="8706" y="8483"/>
                </a:cubicBezTo>
                <a:cubicBezTo>
                  <a:pt x="8675" y="8526"/>
                  <a:pt x="8658" y="8580"/>
                  <a:pt x="8632" y="8632"/>
                </a:cubicBezTo>
                <a:cubicBezTo>
                  <a:pt x="8590" y="8716"/>
                  <a:pt x="8604" y="8770"/>
                  <a:pt x="8582" y="8855"/>
                </a:cubicBezTo>
                <a:cubicBezTo>
                  <a:pt x="8565" y="8921"/>
                  <a:pt x="8534" y="8969"/>
                  <a:pt x="8582" y="9029"/>
                </a:cubicBezTo>
                <a:cubicBezTo>
                  <a:pt x="8627" y="9086"/>
                  <a:pt x="8678" y="9038"/>
                  <a:pt x="8731" y="9029"/>
                </a:cubicBezTo>
                <a:cubicBezTo>
                  <a:pt x="8809" y="9016"/>
                  <a:pt x="8871" y="9004"/>
                  <a:pt x="8954" y="9004"/>
                </a:cubicBezTo>
                <a:cubicBezTo>
                  <a:pt x="9005" y="9004"/>
                  <a:pt x="9047" y="8979"/>
                  <a:pt x="9103" y="8979"/>
                </a:cubicBezTo>
                <a:cubicBezTo>
                  <a:pt x="9146" y="8979"/>
                  <a:pt x="9141" y="8989"/>
                  <a:pt x="9153" y="8954"/>
                </a:cubicBezTo>
              </a:path>
              <a:path w="918" h="745">
                <a:moveTo>
                  <a:pt x="8880" y="8905"/>
                </a:moveTo>
                <a:cubicBezTo>
                  <a:pt x="8842" y="8918"/>
                  <a:pt x="8844" y="8980"/>
                  <a:pt x="8855" y="9029"/>
                </a:cubicBezTo>
                <a:cubicBezTo>
                  <a:pt x="8872" y="9106"/>
                  <a:pt x="8905" y="9147"/>
                  <a:pt x="8905" y="9227"/>
                </a:cubicBezTo>
              </a:path>
              <a:path w="918" h="745">
                <a:moveTo>
                  <a:pt x="9475" y="9128"/>
                </a:moveTo>
                <a:cubicBezTo>
                  <a:pt x="9475" y="9120"/>
                  <a:pt x="9475" y="9111"/>
                  <a:pt x="9475" y="91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71920" y="3089160"/>
            <a:ext cx="179280" cy="206640"/>
          </a:xfrm>
          <a:custGeom>
            <a:avLst/>
            <a:gdLst/>
            <a:ahLst/>
            <a:rect l="l" t="t" r="r" b="b"/>
            <a:pathLst>
              <a:path w="497" h="572">
                <a:moveTo>
                  <a:pt x="9971" y="8930"/>
                </a:moveTo>
                <a:cubicBezTo>
                  <a:pt x="9971" y="8870"/>
                  <a:pt x="9956" y="8801"/>
                  <a:pt x="9996" y="8756"/>
                </a:cubicBezTo>
                <a:cubicBezTo>
                  <a:pt x="10027" y="8722"/>
                  <a:pt x="10035" y="8693"/>
                  <a:pt x="10071" y="8657"/>
                </a:cubicBezTo>
                <a:cubicBezTo>
                  <a:pt x="10115" y="8613"/>
                  <a:pt x="10121" y="8625"/>
                  <a:pt x="10170" y="8607"/>
                </a:cubicBezTo>
                <a:cubicBezTo>
                  <a:pt x="10197" y="8597"/>
                  <a:pt x="10259" y="8562"/>
                  <a:pt x="10294" y="8582"/>
                </a:cubicBezTo>
                <a:cubicBezTo>
                  <a:pt x="10322" y="8598"/>
                  <a:pt x="10378" y="8622"/>
                  <a:pt x="10393" y="8657"/>
                </a:cubicBezTo>
                <a:cubicBezTo>
                  <a:pt x="10415" y="8706"/>
                  <a:pt x="10418" y="8745"/>
                  <a:pt x="10418" y="8806"/>
                </a:cubicBezTo>
                <a:cubicBezTo>
                  <a:pt x="10418" y="8891"/>
                  <a:pt x="10411" y="8950"/>
                  <a:pt x="10393" y="9029"/>
                </a:cubicBezTo>
                <a:cubicBezTo>
                  <a:pt x="10384" y="9069"/>
                  <a:pt x="10336" y="9117"/>
                  <a:pt x="10294" y="9128"/>
                </a:cubicBezTo>
                <a:cubicBezTo>
                  <a:pt x="10245" y="9141"/>
                  <a:pt x="10148" y="9173"/>
                  <a:pt x="10096" y="9153"/>
                </a:cubicBezTo>
                <a:cubicBezTo>
                  <a:pt x="10039" y="9131"/>
                  <a:pt x="9938" y="9072"/>
                  <a:pt x="9922" y="9004"/>
                </a:cubicBezTo>
                <a:cubicBezTo>
                  <a:pt x="9907" y="8939"/>
                  <a:pt x="9944" y="8885"/>
                  <a:pt x="9971" y="8830"/>
                </a:cubicBezTo>
                <a:cubicBezTo>
                  <a:pt x="9997" y="8778"/>
                  <a:pt x="10031" y="8746"/>
                  <a:pt x="10071" y="87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89240" y="3116160"/>
            <a:ext cx="98640" cy="125640"/>
          </a:xfrm>
          <a:custGeom>
            <a:avLst/>
            <a:gdLst/>
            <a:ahLst/>
            <a:rect l="l" t="t" r="r" b="b"/>
            <a:pathLst>
              <a:path w="273" h="348">
                <a:moveTo>
                  <a:pt x="11584" y="8657"/>
                </a:moveTo>
                <a:cubicBezTo>
                  <a:pt x="11600" y="8657"/>
                  <a:pt x="11617" y="8657"/>
                  <a:pt x="11633" y="8657"/>
                </a:cubicBezTo>
                <a:cubicBezTo>
                  <a:pt x="11622" y="8702"/>
                  <a:pt x="11565" y="8770"/>
                  <a:pt x="11534" y="8806"/>
                </a:cubicBezTo>
                <a:cubicBezTo>
                  <a:pt x="11484" y="8865"/>
                  <a:pt x="11433" y="8919"/>
                  <a:pt x="11385" y="8979"/>
                </a:cubicBezTo>
              </a:path>
              <a:path w="273" h="348">
                <a:moveTo>
                  <a:pt x="11609" y="9004"/>
                </a:moveTo>
                <a:cubicBezTo>
                  <a:pt x="11609" y="8915"/>
                  <a:pt x="11587" y="8919"/>
                  <a:pt x="11509" y="8880"/>
                </a:cubicBezTo>
                <a:cubicBezTo>
                  <a:pt x="11460" y="8855"/>
                  <a:pt x="11410" y="8830"/>
                  <a:pt x="11361" y="8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48080" y="2919240"/>
            <a:ext cx="501840" cy="322560"/>
          </a:xfrm>
          <a:custGeom>
            <a:avLst/>
            <a:gdLst/>
            <a:ahLst/>
            <a:rect l="l" t="t" r="r" b="b"/>
            <a:pathLst>
              <a:path w="1390" h="894">
                <a:moveTo>
                  <a:pt x="12080" y="8558"/>
                </a:moveTo>
                <a:cubicBezTo>
                  <a:pt x="12080" y="8533"/>
                  <a:pt x="12080" y="8525"/>
                  <a:pt x="12105" y="8533"/>
                </a:cubicBezTo>
                <a:cubicBezTo>
                  <a:pt x="12105" y="8669"/>
                  <a:pt x="12115" y="8798"/>
                  <a:pt x="12129" y="8930"/>
                </a:cubicBezTo>
                <a:cubicBezTo>
                  <a:pt x="12129" y="8955"/>
                  <a:pt x="12129" y="8979"/>
                  <a:pt x="12129" y="9004"/>
                </a:cubicBezTo>
              </a:path>
              <a:path w="1390" h="894">
                <a:moveTo>
                  <a:pt x="12402" y="8632"/>
                </a:moveTo>
                <a:cubicBezTo>
                  <a:pt x="12402" y="8583"/>
                  <a:pt x="12397" y="8553"/>
                  <a:pt x="12427" y="8508"/>
                </a:cubicBezTo>
                <a:cubicBezTo>
                  <a:pt x="12494" y="8408"/>
                  <a:pt x="12536" y="8428"/>
                  <a:pt x="12626" y="8483"/>
                </a:cubicBezTo>
                <a:cubicBezTo>
                  <a:pt x="12739" y="8552"/>
                  <a:pt x="12793" y="8698"/>
                  <a:pt x="12750" y="8830"/>
                </a:cubicBezTo>
                <a:cubicBezTo>
                  <a:pt x="12709" y="8957"/>
                  <a:pt x="12582" y="8981"/>
                  <a:pt x="12477" y="8954"/>
                </a:cubicBezTo>
                <a:cubicBezTo>
                  <a:pt x="12402" y="8930"/>
                  <a:pt x="12377" y="8922"/>
                  <a:pt x="12378" y="8855"/>
                </a:cubicBezTo>
              </a:path>
              <a:path w="1390" h="894">
                <a:moveTo>
                  <a:pt x="12849" y="8136"/>
                </a:moveTo>
                <a:cubicBezTo>
                  <a:pt x="12909" y="8136"/>
                  <a:pt x="12942" y="8121"/>
                  <a:pt x="12998" y="8111"/>
                </a:cubicBezTo>
                <a:cubicBezTo>
                  <a:pt x="13060" y="8100"/>
                  <a:pt x="13133" y="8111"/>
                  <a:pt x="13196" y="8111"/>
                </a:cubicBezTo>
                <a:cubicBezTo>
                  <a:pt x="13196" y="8183"/>
                  <a:pt x="13180" y="8202"/>
                  <a:pt x="13146" y="8260"/>
                </a:cubicBezTo>
                <a:cubicBezTo>
                  <a:pt x="13109" y="8323"/>
                  <a:pt x="13078" y="8386"/>
                  <a:pt x="13072" y="8458"/>
                </a:cubicBezTo>
                <a:cubicBezTo>
                  <a:pt x="13072" y="8466"/>
                  <a:pt x="13072" y="8475"/>
                  <a:pt x="13072" y="8483"/>
                </a:cubicBezTo>
              </a:path>
              <a:path w="1390" h="894">
                <a:moveTo>
                  <a:pt x="13469" y="8954"/>
                </a:moveTo>
                <a:lnTo>
                  <a:pt x="13469" y="895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10746" t="6619" r="10968" b="44505"/>
          <a:stretch/>
        </p:blipFill>
        <p:spPr>
          <a:xfrm>
            <a:off x="0" y="0"/>
            <a:ext cx="7667640" cy="6589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537160" y="2357280"/>
            <a:ext cx="2027160" cy="731880"/>
          </a:xfrm>
          <a:custGeom>
            <a:avLst/>
            <a:gdLst/>
            <a:ahLst/>
            <a:rect l="l" t="t" r="r" b="b"/>
            <a:pathLst>
              <a:path w="5632" h="2035">
                <a:moveTo>
                  <a:pt x="17537" y="7317"/>
                </a:moveTo>
                <a:cubicBezTo>
                  <a:pt x="17584" y="7310"/>
                  <a:pt x="17580" y="7311"/>
                  <a:pt x="17611" y="7293"/>
                </a:cubicBezTo>
                <a:cubicBezTo>
                  <a:pt x="17580" y="7281"/>
                  <a:pt x="17551" y="7259"/>
                  <a:pt x="17512" y="7268"/>
                </a:cubicBezTo>
                <a:cubicBezTo>
                  <a:pt x="17478" y="7276"/>
                  <a:pt x="17421" y="7279"/>
                  <a:pt x="17388" y="7293"/>
                </a:cubicBezTo>
                <a:cubicBezTo>
                  <a:pt x="17324" y="7320"/>
                  <a:pt x="17281" y="7323"/>
                  <a:pt x="17214" y="7342"/>
                </a:cubicBezTo>
                <a:cubicBezTo>
                  <a:pt x="17144" y="7362"/>
                  <a:pt x="17086" y="7390"/>
                  <a:pt x="17016" y="7417"/>
                </a:cubicBezTo>
                <a:cubicBezTo>
                  <a:pt x="16940" y="7446"/>
                  <a:pt x="16864" y="7473"/>
                  <a:pt x="16793" y="7516"/>
                </a:cubicBezTo>
                <a:cubicBezTo>
                  <a:pt x="16751" y="7542"/>
                  <a:pt x="16700" y="7574"/>
                  <a:pt x="16669" y="7615"/>
                </a:cubicBezTo>
                <a:cubicBezTo>
                  <a:pt x="16649" y="7642"/>
                  <a:pt x="16583" y="7708"/>
                  <a:pt x="16570" y="7739"/>
                </a:cubicBezTo>
                <a:cubicBezTo>
                  <a:pt x="16561" y="7760"/>
                  <a:pt x="16524" y="7841"/>
                  <a:pt x="16520" y="7863"/>
                </a:cubicBezTo>
                <a:cubicBezTo>
                  <a:pt x="16510" y="7926"/>
                  <a:pt x="16487" y="7937"/>
                  <a:pt x="16470" y="7987"/>
                </a:cubicBezTo>
                <a:cubicBezTo>
                  <a:pt x="16456" y="8028"/>
                  <a:pt x="16460" y="8069"/>
                  <a:pt x="16446" y="8111"/>
                </a:cubicBezTo>
                <a:cubicBezTo>
                  <a:pt x="16432" y="8153"/>
                  <a:pt x="16404" y="8190"/>
                  <a:pt x="16396" y="8235"/>
                </a:cubicBezTo>
                <a:cubicBezTo>
                  <a:pt x="16390" y="8269"/>
                  <a:pt x="16375" y="8310"/>
                  <a:pt x="16371" y="8334"/>
                </a:cubicBezTo>
                <a:cubicBezTo>
                  <a:pt x="16365" y="8368"/>
                  <a:pt x="16350" y="8409"/>
                  <a:pt x="16346" y="8434"/>
                </a:cubicBezTo>
                <a:cubicBezTo>
                  <a:pt x="16342" y="8458"/>
                  <a:pt x="16349" y="8484"/>
                  <a:pt x="16346" y="8508"/>
                </a:cubicBezTo>
              </a:path>
              <a:path w="5632" h="2035">
                <a:moveTo>
                  <a:pt x="15404" y="6772"/>
                </a:moveTo>
                <a:cubicBezTo>
                  <a:pt x="15379" y="6772"/>
                  <a:pt x="15371" y="6772"/>
                  <a:pt x="15379" y="6796"/>
                </a:cubicBezTo>
                <a:cubicBezTo>
                  <a:pt x="15467" y="6796"/>
                  <a:pt x="15542" y="6784"/>
                  <a:pt x="15627" y="6772"/>
                </a:cubicBezTo>
                <a:cubicBezTo>
                  <a:pt x="15669" y="6766"/>
                  <a:pt x="15802" y="6750"/>
                  <a:pt x="15825" y="6796"/>
                </a:cubicBezTo>
                <a:cubicBezTo>
                  <a:pt x="15844" y="6835"/>
                  <a:pt x="15819" y="6913"/>
                  <a:pt x="15801" y="6945"/>
                </a:cubicBezTo>
                <a:cubicBezTo>
                  <a:pt x="15753" y="7030"/>
                  <a:pt x="15696" y="7105"/>
                  <a:pt x="15652" y="7193"/>
                </a:cubicBezTo>
                <a:cubicBezTo>
                  <a:pt x="15630" y="7237"/>
                  <a:pt x="15627" y="7249"/>
                  <a:pt x="15602" y="7268"/>
                </a:cubicBezTo>
              </a:path>
              <a:path w="5632" h="2035">
                <a:moveTo>
                  <a:pt x="16173" y="6846"/>
                </a:moveTo>
                <a:cubicBezTo>
                  <a:pt x="16193" y="6805"/>
                  <a:pt x="16190" y="6788"/>
                  <a:pt x="16222" y="6796"/>
                </a:cubicBezTo>
                <a:cubicBezTo>
                  <a:pt x="16222" y="6916"/>
                  <a:pt x="16208" y="7027"/>
                  <a:pt x="16197" y="7144"/>
                </a:cubicBezTo>
                <a:cubicBezTo>
                  <a:pt x="16197" y="7169"/>
                  <a:pt x="16197" y="7193"/>
                  <a:pt x="16197" y="7218"/>
                </a:cubicBezTo>
              </a:path>
              <a:path w="5632" h="2035">
                <a:moveTo>
                  <a:pt x="17785" y="8483"/>
                </a:moveTo>
                <a:cubicBezTo>
                  <a:pt x="17829" y="8479"/>
                  <a:pt x="17876" y="8462"/>
                  <a:pt x="17909" y="8458"/>
                </a:cubicBezTo>
                <a:cubicBezTo>
                  <a:pt x="17973" y="8450"/>
                  <a:pt x="18054" y="8440"/>
                  <a:pt x="18107" y="8434"/>
                </a:cubicBezTo>
                <a:cubicBezTo>
                  <a:pt x="18248" y="8417"/>
                  <a:pt x="18393" y="8444"/>
                  <a:pt x="18529" y="8458"/>
                </a:cubicBezTo>
                <a:cubicBezTo>
                  <a:pt x="18645" y="8470"/>
                  <a:pt x="18761" y="8498"/>
                  <a:pt x="18876" y="8508"/>
                </a:cubicBezTo>
                <a:cubicBezTo>
                  <a:pt x="19006" y="8519"/>
                  <a:pt x="19147" y="8516"/>
                  <a:pt x="19273" y="8483"/>
                </a:cubicBezTo>
                <a:cubicBezTo>
                  <a:pt x="19397" y="8451"/>
                  <a:pt x="19516" y="8458"/>
                  <a:pt x="19645" y="8458"/>
                </a:cubicBezTo>
                <a:cubicBezTo>
                  <a:pt x="19768" y="8458"/>
                  <a:pt x="19898" y="8441"/>
                  <a:pt x="20017" y="8409"/>
                </a:cubicBezTo>
                <a:cubicBezTo>
                  <a:pt x="20135" y="8377"/>
                  <a:pt x="20243" y="8346"/>
                  <a:pt x="20365" y="8334"/>
                </a:cubicBezTo>
                <a:cubicBezTo>
                  <a:pt x="20527" y="8318"/>
                  <a:pt x="20711" y="8326"/>
                  <a:pt x="20861" y="8310"/>
                </a:cubicBezTo>
                <a:cubicBezTo>
                  <a:pt x="20909" y="8305"/>
                  <a:pt x="20962" y="8310"/>
                  <a:pt x="21010" y="8310"/>
                </a:cubicBezTo>
              </a:path>
              <a:path w="5632" h="2035">
                <a:moveTo>
                  <a:pt x="17711" y="7541"/>
                </a:moveTo>
                <a:cubicBezTo>
                  <a:pt x="17823" y="7541"/>
                  <a:pt x="17924" y="7550"/>
                  <a:pt x="18033" y="7565"/>
                </a:cubicBezTo>
                <a:cubicBezTo>
                  <a:pt x="18125" y="7578"/>
                  <a:pt x="18215" y="7602"/>
                  <a:pt x="18306" y="7615"/>
                </a:cubicBezTo>
                <a:cubicBezTo>
                  <a:pt x="18382" y="7625"/>
                  <a:pt x="18457" y="7616"/>
                  <a:pt x="18529" y="7640"/>
                </a:cubicBezTo>
                <a:cubicBezTo>
                  <a:pt x="18586" y="7659"/>
                  <a:pt x="18627" y="7686"/>
                  <a:pt x="18678" y="7714"/>
                </a:cubicBezTo>
                <a:cubicBezTo>
                  <a:pt x="18708" y="7730"/>
                  <a:pt x="18745" y="7748"/>
                  <a:pt x="18777" y="7764"/>
                </a:cubicBezTo>
                <a:cubicBezTo>
                  <a:pt x="18812" y="7782"/>
                  <a:pt x="18850" y="7804"/>
                  <a:pt x="18876" y="7838"/>
                </a:cubicBezTo>
                <a:cubicBezTo>
                  <a:pt x="18899" y="7869"/>
                  <a:pt x="18925" y="7880"/>
                  <a:pt x="18951" y="7913"/>
                </a:cubicBezTo>
                <a:cubicBezTo>
                  <a:pt x="18965" y="7930"/>
                  <a:pt x="19012" y="7987"/>
                  <a:pt x="19025" y="8012"/>
                </a:cubicBezTo>
                <a:cubicBezTo>
                  <a:pt x="19025" y="8020"/>
                  <a:pt x="19025" y="8029"/>
                  <a:pt x="19025" y="8037"/>
                </a:cubicBezTo>
                <a:cubicBezTo>
                  <a:pt x="19039" y="8061"/>
                  <a:pt x="19035" y="8087"/>
                  <a:pt x="19050" y="8136"/>
                </a:cubicBezTo>
                <a:cubicBezTo>
                  <a:pt x="19061" y="8174"/>
                  <a:pt x="19073" y="8192"/>
                  <a:pt x="19075" y="8235"/>
                </a:cubicBezTo>
                <a:cubicBezTo>
                  <a:pt x="19082" y="8354"/>
                  <a:pt x="19060" y="8478"/>
                  <a:pt x="19100" y="8582"/>
                </a:cubicBezTo>
              </a:path>
              <a:path w="5632" h="2035">
                <a:moveTo>
                  <a:pt x="19323" y="7094"/>
                </a:moveTo>
                <a:cubicBezTo>
                  <a:pt x="19323" y="7083"/>
                  <a:pt x="19323" y="6978"/>
                  <a:pt x="19323" y="7045"/>
                </a:cubicBezTo>
                <a:cubicBezTo>
                  <a:pt x="19323" y="7148"/>
                  <a:pt x="19301" y="7241"/>
                  <a:pt x="19298" y="7342"/>
                </a:cubicBezTo>
                <a:cubicBezTo>
                  <a:pt x="19298" y="7425"/>
                  <a:pt x="19298" y="7441"/>
                  <a:pt x="19298" y="7491"/>
                </a:cubicBezTo>
              </a:path>
              <a:path w="5632" h="2035">
                <a:moveTo>
                  <a:pt x="19496" y="7268"/>
                </a:moveTo>
                <a:cubicBezTo>
                  <a:pt x="19531" y="7209"/>
                  <a:pt x="19552" y="7181"/>
                  <a:pt x="19596" y="7119"/>
                </a:cubicBezTo>
                <a:cubicBezTo>
                  <a:pt x="19642" y="7054"/>
                  <a:pt x="19741" y="7033"/>
                  <a:pt x="19794" y="7119"/>
                </a:cubicBezTo>
                <a:cubicBezTo>
                  <a:pt x="19833" y="7183"/>
                  <a:pt x="19879" y="7327"/>
                  <a:pt x="19819" y="7392"/>
                </a:cubicBezTo>
                <a:cubicBezTo>
                  <a:pt x="19782" y="7431"/>
                  <a:pt x="19677" y="7434"/>
                  <a:pt x="19645" y="7392"/>
                </a:cubicBezTo>
                <a:cubicBezTo>
                  <a:pt x="19637" y="7375"/>
                  <a:pt x="19629" y="7359"/>
                  <a:pt x="19621" y="7342"/>
                </a:cubicBezTo>
              </a:path>
              <a:path w="5632" h="2035">
                <a:moveTo>
                  <a:pt x="20191" y="6995"/>
                </a:moveTo>
                <a:cubicBezTo>
                  <a:pt x="20231" y="6990"/>
                  <a:pt x="20318" y="6988"/>
                  <a:pt x="20340" y="6945"/>
                </a:cubicBezTo>
                <a:cubicBezTo>
                  <a:pt x="20340" y="6921"/>
                  <a:pt x="20340" y="6912"/>
                  <a:pt x="20340" y="6896"/>
                </a:cubicBezTo>
                <a:cubicBezTo>
                  <a:pt x="20326" y="6854"/>
                  <a:pt x="20243" y="6857"/>
                  <a:pt x="20191" y="6871"/>
                </a:cubicBezTo>
                <a:cubicBezTo>
                  <a:pt x="20097" y="6896"/>
                  <a:pt x="20072" y="7010"/>
                  <a:pt x="20092" y="7094"/>
                </a:cubicBezTo>
                <a:cubicBezTo>
                  <a:pt x="20100" y="7111"/>
                  <a:pt x="20109" y="7127"/>
                  <a:pt x="20117" y="7144"/>
                </a:cubicBezTo>
                <a:cubicBezTo>
                  <a:pt x="20211" y="7144"/>
                  <a:pt x="20209" y="7118"/>
                  <a:pt x="20265" y="7045"/>
                </a:cubicBezTo>
                <a:cubicBezTo>
                  <a:pt x="20273" y="7037"/>
                  <a:pt x="20282" y="7028"/>
                  <a:pt x="20290" y="7020"/>
                </a:cubicBezTo>
                <a:cubicBezTo>
                  <a:pt x="20374" y="7020"/>
                  <a:pt x="20365" y="7097"/>
                  <a:pt x="20389" y="7169"/>
                </a:cubicBezTo>
                <a:cubicBezTo>
                  <a:pt x="20414" y="7243"/>
                  <a:pt x="20424" y="7318"/>
                  <a:pt x="20439" y="7392"/>
                </a:cubicBezTo>
              </a:path>
              <a:path w="5632" h="2035">
                <a:moveTo>
                  <a:pt x="20638" y="6896"/>
                </a:moveTo>
                <a:cubicBezTo>
                  <a:pt x="20672" y="6844"/>
                  <a:pt x="20673" y="6839"/>
                  <a:pt x="20712" y="6796"/>
                </a:cubicBezTo>
                <a:cubicBezTo>
                  <a:pt x="20726" y="6781"/>
                  <a:pt x="20783" y="6716"/>
                  <a:pt x="20811" y="6747"/>
                </a:cubicBezTo>
                <a:cubicBezTo>
                  <a:pt x="20854" y="6794"/>
                  <a:pt x="20846" y="6878"/>
                  <a:pt x="20811" y="6921"/>
                </a:cubicBezTo>
                <a:cubicBezTo>
                  <a:pt x="20775" y="6965"/>
                  <a:pt x="20758" y="6940"/>
                  <a:pt x="20712" y="6921"/>
                </a:cubicBezTo>
              </a:path>
              <a:path w="5632" h="2035">
                <a:moveTo>
                  <a:pt x="16594" y="6672"/>
                </a:moveTo>
                <a:cubicBezTo>
                  <a:pt x="16554" y="6672"/>
                  <a:pt x="16514" y="6666"/>
                  <a:pt x="16495" y="6623"/>
                </a:cubicBezTo>
                <a:cubicBezTo>
                  <a:pt x="16495" y="6615"/>
                  <a:pt x="16495" y="6606"/>
                  <a:pt x="16495" y="6598"/>
                </a:cubicBezTo>
                <a:cubicBezTo>
                  <a:pt x="16529" y="6573"/>
                  <a:pt x="16571" y="6537"/>
                  <a:pt x="16619" y="6548"/>
                </a:cubicBezTo>
                <a:cubicBezTo>
                  <a:pt x="16696" y="6566"/>
                  <a:pt x="16714" y="6629"/>
                  <a:pt x="16718" y="6697"/>
                </a:cubicBezTo>
                <a:cubicBezTo>
                  <a:pt x="16721" y="6756"/>
                  <a:pt x="16688" y="6812"/>
                  <a:pt x="16619" y="6796"/>
                </a:cubicBezTo>
                <a:cubicBezTo>
                  <a:pt x="16540" y="6778"/>
                  <a:pt x="16570" y="6686"/>
                  <a:pt x="16570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54840" y="4867200"/>
            <a:ext cx="517320" cy="517680"/>
          </a:xfrm>
          <a:custGeom>
            <a:avLst/>
            <a:gdLst/>
            <a:ahLst/>
            <a:rect l="l" t="t" r="r" b="b"/>
            <a:pathLst>
              <a:path w="1439" h="1439">
                <a:moveTo>
                  <a:pt x="16818" y="14139"/>
                </a:moveTo>
                <a:cubicBezTo>
                  <a:pt x="16838" y="14199"/>
                  <a:pt x="16913" y="14144"/>
                  <a:pt x="16966" y="14139"/>
                </a:cubicBezTo>
                <a:cubicBezTo>
                  <a:pt x="17081" y="14128"/>
                  <a:pt x="17200" y="14118"/>
                  <a:pt x="17314" y="14114"/>
                </a:cubicBezTo>
                <a:cubicBezTo>
                  <a:pt x="17369" y="14112"/>
                  <a:pt x="17433" y="14095"/>
                  <a:pt x="17438" y="14163"/>
                </a:cubicBezTo>
                <a:cubicBezTo>
                  <a:pt x="17446" y="14273"/>
                  <a:pt x="17372" y="14362"/>
                  <a:pt x="17338" y="14461"/>
                </a:cubicBezTo>
                <a:cubicBezTo>
                  <a:pt x="17299" y="14575"/>
                  <a:pt x="17260" y="14715"/>
                  <a:pt x="17239" y="14833"/>
                </a:cubicBezTo>
                <a:cubicBezTo>
                  <a:pt x="17232" y="14872"/>
                  <a:pt x="17239" y="14918"/>
                  <a:pt x="17239" y="14957"/>
                </a:cubicBezTo>
              </a:path>
              <a:path w="1439" h="1439">
                <a:moveTo>
                  <a:pt x="17835" y="14163"/>
                </a:moveTo>
                <a:cubicBezTo>
                  <a:pt x="17842" y="14145"/>
                  <a:pt x="17859" y="14056"/>
                  <a:pt x="17859" y="14114"/>
                </a:cubicBezTo>
                <a:cubicBezTo>
                  <a:pt x="17846" y="14231"/>
                  <a:pt x="17835" y="14341"/>
                  <a:pt x="17835" y="14461"/>
                </a:cubicBezTo>
                <a:cubicBezTo>
                  <a:pt x="17835" y="14566"/>
                  <a:pt x="17824" y="14662"/>
                  <a:pt x="17859" y="14759"/>
                </a:cubicBezTo>
              </a:path>
              <a:path w="1439" h="1439">
                <a:moveTo>
                  <a:pt x="18132" y="13618"/>
                </a:moveTo>
                <a:cubicBezTo>
                  <a:pt x="18133" y="13615"/>
                  <a:pt x="18153" y="13546"/>
                  <a:pt x="18157" y="13543"/>
                </a:cubicBezTo>
                <a:cubicBezTo>
                  <a:pt x="18180" y="13525"/>
                  <a:pt x="18190" y="13519"/>
                  <a:pt x="18231" y="13519"/>
                </a:cubicBezTo>
                <a:cubicBezTo>
                  <a:pt x="18239" y="13519"/>
                  <a:pt x="18248" y="13519"/>
                  <a:pt x="18256" y="13519"/>
                </a:cubicBezTo>
                <a:cubicBezTo>
                  <a:pt x="18256" y="13587"/>
                  <a:pt x="18272" y="13665"/>
                  <a:pt x="18231" y="13717"/>
                </a:cubicBezTo>
                <a:cubicBezTo>
                  <a:pt x="18203" y="13752"/>
                  <a:pt x="18173" y="13742"/>
                  <a:pt x="18132" y="13742"/>
                </a:cubicBezTo>
                <a:cubicBezTo>
                  <a:pt x="18132" y="13696"/>
                  <a:pt x="18126" y="13678"/>
                  <a:pt x="18157" y="13643"/>
                </a:cubicBezTo>
                <a:cubicBezTo>
                  <a:pt x="18165" y="13635"/>
                  <a:pt x="18174" y="13626"/>
                  <a:pt x="18182" y="136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60640" y="295200"/>
            <a:ext cx="5251320" cy="2813040"/>
          </a:xfrm>
          <a:custGeom>
            <a:avLst/>
            <a:gdLst/>
            <a:ahLst/>
            <a:rect l="l" t="t" r="r" b="b"/>
            <a:pathLst>
              <a:path w="14586" h="7814">
                <a:moveTo>
                  <a:pt x="3225" y="8632"/>
                </a:moveTo>
                <a:cubicBezTo>
                  <a:pt x="3228" y="8625"/>
                  <a:pt x="3264" y="8583"/>
                  <a:pt x="3274" y="8558"/>
                </a:cubicBezTo>
                <a:cubicBezTo>
                  <a:pt x="3287" y="8526"/>
                  <a:pt x="3284" y="8489"/>
                  <a:pt x="3299" y="8458"/>
                </a:cubicBezTo>
                <a:cubicBezTo>
                  <a:pt x="3325" y="8402"/>
                  <a:pt x="3329" y="8362"/>
                  <a:pt x="3349" y="8310"/>
                </a:cubicBezTo>
                <a:cubicBezTo>
                  <a:pt x="3365" y="8267"/>
                  <a:pt x="3380" y="8225"/>
                  <a:pt x="3398" y="8186"/>
                </a:cubicBezTo>
                <a:cubicBezTo>
                  <a:pt x="3423" y="8131"/>
                  <a:pt x="3449" y="8093"/>
                  <a:pt x="3473" y="8037"/>
                </a:cubicBezTo>
                <a:cubicBezTo>
                  <a:pt x="3491" y="7996"/>
                  <a:pt x="3504" y="7954"/>
                  <a:pt x="3522" y="7913"/>
                </a:cubicBezTo>
                <a:cubicBezTo>
                  <a:pt x="3548" y="7854"/>
                  <a:pt x="3553" y="7797"/>
                  <a:pt x="3572" y="7739"/>
                </a:cubicBezTo>
                <a:cubicBezTo>
                  <a:pt x="3594" y="7672"/>
                  <a:pt x="3620" y="7630"/>
                  <a:pt x="3646" y="7565"/>
                </a:cubicBezTo>
                <a:cubicBezTo>
                  <a:pt x="3666" y="7513"/>
                  <a:pt x="3676" y="7447"/>
                  <a:pt x="3696" y="7392"/>
                </a:cubicBezTo>
                <a:cubicBezTo>
                  <a:pt x="3721" y="7322"/>
                  <a:pt x="3745" y="7261"/>
                  <a:pt x="3770" y="7193"/>
                </a:cubicBezTo>
                <a:cubicBezTo>
                  <a:pt x="3792" y="7134"/>
                  <a:pt x="3821" y="7063"/>
                  <a:pt x="3845" y="6995"/>
                </a:cubicBezTo>
                <a:cubicBezTo>
                  <a:pt x="3870" y="6925"/>
                  <a:pt x="3889" y="6846"/>
                  <a:pt x="3919" y="6772"/>
                </a:cubicBezTo>
                <a:cubicBezTo>
                  <a:pt x="3959" y="6672"/>
                  <a:pt x="4007" y="6575"/>
                  <a:pt x="4043" y="6474"/>
                </a:cubicBezTo>
                <a:cubicBezTo>
                  <a:pt x="4075" y="6385"/>
                  <a:pt x="4100" y="6286"/>
                  <a:pt x="4142" y="6201"/>
                </a:cubicBezTo>
                <a:cubicBezTo>
                  <a:pt x="4198" y="6088"/>
                  <a:pt x="4285" y="5991"/>
                  <a:pt x="4341" y="5879"/>
                </a:cubicBezTo>
                <a:cubicBezTo>
                  <a:pt x="4377" y="5807"/>
                  <a:pt x="4418" y="5708"/>
                  <a:pt x="4440" y="5631"/>
                </a:cubicBezTo>
                <a:cubicBezTo>
                  <a:pt x="4465" y="5546"/>
                  <a:pt x="4485" y="5468"/>
                  <a:pt x="4514" y="5383"/>
                </a:cubicBezTo>
                <a:cubicBezTo>
                  <a:pt x="4540" y="5307"/>
                  <a:pt x="4571" y="5215"/>
                  <a:pt x="4589" y="5135"/>
                </a:cubicBezTo>
                <a:cubicBezTo>
                  <a:pt x="4605" y="5061"/>
                  <a:pt x="4624" y="4985"/>
                  <a:pt x="4638" y="4911"/>
                </a:cubicBezTo>
                <a:cubicBezTo>
                  <a:pt x="4650" y="4849"/>
                  <a:pt x="4646" y="4774"/>
                  <a:pt x="4663" y="4713"/>
                </a:cubicBezTo>
                <a:cubicBezTo>
                  <a:pt x="4681" y="4650"/>
                  <a:pt x="4695" y="4597"/>
                  <a:pt x="4713" y="4539"/>
                </a:cubicBezTo>
                <a:cubicBezTo>
                  <a:pt x="4727" y="4494"/>
                  <a:pt x="4750" y="4442"/>
                  <a:pt x="4762" y="4390"/>
                </a:cubicBezTo>
                <a:cubicBezTo>
                  <a:pt x="4776" y="4330"/>
                  <a:pt x="4796" y="4277"/>
                  <a:pt x="4812" y="4217"/>
                </a:cubicBezTo>
                <a:cubicBezTo>
                  <a:pt x="4827" y="4160"/>
                  <a:pt x="4841" y="4121"/>
                  <a:pt x="4862" y="4068"/>
                </a:cubicBezTo>
                <a:cubicBezTo>
                  <a:pt x="4875" y="4036"/>
                  <a:pt x="4902" y="3977"/>
                  <a:pt x="4911" y="3944"/>
                </a:cubicBezTo>
                <a:cubicBezTo>
                  <a:pt x="4925" y="3891"/>
                  <a:pt x="4924" y="3824"/>
                  <a:pt x="4936" y="3770"/>
                </a:cubicBezTo>
                <a:cubicBezTo>
                  <a:pt x="4944" y="3731"/>
                  <a:pt x="4954" y="3707"/>
                  <a:pt x="4961" y="3671"/>
                </a:cubicBezTo>
                <a:cubicBezTo>
                  <a:pt x="4970" y="3625"/>
                  <a:pt x="4978" y="3589"/>
                  <a:pt x="4986" y="3547"/>
                </a:cubicBezTo>
                <a:cubicBezTo>
                  <a:pt x="4995" y="3503"/>
                  <a:pt x="5006" y="3475"/>
                  <a:pt x="5011" y="3423"/>
                </a:cubicBezTo>
                <a:cubicBezTo>
                  <a:pt x="5017" y="3356"/>
                  <a:pt x="5019" y="3305"/>
                  <a:pt x="5035" y="3249"/>
                </a:cubicBezTo>
                <a:cubicBezTo>
                  <a:pt x="5046" y="3213"/>
                  <a:pt x="5046" y="3184"/>
                  <a:pt x="5060" y="3150"/>
                </a:cubicBezTo>
                <a:cubicBezTo>
                  <a:pt x="5079" y="3103"/>
                  <a:pt x="5090" y="3047"/>
                  <a:pt x="5110" y="3001"/>
                </a:cubicBezTo>
                <a:cubicBezTo>
                  <a:pt x="5122" y="2974"/>
                  <a:pt x="5147" y="2955"/>
                  <a:pt x="5159" y="2927"/>
                </a:cubicBezTo>
              </a:path>
              <a:path w="14586" h="7814">
                <a:moveTo>
                  <a:pt x="3274" y="8558"/>
                </a:moveTo>
                <a:cubicBezTo>
                  <a:pt x="3299" y="8543"/>
                  <a:pt x="3347" y="8550"/>
                  <a:pt x="3373" y="8533"/>
                </a:cubicBezTo>
                <a:cubicBezTo>
                  <a:pt x="3409" y="8510"/>
                  <a:pt x="3435" y="8481"/>
                  <a:pt x="3473" y="8458"/>
                </a:cubicBezTo>
                <a:cubicBezTo>
                  <a:pt x="3668" y="8339"/>
                  <a:pt x="3856" y="8193"/>
                  <a:pt x="4043" y="8062"/>
                </a:cubicBezTo>
                <a:cubicBezTo>
                  <a:pt x="4232" y="7929"/>
                  <a:pt x="4404" y="7776"/>
                  <a:pt x="4589" y="7640"/>
                </a:cubicBezTo>
                <a:cubicBezTo>
                  <a:pt x="4724" y="7541"/>
                  <a:pt x="4857" y="7448"/>
                  <a:pt x="4986" y="7342"/>
                </a:cubicBezTo>
                <a:cubicBezTo>
                  <a:pt x="5079" y="7266"/>
                  <a:pt x="5164" y="7196"/>
                  <a:pt x="5259" y="7119"/>
                </a:cubicBezTo>
                <a:cubicBezTo>
                  <a:pt x="5383" y="7019"/>
                  <a:pt x="5505" y="6944"/>
                  <a:pt x="5631" y="6846"/>
                </a:cubicBezTo>
                <a:cubicBezTo>
                  <a:pt x="5765" y="6742"/>
                  <a:pt x="5891" y="6647"/>
                  <a:pt x="6028" y="6548"/>
                </a:cubicBezTo>
                <a:cubicBezTo>
                  <a:pt x="6152" y="6458"/>
                  <a:pt x="6256" y="6348"/>
                  <a:pt x="6375" y="6251"/>
                </a:cubicBezTo>
                <a:cubicBezTo>
                  <a:pt x="6447" y="6192"/>
                  <a:pt x="6527" y="6141"/>
                  <a:pt x="6598" y="6077"/>
                </a:cubicBezTo>
                <a:cubicBezTo>
                  <a:pt x="6735" y="5954"/>
                  <a:pt x="6883" y="5851"/>
                  <a:pt x="7020" y="5730"/>
                </a:cubicBezTo>
                <a:cubicBezTo>
                  <a:pt x="7104" y="5656"/>
                  <a:pt x="7183" y="5562"/>
                  <a:pt x="7268" y="5482"/>
                </a:cubicBezTo>
                <a:cubicBezTo>
                  <a:pt x="7431" y="5329"/>
                  <a:pt x="7579" y="5160"/>
                  <a:pt x="7739" y="5011"/>
                </a:cubicBezTo>
                <a:cubicBezTo>
                  <a:pt x="7955" y="4810"/>
                  <a:pt x="8096" y="4586"/>
                  <a:pt x="8285" y="4366"/>
                </a:cubicBezTo>
                <a:cubicBezTo>
                  <a:pt x="8453" y="4170"/>
                  <a:pt x="8628" y="3953"/>
                  <a:pt x="8806" y="3770"/>
                </a:cubicBezTo>
                <a:cubicBezTo>
                  <a:pt x="8901" y="3673"/>
                  <a:pt x="9013" y="3597"/>
                  <a:pt x="9103" y="3497"/>
                </a:cubicBezTo>
                <a:cubicBezTo>
                  <a:pt x="9167" y="3426"/>
                  <a:pt x="9209" y="3341"/>
                  <a:pt x="9277" y="3274"/>
                </a:cubicBezTo>
                <a:cubicBezTo>
                  <a:pt x="9319" y="3232"/>
                  <a:pt x="9379" y="3187"/>
                  <a:pt x="9426" y="3150"/>
                </a:cubicBezTo>
                <a:cubicBezTo>
                  <a:pt x="9556" y="3047"/>
                  <a:pt x="9698" y="3004"/>
                  <a:pt x="9823" y="2902"/>
                </a:cubicBezTo>
                <a:cubicBezTo>
                  <a:pt x="9981" y="2773"/>
                  <a:pt x="10117" y="2618"/>
                  <a:pt x="10244" y="2456"/>
                </a:cubicBezTo>
                <a:cubicBezTo>
                  <a:pt x="10458" y="2182"/>
                  <a:pt x="10638" y="1951"/>
                  <a:pt x="10889" y="1712"/>
                </a:cubicBezTo>
                <a:cubicBezTo>
                  <a:pt x="10970" y="1635"/>
                  <a:pt x="11039" y="1545"/>
                  <a:pt x="11112" y="1463"/>
                </a:cubicBezTo>
                <a:cubicBezTo>
                  <a:pt x="11203" y="1360"/>
                  <a:pt x="11296" y="1248"/>
                  <a:pt x="11385" y="1141"/>
                </a:cubicBezTo>
                <a:cubicBezTo>
                  <a:pt x="11447" y="1066"/>
                  <a:pt x="11511" y="959"/>
                  <a:pt x="11584" y="893"/>
                </a:cubicBezTo>
                <a:cubicBezTo>
                  <a:pt x="11620" y="860"/>
                  <a:pt x="11686" y="839"/>
                  <a:pt x="11708" y="819"/>
                </a:cubicBezTo>
              </a:path>
              <a:path w="14586" h="7814">
                <a:moveTo>
                  <a:pt x="17785" y="8434"/>
                </a:moveTo>
                <a:cubicBezTo>
                  <a:pt x="17801" y="8394"/>
                  <a:pt x="17813" y="8425"/>
                  <a:pt x="17785" y="8359"/>
                </a:cubicBezTo>
                <a:cubicBezTo>
                  <a:pt x="17766" y="8314"/>
                  <a:pt x="17740" y="8257"/>
                  <a:pt x="17711" y="8210"/>
                </a:cubicBezTo>
                <a:cubicBezTo>
                  <a:pt x="17642" y="8096"/>
                  <a:pt x="17581" y="7977"/>
                  <a:pt x="17512" y="7863"/>
                </a:cubicBezTo>
                <a:cubicBezTo>
                  <a:pt x="17456" y="7770"/>
                  <a:pt x="17364" y="7683"/>
                  <a:pt x="17314" y="7590"/>
                </a:cubicBezTo>
                <a:cubicBezTo>
                  <a:pt x="17269" y="7507"/>
                  <a:pt x="17236" y="7422"/>
                  <a:pt x="17190" y="7342"/>
                </a:cubicBezTo>
                <a:cubicBezTo>
                  <a:pt x="17139" y="7254"/>
                  <a:pt x="17086" y="7168"/>
                  <a:pt x="17016" y="7094"/>
                </a:cubicBezTo>
                <a:cubicBezTo>
                  <a:pt x="16938" y="7013"/>
                  <a:pt x="16873" y="6927"/>
                  <a:pt x="16793" y="6846"/>
                </a:cubicBezTo>
                <a:cubicBezTo>
                  <a:pt x="16739" y="6792"/>
                  <a:pt x="16710" y="6737"/>
                  <a:pt x="16669" y="6672"/>
                </a:cubicBezTo>
              </a:path>
              <a:path w="14586" h="7814">
                <a:moveTo>
                  <a:pt x="11733" y="1141"/>
                </a:moveTo>
                <a:cubicBezTo>
                  <a:pt x="11733" y="1116"/>
                  <a:pt x="11733" y="1108"/>
                  <a:pt x="11733" y="1091"/>
                </a:cubicBezTo>
                <a:cubicBezTo>
                  <a:pt x="11747" y="1107"/>
                  <a:pt x="11766" y="1123"/>
                  <a:pt x="11782" y="1141"/>
                </a:cubicBezTo>
                <a:cubicBezTo>
                  <a:pt x="11801" y="1164"/>
                  <a:pt x="11833" y="1205"/>
                  <a:pt x="11857" y="1240"/>
                </a:cubicBezTo>
                <a:cubicBezTo>
                  <a:pt x="11915" y="1322"/>
                  <a:pt x="11954" y="1403"/>
                  <a:pt x="12005" y="1488"/>
                </a:cubicBezTo>
                <a:cubicBezTo>
                  <a:pt x="12195" y="1804"/>
                  <a:pt x="12410" y="2108"/>
                  <a:pt x="12626" y="2406"/>
                </a:cubicBezTo>
                <a:cubicBezTo>
                  <a:pt x="12693" y="2498"/>
                  <a:pt x="12760" y="2585"/>
                  <a:pt x="12824" y="2679"/>
                </a:cubicBezTo>
                <a:cubicBezTo>
                  <a:pt x="12930" y="2836"/>
                  <a:pt x="13043" y="2995"/>
                  <a:pt x="13146" y="3150"/>
                </a:cubicBezTo>
                <a:cubicBezTo>
                  <a:pt x="13203" y="3236"/>
                  <a:pt x="13260" y="3332"/>
                  <a:pt x="13320" y="3423"/>
                </a:cubicBezTo>
                <a:cubicBezTo>
                  <a:pt x="13416" y="3570"/>
                  <a:pt x="13508" y="3709"/>
                  <a:pt x="13618" y="3845"/>
                </a:cubicBezTo>
                <a:cubicBezTo>
                  <a:pt x="13696" y="3940"/>
                  <a:pt x="13761" y="4049"/>
                  <a:pt x="13841" y="4142"/>
                </a:cubicBezTo>
                <a:cubicBezTo>
                  <a:pt x="13917" y="4231"/>
                  <a:pt x="13988" y="4328"/>
                  <a:pt x="14064" y="4415"/>
                </a:cubicBezTo>
                <a:cubicBezTo>
                  <a:pt x="14138" y="4499"/>
                  <a:pt x="14221" y="4574"/>
                  <a:pt x="14288" y="4663"/>
                </a:cubicBezTo>
                <a:cubicBezTo>
                  <a:pt x="14359" y="4757"/>
                  <a:pt x="14445" y="4849"/>
                  <a:pt x="14511" y="4936"/>
                </a:cubicBezTo>
                <a:cubicBezTo>
                  <a:pt x="14579" y="5025"/>
                  <a:pt x="14634" y="5125"/>
                  <a:pt x="14709" y="5209"/>
                </a:cubicBezTo>
                <a:cubicBezTo>
                  <a:pt x="14791" y="5301"/>
                  <a:pt x="14876" y="5389"/>
                  <a:pt x="14957" y="5482"/>
                </a:cubicBezTo>
                <a:cubicBezTo>
                  <a:pt x="15067" y="5609"/>
                  <a:pt x="15179" y="5716"/>
                  <a:pt x="15304" y="5829"/>
                </a:cubicBezTo>
                <a:cubicBezTo>
                  <a:pt x="15469" y="5978"/>
                  <a:pt x="15634" y="6129"/>
                  <a:pt x="15801" y="6276"/>
                </a:cubicBezTo>
                <a:cubicBezTo>
                  <a:pt x="15911" y="6373"/>
                  <a:pt x="16018" y="6470"/>
                  <a:pt x="16123" y="6573"/>
                </a:cubicBezTo>
                <a:cubicBezTo>
                  <a:pt x="16220" y="6668"/>
                  <a:pt x="16318" y="6758"/>
                  <a:pt x="16421" y="6846"/>
                </a:cubicBezTo>
                <a:cubicBezTo>
                  <a:pt x="16488" y="6903"/>
                  <a:pt x="16552" y="6962"/>
                  <a:pt x="16619" y="70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31960" y="5643720"/>
            <a:ext cx="536400" cy="268200"/>
          </a:xfrm>
          <a:custGeom>
            <a:avLst/>
            <a:gdLst/>
            <a:ahLst/>
            <a:rect l="l" t="t" r="r" b="b"/>
            <a:pathLst>
              <a:path w="1489" h="745">
                <a:moveTo>
                  <a:pt x="5184" y="15677"/>
                </a:moveTo>
                <a:cubicBezTo>
                  <a:pt x="5242" y="15694"/>
                  <a:pt x="5283" y="15714"/>
                  <a:pt x="5333" y="15726"/>
                </a:cubicBezTo>
                <a:cubicBezTo>
                  <a:pt x="5236" y="15726"/>
                  <a:pt x="5153" y="15740"/>
                  <a:pt x="5060" y="15751"/>
                </a:cubicBezTo>
                <a:cubicBezTo>
                  <a:pt x="4972" y="15761"/>
                  <a:pt x="4917" y="15767"/>
                  <a:pt x="4862" y="15850"/>
                </a:cubicBezTo>
                <a:cubicBezTo>
                  <a:pt x="4822" y="15910"/>
                  <a:pt x="4793" y="15954"/>
                  <a:pt x="4862" y="15999"/>
                </a:cubicBezTo>
                <a:cubicBezTo>
                  <a:pt x="4921" y="16037"/>
                  <a:pt x="4994" y="16058"/>
                  <a:pt x="5060" y="16073"/>
                </a:cubicBezTo>
                <a:cubicBezTo>
                  <a:pt x="5085" y="16073"/>
                  <a:pt x="5093" y="16073"/>
                  <a:pt x="5085" y="16098"/>
                </a:cubicBezTo>
                <a:cubicBezTo>
                  <a:pt x="5038" y="16145"/>
                  <a:pt x="4995" y="16167"/>
                  <a:pt x="4936" y="16197"/>
                </a:cubicBezTo>
                <a:cubicBezTo>
                  <a:pt x="4870" y="16230"/>
                  <a:pt x="4843" y="16278"/>
                  <a:pt x="4837" y="16346"/>
                </a:cubicBezTo>
                <a:cubicBezTo>
                  <a:pt x="4832" y="16404"/>
                  <a:pt x="4913" y="16432"/>
                  <a:pt x="4961" y="16421"/>
                </a:cubicBezTo>
                <a:cubicBezTo>
                  <a:pt x="5042" y="16403"/>
                  <a:pt x="5123" y="16376"/>
                  <a:pt x="5209" y="16371"/>
                </a:cubicBezTo>
                <a:cubicBezTo>
                  <a:pt x="5269" y="16368"/>
                  <a:pt x="5286" y="16376"/>
                  <a:pt x="5308" y="16421"/>
                </a:cubicBezTo>
              </a:path>
              <a:path w="1489" h="745">
                <a:moveTo>
                  <a:pt x="5730" y="15974"/>
                </a:moveTo>
                <a:cubicBezTo>
                  <a:pt x="5774" y="15974"/>
                  <a:pt x="5788" y="15971"/>
                  <a:pt x="5804" y="15999"/>
                </a:cubicBezTo>
                <a:cubicBezTo>
                  <a:pt x="5829" y="15999"/>
                  <a:pt x="5728" y="16044"/>
                  <a:pt x="5680" y="16073"/>
                </a:cubicBezTo>
                <a:cubicBezTo>
                  <a:pt x="5609" y="16116"/>
                  <a:pt x="5557" y="16164"/>
                  <a:pt x="5531" y="16247"/>
                </a:cubicBezTo>
                <a:cubicBezTo>
                  <a:pt x="5531" y="16272"/>
                  <a:pt x="5531" y="16280"/>
                  <a:pt x="5531" y="16297"/>
                </a:cubicBezTo>
                <a:cubicBezTo>
                  <a:pt x="5593" y="16297"/>
                  <a:pt x="5622" y="16318"/>
                  <a:pt x="5680" y="16321"/>
                </a:cubicBezTo>
                <a:cubicBezTo>
                  <a:pt x="5721" y="16323"/>
                  <a:pt x="5763" y="16321"/>
                  <a:pt x="5804" y="16321"/>
                </a:cubicBezTo>
              </a:path>
              <a:path w="1489" h="745">
                <a:moveTo>
                  <a:pt x="6176" y="16123"/>
                </a:moveTo>
                <a:cubicBezTo>
                  <a:pt x="6193" y="16123"/>
                  <a:pt x="6209" y="16123"/>
                  <a:pt x="6226" y="16123"/>
                </a:cubicBezTo>
                <a:cubicBezTo>
                  <a:pt x="6278" y="16123"/>
                  <a:pt x="6155" y="16129"/>
                  <a:pt x="6127" y="16148"/>
                </a:cubicBezTo>
                <a:cubicBezTo>
                  <a:pt x="6089" y="16173"/>
                  <a:pt x="6053" y="16225"/>
                  <a:pt x="6077" y="16272"/>
                </a:cubicBezTo>
                <a:cubicBezTo>
                  <a:pt x="6093" y="16304"/>
                  <a:pt x="6192" y="16360"/>
                  <a:pt x="6226" y="16371"/>
                </a:cubicBezTo>
                <a:cubicBezTo>
                  <a:pt x="6251" y="16371"/>
                  <a:pt x="6259" y="16371"/>
                  <a:pt x="6251" y="16396"/>
                </a:cubicBezTo>
                <a:cubicBezTo>
                  <a:pt x="6216" y="16422"/>
                  <a:pt x="6220" y="16421"/>
                  <a:pt x="6176" y="16421"/>
                </a:cubicBezTo>
              </a:path>
              <a:path w="1489" h="745">
                <a:moveTo>
                  <a:pt x="6102" y="16049"/>
                </a:moveTo>
                <a:cubicBezTo>
                  <a:pt x="6181" y="16001"/>
                  <a:pt x="6217" y="16060"/>
                  <a:pt x="6251" y="16148"/>
                </a:cubicBezTo>
                <a:cubicBezTo>
                  <a:pt x="6278" y="16218"/>
                  <a:pt x="6292" y="16298"/>
                  <a:pt x="6300" y="16371"/>
                </a:cubicBezTo>
                <a:cubicBezTo>
                  <a:pt x="6210" y="16390"/>
                  <a:pt x="6131" y="16235"/>
                  <a:pt x="6077" y="16148"/>
                </a:cubicBezTo>
                <a:cubicBezTo>
                  <a:pt x="6017" y="16053"/>
                  <a:pt x="5972" y="15961"/>
                  <a:pt x="5904" y="15875"/>
                </a:cubicBezTo>
                <a:cubicBezTo>
                  <a:pt x="5917" y="16006"/>
                  <a:pt x="5970" y="16116"/>
                  <a:pt x="5978" y="16247"/>
                </a:cubicBezTo>
                <a:cubicBezTo>
                  <a:pt x="5978" y="16305"/>
                  <a:pt x="5978" y="16313"/>
                  <a:pt x="5978" y="16346"/>
                </a:cubicBezTo>
                <a:cubicBezTo>
                  <a:pt x="5844" y="16279"/>
                  <a:pt x="5732" y="16166"/>
                  <a:pt x="5631" y="16049"/>
                </a:cubicBezTo>
                <a:cubicBezTo>
                  <a:pt x="5570" y="15968"/>
                  <a:pt x="5566" y="15945"/>
                  <a:pt x="5507" y="15925"/>
                </a:cubicBezTo>
                <a:cubicBezTo>
                  <a:pt x="5514" y="16037"/>
                  <a:pt x="5530" y="16136"/>
                  <a:pt x="5556" y="16247"/>
                </a:cubicBezTo>
                <a:cubicBezTo>
                  <a:pt x="5577" y="16329"/>
                  <a:pt x="5585" y="16345"/>
                  <a:pt x="5581" y="16396"/>
                </a:cubicBezTo>
                <a:cubicBezTo>
                  <a:pt x="5421" y="16348"/>
                  <a:pt x="5328" y="16195"/>
                  <a:pt x="5209" y="16073"/>
                </a:cubicBezTo>
                <a:cubicBezTo>
                  <a:pt x="5130" y="15992"/>
                  <a:pt x="5106" y="15949"/>
                  <a:pt x="5011" y="15925"/>
                </a:cubicBezTo>
                <a:cubicBezTo>
                  <a:pt x="5011" y="16006"/>
                  <a:pt x="5056" y="16268"/>
                  <a:pt x="4986" y="16321"/>
                </a:cubicBezTo>
                <a:cubicBezTo>
                  <a:pt x="4934" y="16321"/>
                  <a:pt x="4916" y="16320"/>
                  <a:pt x="4887" y="162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78040" y="5589720"/>
            <a:ext cx="438120" cy="233280"/>
          </a:xfrm>
          <a:custGeom>
            <a:avLst/>
            <a:gdLst/>
            <a:ahLst/>
            <a:rect l="l" t="t" r="r" b="b"/>
            <a:pathLst>
              <a:path w="1217" h="646">
                <a:moveTo>
                  <a:pt x="7739" y="15553"/>
                </a:moveTo>
                <a:cubicBezTo>
                  <a:pt x="7747" y="15545"/>
                  <a:pt x="7756" y="15536"/>
                  <a:pt x="7764" y="15528"/>
                </a:cubicBezTo>
                <a:cubicBezTo>
                  <a:pt x="7682" y="15544"/>
                  <a:pt x="7633" y="15584"/>
                  <a:pt x="7565" y="15627"/>
                </a:cubicBezTo>
                <a:cubicBezTo>
                  <a:pt x="7491" y="15674"/>
                  <a:pt x="7476" y="15701"/>
                  <a:pt x="7516" y="15776"/>
                </a:cubicBezTo>
                <a:cubicBezTo>
                  <a:pt x="7559" y="15855"/>
                  <a:pt x="7642" y="15859"/>
                  <a:pt x="7689" y="15925"/>
                </a:cubicBezTo>
                <a:cubicBezTo>
                  <a:pt x="7736" y="15990"/>
                  <a:pt x="7715" y="16045"/>
                  <a:pt x="7665" y="16098"/>
                </a:cubicBezTo>
                <a:cubicBezTo>
                  <a:pt x="7599" y="16169"/>
                  <a:pt x="7531" y="16148"/>
                  <a:pt x="7441" y="16148"/>
                </a:cubicBezTo>
              </a:path>
              <a:path w="1217" h="646">
                <a:moveTo>
                  <a:pt x="7938" y="15900"/>
                </a:moveTo>
                <a:cubicBezTo>
                  <a:pt x="7938" y="15892"/>
                  <a:pt x="7938" y="15883"/>
                  <a:pt x="7938" y="15875"/>
                </a:cubicBezTo>
                <a:cubicBezTo>
                  <a:pt x="7938" y="15938"/>
                  <a:pt x="7953" y="15992"/>
                  <a:pt x="7987" y="16049"/>
                </a:cubicBezTo>
                <a:cubicBezTo>
                  <a:pt x="8019" y="16102"/>
                  <a:pt x="8045" y="16105"/>
                  <a:pt x="8086" y="16073"/>
                </a:cubicBezTo>
              </a:path>
              <a:path w="1217" h="646">
                <a:moveTo>
                  <a:pt x="8186" y="15925"/>
                </a:moveTo>
                <a:cubicBezTo>
                  <a:pt x="8214" y="15982"/>
                  <a:pt x="8244" y="16045"/>
                  <a:pt x="8260" y="16098"/>
                </a:cubicBezTo>
                <a:cubicBezTo>
                  <a:pt x="8260" y="16106"/>
                  <a:pt x="8260" y="16115"/>
                  <a:pt x="8260" y="16123"/>
                </a:cubicBezTo>
                <a:cubicBezTo>
                  <a:pt x="8305" y="16063"/>
                  <a:pt x="8269" y="16091"/>
                  <a:pt x="8334" y="16098"/>
                </a:cubicBezTo>
                <a:cubicBezTo>
                  <a:pt x="8400" y="16105"/>
                  <a:pt x="8364" y="16080"/>
                  <a:pt x="8409" y="16049"/>
                </a:cubicBezTo>
                <a:cubicBezTo>
                  <a:pt x="8449" y="16021"/>
                  <a:pt x="8518" y="16006"/>
                  <a:pt x="8558" y="16049"/>
                </a:cubicBezTo>
                <a:cubicBezTo>
                  <a:pt x="8592" y="16086"/>
                  <a:pt x="8619" y="16135"/>
                  <a:pt x="8657" y="161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51160" y="5643720"/>
            <a:ext cx="677880" cy="187200"/>
          </a:xfrm>
          <a:custGeom>
            <a:avLst/>
            <a:gdLst/>
            <a:ahLst/>
            <a:rect l="l" t="t" r="r" b="b"/>
            <a:pathLst>
              <a:path w="1886" h="521">
                <a:moveTo>
                  <a:pt x="9178" y="15925"/>
                </a:moveTo>
                <a:cubicBezTo>
                  <a:pt x="9219" y="15925"/>
                  <a:pt x="9235" y="15933"/>
                  <a:pt x="9227" y="15900"/>
                </a:cubicBezTo>
                <a:cubicBezTo>
                  <a:pt x="9151" y="15900"/>
                  <a:pt x="9098" y="15895"/>
                  <a:pt x="9029" y="15925"/>
                </a:cubicBezTo>
              </a:path>
              <a:path w="1886" h="521">
                <a:moveTo>
                  <a:pt x="9153" y="15999"/>
                </a:moveTo>
                <a:cubicBezTo>
                  <a:pt x="9210" y="16018"/>
                  <a:pt x="9235" y="16009"/>
                  <a:pt x="9227" y="16049"/>
                </a:cubicBezTo>
                <a:cubicBezTo>
                  <a:pt x="9178" y="16078"/>
                  <a:pt x="9136" y="16090"/>
                  <a:pt x="9079" y="16098"/>
                </a:cubicBezTo>
              </a:path>
              <a:path w="1886" h="521">
                <a:moveTo>
                  <a:pt x="9525" y="15701"/>
                </a:moveTo>
                <a:cubicBezTo>
                  <a:pt x="9500" y="15701"/>
                  <a:pt x="9492" y="15701"/>
                  <a:pt x="9475" y="15701"/>
                </a:cubicBezTo>
                <a:cubicBezTo>
                  <a:pt x="9547" y="15701"/>
                  <a:pt x="9603" y="15687"/>
                  <a:pt x="9674" y="15677"/>
                </a:cubicBezTo>
                <a:cubicBezTo>
                  <a:pt x="9721" y="15670"/>
                  <a:pt x="9826" y="15667"/>
                  <a:pt x="9847" y="15726"/>
                </a:cubicBezTo>
                <a:cubicBezTo>
                  <a:pt x="9876" y="15809"/>
                  <a:pt x="9817" y="15934"/>
                  <a:pt x="9773" y="15999"/>
                </a:cubicBezTo>
                <a:cubicBezTo>
                  <a:pt x="9729" y="16064"/>
                  <a:pt x="9699" y="16136"/>
                  <a:pt x="9649" y="16197"/>
                </a:cubicBezTo>
              </a:path>
              <a:path w="1886" h="521">
                <a:moveTo>
                  <a:pt x="10145" y="15825"/>
                </a:moveTo>
                <a:cubicBezTo>
                  <a:pt x="10123" y="15818"/>
                  <a:pt x="10100" y="15787"/>
                  <a:pt x="10120" y="15751"/>
                </a:cubicBezTo>
                <a:cubicBezTo>
                  <a:pt x="10147" y="15703"/>
                  <a:pt x="10223" y="15680"/>
                  <a:pt x="10269" y="15677"/>
                </a:cubicBezTo>
                <a:cubicBezTo>
                  <a:pt x="10324" y="15674"/>
                  <a:pt x="10381" y="15708"/>
                  <a:pt x="10368" y="15776"/>
                </a:cubicBezTo>
                <a:cubicBezTo>
                  <a:pt x="10352" y="15861"/>
                  <a:pt x="10278" y="15938"/>
                  <a:pt x="10220" y="15999"/>
                </a:cubicBezTo>
                <a:cubicBezTo>
                  <a:pt x="10168" y="16054"/>
                  <a:pt x="10135" y="16099"/>
                  <a:pt x="10120" y="16173"/>
                </a:cubicBezTo>
                <a:cubicBezTo>
                  <a:pt x="10173" y="16211"/>
                  <a:pt x="10207" y="16200"/>
                  <a:pt x="10269" y="16173"/>
                </a:cubicBezTo>
                <a:cubicBezTo>
                  <a:pt x="10337" y="16143"/>
                  <a:pt x="10402" y="16106"/>
                  <a:pt x="10468" y="16073"/>
                </a:cubicBezTo>
              </a:path>
              <a:path w="1886" h="521">
                <a:moveTo>
                  <a:pt x="10666" y="15999"/>
                </a:moveTo>
                <a:cubicBezTo>
                  <a:pt x="10673" y="15947"/>
                  <a:pt x="10685" y="15898"/>
                  <a:pt x="10716" y="15850"/>
                </a:cubicBezTo>
                <a:cubicBezTo>
                  <a:pt x="10747" y="15803"/>
                  <a:pt x="10795" y="15779"/>
                  <a:pt x="10840" y="15751"/>
                </a:cubicBezTo>
                <a:cubicBezTo>
                  <a:pt x="10896" y="15823"/>
                  <a:pt x="10911" y="15883"/>
                  <a:pt x="10914" y="15974"/>
                </a:cubicBezTo>
                <a:cubicBezTo>
                  <a:pt x="10917" y="16065"/>
                  <a:pt x="10878" y="16163"/>
                  <a:pt x="10790" y="16173"/>
                </a:cubicBezTo>
                <a:cubicBezTo>
                  <a:pt x="10674" y="16187"/>
                  <a:pt x="10655" y="16055"/>
                  <a:pt x="10641" y="159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11800" y="5562720"/>
            <a:ext cx="973080" cy="287280"/>
          </a:xfrm>
          <a:custGeom>
            <a:avLst/>
            <a:gdLst/>
            <a:ahLst/>
            <a:rect l="l" t="t" r="r" b="b"/>
            <a:pathLst>
              <a:path w="2704" h="795">
                <a:moveTo>
                  <a:pt x="12353" y="15528"/>
                </a:moveTo>
                <a:cubicBezTo>
                  <a:pt x="12409" y="15503"/>
                  <a:pt x="12420" y="15474"/>
                  <a:pt x="12452" y="15453"/>
                </a:cubicBezTo>
                <a:cubicBezTo>
                  <a:pt x="12504" y="15418"/>
                  <a:pt x="12384" y="15521"/>
                  <a:pt x="12378" y="15528"/>
                </a:cubicBezTo>
                <a:cubicBezTo>
                  <a:pt x="12291" y="15640"/>
                  <a:pt x="12260" y="15789"/>
                  <a:pt x="12254" y="15925"/>
                </a:cubicBezTo>
                <a:cubicBezTo>
                  <a:pt x="12250" y="16022"/>
                  <a:pt x="12269" y="16103"/>
                  <a:pt x="12278" y="16197"/>
                </a:cubicBezTo>
              </a:path>
              <a:path w="2704" h="795">
                <a:moveTo>
                  <a:pt x="12650" y="15677"/>
                </a:moveTo>
                <a:cubicBezTo>
                  <a:pt x="12667" y="15660"/>
                  <a:pt x="12683" y="15644"/>
                  <a:pt x="12700" y="15627"/>
                </a:cubicBezTo>
                <a:cubicBezTo>
                  <a:pt x="12700" y="15701"/>
                  <a:pt x="12676" y="15733"/>
                  <a:pt x="12650" y="15801"/>
                </a:cubicBezTo>
                <a:cubicBezTo>
                  <a:pt x="12630" y="15854"/>
                  <a:pt x="12581" y="15939"/>
                  <a:pt x="12601" y="15999"/>
                </a:cubicBezTo>
                <a:cubicBezTo>
                  <a:pt x="12619" y="16053"/>
                  <a:pt x="12668" y="16066"/>
                  <a:pt x="12725" y="16049"/>
                </a:cubicBezTo>
                <a:cubicBezTo>
                  <a:pt x="12785" y="16031"/>
                  <a:pt x="12846" y="15990"/>
                  <a:pt x="12898" y="15974"/>
                </a:cubicBezTo>
                <a:cubicBezTo>
                  <a:pt x="12927" y="15965"/>
                  <a:pt x="12967" y="15974"/>
                  <a:pt x="12998" y="15974"/>
                </a:cubicBezTo>
              </a:path>
              <a:path w="2704" h="795">
                <a:moveTo>
                  <a:pt x="12849" y="15900"/>
                </a:moveTo>
                <a:cubicBezTo>
                  <a:pt x="12849" y="15970"/>
                  <a:pt x="12871" y="16029"/>
                  <a:pt x="12874" y="16098"/>
                </a:cubicBezTo>
                <a:cubicBezTo>
                  <a:pt x="12874" y="16159"/>
                  <a:pt x="12864" y="16175"/>
                  <a:pt x="12898" y="16197"/>
                </a:cubicBezTo>
              </a:path>
              <a:path w="2704" h="795">
                <a:moveTo>
                  <a:pt x="13271" y="15825"/>
                </a:moveTo>
                <a:cubicBezTo>
                  <a:pt x="13372" y="15825"/>
                  <a:pt x="13326" y="15805"/>
                  <a:pt x="13295" y="15850"/>
                </a:cubicBezTo>
                <a:cubicBezTo>
                  <a:pt x="13255" y="15909"/>
                  <a:pt x="13228" y="15985"/>
                  <a:pt x="13196" y="16049"/>
                </a:cubicBezTo>
                <a:cubicBezTo>
                  <a:pt x="13176" y="16089"/>
                  <a:pt x="13156" y="16109"/>
                  <a:pt x="13146" y="16148"/>
                </a:cubicBezTo>
              </a:path>
              <a:path w="2704" h="795">
                <a:moveTo>
                  <a:pt x="13320" y="16024"/>
                </a:moveTo>
                <a:cubicBezTo>
                  <a:pt x="13320" y="16016"/>
                  <a:pt x="13320" y="16007"/>
                  <a:pt x="13320" y="15999"/>
                </a:cubicBezTo>
                <a:cubicBezTo>
                  <a:pt x="13273" y="15999"/>
                  <a:pt x="13240" y="15983"/>
                  <a:pt x="13196" y="15974"/>
                </a:cubicBezTo>
              </a:path>
              <a:path w="2704" h="795">
                <a:moveTo>
                  <a:pt x="13593" y="15701"/>
                </a:moveTo>
                <a:cubicBezTo>
                  <a:pt x="13593" y="15677"/>
                  <a:pt x="13593" y="15669"/>
                  <a:pt x="13618" y="15677"/>
                </a:cubicBezTo>
                <a:cubicBezTo>
                  <a:pt x="13618" y="15821"/>
                  <a:pt x="13654" y="16026"/>
                  <a:pt x="13593" y="16148"/>
                </a:cubicBezTo>
              </a:path>
              <a:path w="2704" h="795">
                <a:moveTo>
                  <a:pt x="13940" y="15776"/>
                </a:moveTo>
                <a:cubicBezTo>
                  <a:pt x="13971" y="15776"/>
                  <a:pt x="14007" y="15768"/>
                  <a:pt x="14015" y="15751"/>
                </a:cubicBezTo>
                <a:cubicBezTo>
                  <a:pt x="14015" y="15726"/>
                  <a:pt x="14015" y="15718"/>
                  <a:pt x="14039" y="15726"/>
                </a:cubicBezTo>
                <a:cubicBezTo>
                  <a:pt x="13965" y="15726"/>
                  <a:pt x="13959" y="15747"/>
                  <a:pt x="13915" y="15801"/>
                </a:cubicBezTo>
                <a:cubicBezTo>
                  <a:pt x="13892" y="15828"/>
                  <a:pt x="13842" y="15883"/>
                  <a:pt x="13866" y="15925"/>
                </a:cubicBezTo>
                <a:cubicBezTo>
                  <a:pt x="13895" y="15976"/>
                  <a:pt x="13951" y="15976"/>
                  <a:pt x="13990" y="15999"/>
                </a:cubicBezTo>
                <a:cubicBezTo>
                  <a:pt x="14032" y="16024"/>
                  <a:pt x="14039" y="16054"/>
                  <a:pt x="14039" y="16098"/>
                </a:cubicBezTo>
                <a:cubicBezTo>
                  <a:pt x="14002" y="16127"/>
                  <a:pt x="13988" y="16123"/>
                  <a:pt x="13940" y="16123"/>
                </a:cubicBezTo>
                <a:cubicBezTo>
                  <a:pt x="13932" y="16123"/>
                  <a:pt x="13923" y="16123"/>
                  <a:pt x="13915" y="16123"/>
                </a:cubicBezTo>
                <a:cubicBezTo>
                  <a:pt x="13915" y="16074"/>
                  <a:pt x="13932" y="16039"/>
                  <a:pt x="13965" y="15999"/>
                </a:cubicBezTo>
                <a:cubicBezTo>
                  <a:pt x="14016" y="15938"/>
                  <a:pt x="14067" y="15890"/>
                  <a:pt x="14114" y="15825"/>
                </a:cubicBezTo>
              </a:path>
              <a:path w="2704" h="795">
                <a:moveTo>
                  <a:pt x="14263" y="15825"/>
                </a:moveTo>
                <a:cubicBezTo>
                  <a:pt x="14263" y="15850"/>
                  <a:pt x="14263" y="15875"/>
                  <a:pt x="14263" y="15900"/>
                </a:cubicBezTo>
                <a:cubicBezTo>
                  <a:pt x="14263" y="15951"/>
                  <a:pt x="14271" y="15851"/>
                  <a:pt x="14288" y="15825"/>
                </a:cubicBezTo>
                <a:cubicBezTo>
                  <a:pt x="14336" y="15752"/>
                  <a:pt x="14385" y="15816"/>
                  <a:pt x="14412" y="15850"/>
                </a:cubicBezTo>
                <a:cubicBezTo>
                  <a:pt x="14449" y="15896"/>
                  <a:pt x="14496" y="15977"/>
                  <a:pt x="14436" y="16024"/>
                </a:cubicBezTo>
                <a:cubicBezTo>
                  <a:pt x="14383" y="16065"/>
                  <a:pt x="14336" y="16053"/>
                  <a:pt x="14288" y="16024"/>
                </a:cubicBezTo>
              </a:path>
              <a:path w="2704" h="795">
                <a:moveTo>
                  <a:pt x="14610" y="15677"/>
                </a:moveTo>
                <a:cubicBezTo>
                  <a:pt x="14639" y="15633"/>
                  <a:pt x="14595" y="15652"/>
                  <a:pt x="14660" y="15652"/>
                </a:cubicBezTo>
                <a:cubicBezTo>
                  <a:pt x="14668" y="15652"/>
                  <a:pt x="14676" y="15652"/>
                  <a:pt x="14684" y="15652"/>
                </a:cubicBezTo>
                <a:cubicBezTo>
                  <a:pt x="14684" y="15695"/>
                  <a:pt x="14703" y="15770"/>
                  <a:pt x="14660" y="15776"/>
                </a:cubicBezTo>
                <a:cubicBezTo>
                  <a:pt x="14652" y="15776"/>
                  <a:pt x="14643" y="15776"/>
                  <a:pt x="14635" y="15776"/>
                </a:cubicBezTo>
              </a:path>
              <a:path w="2704" h="795">
                <a:moveTo>
                  <a:pt x="14635" y="15553"/>
                </a:moveTo>
                <a:cubicBezTo>
                  <a:pt x="14773" y="15523"/>
                  <a:pt x="14843" y="15526"/>
                  <a:pt x="14908" y="15677"/>
                </a:cubicBezTo>
                <a:cubicBezTo>
                  <a:pt x="14971" y="15823"/>
                  <a:pt x="14975" y="15981"/>
                  <a:pt x="14908" y="16123"/>
                </a:cubicBezTo>
                <a:cubicBezTo>
                  <a:pt x="14861" y="16192"/>
                  <a:pt x="14849" y="16212"/>
                  <a:pt x="14808" y="162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55840" y="6099120"/>
            <a:ext cx="1000080" cy="196920"/>
          </a:xfrm>
          <a:custGeom>
            <a:avLst/>
            <a:gdLst/>
            <a:ahLst/>
            <a:rect l="l" t="t" r="r" b="b"/>
            <a:pathLst>
              <a:path w="2779" h="546">
                <a:moveTo>
                  <a:pt x="4043" y="16942"/>
                </a:moveTo>
                <a:cubicBezTo>
                  <a:pt x="4059" y="17004"/>
                  <a:pt x="4068" y="17040"/>
                  <a:pt x="4068" y="17115"/>
                </a:cubicBezTo>
                <a:cubicBezTo>
                  <a:pt x="4068" y="17214"/>
                  <a:pt x="4068" y="17314"/>
                  <a:pt x="4068" y="17413"/>
                </a:cubicBezTo>
              </a:path>
              <a:path w="2779" h="546">
                <a:moveTo>
                  <a:pt x="4266" y="17140"/>
                </a:moveTo>
                <a:cubicBezTo>
                  <a:pt x="4266" y="17087"/>
                  <a:pt x="4278" y="17079"/>
                  <a:pt x="4316" y="17041"/>
                </a:cubicBezTo>
                <a:cubicBezTo>
                  <a:pt x="4358" y="17000"/>
                  <a:pt x="4418" y="16960"/>
                  <a:pt x="4465" y="17016"/>
                </a:cubicBezTo>
                <a:cubicBezTo>
                  <a:pt x="4522" y="17085"/>
                  <a:pt x="4539" y="17226"/>
                  <a:pt x="4514" y="17314"/>
                </a:cubicBezTo>
                <a:cubicBezTo>
                  <a:pt x="4493" y="17386"/>
                  <a:pt x="4401" y="17352"/>
                  <a:pt x="4366" y="17314"/>
                </a:cubicBezTo>
                <a:cubicBezTo>
                  <a:pt x="4358" y="17297"/>
                  <a:pt x="4349" y="17281"/>
                  <a:pt x="4341" y="17264"/>
                </a:cubicBezTo>
              </a:path>
              <a:path w="2779" h="546">
                <a:moveTo>
                  <a:pt x="4887" y="17115"/>
                </a:moveTo>
                <a:cubicBezTo>
                  <a:pt x="4922" y="17088"/>
                  <a:pt x="4956" y="17090"/>
                  <a:pt x="4961" y="17041"/>
                </a:cubicBezTo>
                <a:cubicBezTo>
                  <a:pt x="4969" y="16969"/>
                  <a:pt x="4872" y="16980"/>
                  <a:pt x="4837" y="17016"/>
                </a:cubicBezTo>
                <a:cubicBezTo>
                  <a:pt x="4790" y="17063"/>
                  <a:pt x="4765" y="17178"/>
                  <a:pt x="4787" y="17239"/>
                </a:cubicBezTo>
                <a:cubicBezTo>
                  <a:pt x="4795" y="17247"/>
                  <a:pt x="4804" y="17256"/>
                  <a:pt x="4812" y="17264"/>
                </a:cubicBezTo>
                <a:cubicBezTo>
                  <a:pt x="4878" y="17248"/>
                  <a:pt x="4863" y="17202"/>
                  <a:pt x="4911" y="17165"/>
                </a:cubicBezTo>
                <a:cubicBezTo>
                  <a:pt x="4919" y="17165"/>
                  <a:pt x="4928" y="17165"/>
                  <a:pt x="4936" y="17165"/>
                </a:cubicBezTo>
                <a:cubicBezTo>
                  <a:pt x="5003" y="17198"/>
                  <a:pt x="5005" y="17290"/>
                  <a:pt x="5035" y="17363"/>
                </a:cubicBezTo>
                <a:cubicBezTo>
                  <a:pt x="5043" y="17380"/>
                  <a:pt x="5052" y="17396"/>
                  <a:pt x="5060" y="17413"/>
                </a:cubicBezTo>
              </a:path>
              <a:path w="2779" h="546">
                <a:moveTo>
                  <a:pt x="5556" y="17190"/>
                </a:moveTo>
                <a:cubicBezTo>
                  <a:pt x="5564" y="17190"/>
                  <a:pt x="5573" y="17190"/>
                  <a:pt x="5581" y="17190"/>
                </a:cubicBezTo>
                <a:cubicBezTo>
                  <a:pt x="5550" y="17235"/>
                  <a:pt x="5495" y="17200"/>
                  <a:pt x="5432" y="17214"/>
                </a:cubicBezTo>
                <a:cubicBezTo>
                  <a:pt x="5407" y="17222"/>
                  <a:pt x="5383" y="17231"/>
                  <a:pt x="5358" y="17239"/>
                </a:cubicBezTo>
              </a:path>
              <a:path w="2779" h="546">
                <a:moveTo>
                  <a:pt x="5308" y="17140"/>
                </a:moveTo>
                <a:cubicBezTo>
                  <a:pt x="5389" y="17105"/>
                  <a:pt x="5390" y="17111"/>
                  <a:pt x="5432" y="17190"/>
                </a:cubicBezTo>
                <a:cubicBezTo>
                  <a:pt x="5462" y="17247"/>
                  <a:pt x="5462" y="17303"/>
                  <a:pt x="5482" y="17363"/>
                </a:cubicBezTo>
              </a:path>
              <a:path w="2779" h="546">
                <a:moveTo>
                  <a:pt x="5804" y="17115"/>
                </a:moveTo>
                <a:cubicBezTo>
                  <a:pt x="5821" y="17099"/>
                  <a:pt x="5837" y="17082"/>
                  <a:pt x="5854" y="17066"/>
                </a:cubicBezTo>
                <a:cubicBezTo>
                  <a:pt x="5893" y="17130"/>
                  <a:pt x="5879" y="17209"/>
                  <a:pt x="5879" y="17289"/>
                </a:cubicBezTo>
                <a:cubicBezTo>
                  <a:pt x="5879" y="17347"/>
                  <a:pt x="5879" y="17404"/>
                  <a:pt x="5879" y="17462"/>
                </a:cubicBezTo>
              </a:path>
              <a:path w="2779" h="546">
                <a:moveTo>
                  <a:pt x="6052" y="17239"/>
                </a:moveTo>
                <a:cubicBezTo>
                  <a:pt x="6083" y="17168"/>
                  <a:pt x="6071" y="17147"/>
                  <a:pt x="6152" y="17140"/>
                </a:cubicBezTo>
                <a:cubicBezTo>
                  <a:pt x="6215" y="17135"/>
                  <a:pt x="6259" y="17142"/>
                  <a:pt x="6276" y="17214"/>
                </a:cubicBezTo>
                <a:cubicBezTo>
                  <a:pt x="6287" y="17262"/>
                  <a:pt x="6273" y="17337"/>
                  <a:pt x="6226" y="17363"/>
                </a:cubicBezTo>
                <a:cubicBezTo>
                  <a:pt x="6158" y="17400"/>
                  <a:pt x="6107" y="17330"/>
                  <a:pt x="6077" y="17289"/>
                </a:cubicBezTo>
              </a:path>
              <a:path w="2779" h="546">
                <a:moveTo>
                  <a:pt x="6747" y="17016"/>
                </a:moveTo>
                <a:cubicBezTo>
                  <a:pt x="6772" y="17016"/>
                  <a:pt x="6780" y="17016"/>
                  <a:pt x="6796" y="17016"/>
                </a:cubicBezTo>
                <a:cubicBezTo>
                  <a:pt x="6744" y="16984"/>
                  <a:pt x="6681" y="16974"/>
                  <a:pt x="6623" y="17016"/>
                </a:cubicBezTo>
                <a:cubicBezTo>
                  <a:pt x="6566" y="17058"/>
                  <a:pt x="6537" y="17125"/>
                  <a:pt x="6524" y="17190"/>
                </a:cubicBezTo>
                <a:cubicBezTo>
                  <a:pt x="6590" y="17239"/>
                  <a:pt x="6604" y="17194"/>
                  <a:pt x="6648" y="17140"/>
                </a:cubicBezTo>
                <a:cubicBezTo>
                  <a:pt x="6672" y="17115"/>
                  <a:pt x="6680" y="17106"/>
                  <a:pt x="6697" y="17090"/>
                </a:cubicBezTo>
                <a:cubicBezTo>
                  <a:pt x="6758" y="17166"/>
                  <a:pt x="6768" y="17245"/>
                  <a:pt x="6796" y="17338"/>
                </a:cubicBezTo>
                <a:cubicBezTo>
                  <a:pt x="6820" y="17411"/>
                  <a:pt x="6829" y="17435"/>
                  <a:pt x="6821" y="174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8840" y="6188040"/>
            <a:ext cx="98280" cy="71640"/>
          </a:xfrm>
          <a:custGeom>
            <a:avLst/>
            <a:gdLst/>
            <a:ahLst/>
            <a:rect l="l" t="t" r="r" b="b"/>
            <a:pathLst>
              <a:path w="274" h="199">
                <a:moveTo>
                  <a:pt x="7441" y="17264"/>
                </a:moveTo>
                <a:cubicBezTo>
                  <a:pt x="7466" y="17264"/>
                  <a:pt x="7474" y="17264"/>
                  <a:pt x="7491" y="17264"/>
                </a:cubicBezTo>
                <a:cubicBezTo>
                  <a:pt x="7478" y="17302"/>
                  <a:pt x="7462" y="17289"/>
                  <a:pt x="7417" y="17289"/>
                </a:cubicBezTo>
                <a:cubicBezTo>
                  <a:pt x="7377" y="17289"/>
                  <a:pt x="7278" y="17297"/>
                  <a:pt x="7243" y="17314"/>
                </a:cubicBezTo>
                <a:cubicBezTo>
                  <a:pt x="7235" y="17322"/>
                  <a:pt x="7226" y="17330"/>
                  <a:pt x="7218" y="17338"/>
                </a:cubicBezTo>
              </a:path>
              <a:path w="274" h="199">
                <a:moveTo>
                  <a:pt x="7268" y="17190"/>
                </a:moveTo>
                <a:cubicBezTo>
                  <a:pt x="7328" y="17204"/>
                  <a:pt x="7333" y="17275"/>
                  <a:pt x="7342" y="17338"/>
                </a:cubicBezTo>
                <a:cubicBezTo>
                  <a:pt x="7342" y="17355"/>
                  <a:pt x="7342" y="17371"/>
                  <a:pt x="7342" y="173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0040" y="6107040"/>
            <a:ext cx="295200" cy="189000"/>
          </a:xfrm>
          <a:custGeom>
            <a:avLst/>
            <a:gdLst/>
            <a:ahLst/>
            <a:rect l="l" t="t" r="r" b="b"/>
            <a:pathLst>
              <a:path w="819" h="522">
                <a:moveTo>
                  <a:pt x="8062" y="17190"/>
                </a:moveTo>
                <a:cubicBezTo>
                  <a:pt x="8116" y="17181"/>
                  <a:pt x="8122" y="17183"/>
                  <a:pt x="8136" y="17140"/>
                </a:cubicBezTo>
                <a:cubicBezTo>
                  <a:pt x="8124" y="17104"/>
                  <a:pt x="8060" y="17102"/>
                  <a:pt x="8012" y="17115"/>
                </a:cubicBezTo>
                <a:cubicBezTo>
                  <a:pt x="7958" y="17130"/>
                  <a:pt x="7906" y="17187"/>
                  <a:pt x="7888" y="17239"/>
                </a:cubicBezTo>
                <a:cubicBezTo>
                  <a:pt x="7888" y="17267"/>
                  <a:pt x="7890" y="17278"/>
                  <a:pt x="7913" y="17289"/>
                </a:cubicBezTo>
                <a:cubicBezTo>
                  <a:pt x="7962" y="17239"/>
                  <a:pt x="8001" y="17199"/>
                  <a:pt x="8062" y="17165"/>
                </a:cubicBezTo>
                <a:cubicBezTo>
                  <a:pt x="8105" y="17220"/>
                  <a:pt x="8150" y="17292"/>
                  <a:pt x="8161" y="17363"/>
                </a:cubicBezTo>
                <a:cubicBezTo>
                  <a:pt x="8161" y="17421"/>
                  <a:pt x="8161" y="17429"/>
                  <a:pt x="8161" y="17462"/>
                </a:cubicBezTo>
              </a:path>
              <a:path w="819" h="522">
                <a:moveTo>
                  <a:pt x="8582" y="17041"/>
                </a:moveTo>
                <a:cubicBezTo>
                  <a:pt x="8538" y="17052"/>
                  <a:pt x="8495" y="17088"/>
                  <a:pt x="8483" y="17140"/>
                </a:cubicBezTo>
                <a:cubicBezTo>
                  <a:pt x="8473" y="17182"/>
                  <a:pt x="8474" y="17263"/>
                  <a:pt x="8508" y="17289"/>
                </a:cubicBezTo>
                <a:cubicBezTo>
                  <a:pt x="8564" y="17332"/>
                  <a:pt x="8636" y="17298"/>
                  <a:pt x="8682" y="17363"/>
                </a:cubicBezTo>
                <a:cubicBezTo>
                  <a:pt x="8703" y="17393"/>
                  <a:pt x="8729" y="17463"/>
                  <a:pt x="8682" y="17487"/>
                </a:cubicBezTo>
                <a:cubicBezTo>
                  <a:pt x="8649" y="17487"/>
                  <a:pt x="8632" y="17487"/>
                  <a:pt x="8607" y="17487"/>
                </a:cubicBezTo>
              </a:path>
              <a:path w="819" h="522">
                <a:moveTo>
                  <a:pt x="8409" y="17190"/>
                </a:moveTo>
                <a:cubicBezTo>
                  <a:pt x="8512" y="17065"/>
                  <a:pt x="8543" y="17028"/>
                  <a:pt x="8682" y="169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51160" y="6224760"/>
            <a:ext cx="98640" cy="88560"/>
          </a:xfrm>
          <a:custGeom>
            <a:avLst/>
            <a:gdLst/>
            <a:ahLst/>
            <a:rect l="l" t="t" r="r" b="b"/>
            <a:pathLst>
              <a:path w="274" h="249">
                <a:moveTo>
                  <a:pt x="9277" y="17338"/>
                </a:moveTo>
                <a:cubicBezTo>
                  <a:pt x="9302" y="17338"/>
                  <a:pt x="9310" y="17338"/>
                  <a:pt x="9302" y="17314"/>
                </a:cubicBezTo>
                <a:cubicBezTo>
                  <a:pt x="9213" y="17314"/>
                  <a:pt x="9138" y="17321"/>
                  <a:pt x="9054" y="17338"/>
                </a:cubicBezTo>
                <a:cubicBezTo>
                  <a:pt x="9046" y="17338"/>
                  <a:pt x="9037" y="17338"/>
                  <a:pt x="9029" y="17338"/>
                </a:cubicBezTo>
              </a:path>
              <a:path w="274" h="249">
                <a:moveTo>
                  <a:pt x="9054" y="17289"/>
                </a:moveTo>
                <a:cubicBezTo>
                  <a:pt x="9133" y="17300"/>
                  <a:pt x="9147" y="17335"/>
                  <a:pt x="9178" y="17413"/>
                </a:cubicBezTo>
                <a:cubicBezTo>
                  <a:pt x="9201" y="17480"/>
                  <a:pt x="9206" y="17498"/>
                  <a:pt x="9227" y="175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56000" y="6143760"/>
            <a:ext cx="133200" cy="16956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9624" y="17066"/>
                </a:moveTo>
                <a:cubicBezTo>
                  <a:pt x="9616" y="17074"/>
                  <a:pt x="9607" y="17082"/>
                  <a:pt x="9599" y="17090"/>
                </a:cubicBezTo>
                <a:cubicBezTo>
                  <a:pt x="9669" y="17090"/>
                  <a:pt x="9939" y="17049"/>
                  <a:pt x="9971" y="17115"/>
                </a:cubicBezTo>
                <a:cubicBezTo>
                  <a:pt x="9985" y="17144"/>
                  <a:pt x="9908" y="17288"/>
                  <a:pt x="9897" y="17314"/>
                </a:cubicBezTo>
                <a:cubicBezTo>
                  <a:pt x="9872" y="17372"/>
                  <a:pt x="9845" y="17435"/>
                  <a:pt x="9823" y="17487"/>
                </a:cubicBezTo>
                <a:cubicBezTo>
                  <a:pt x="9815" y="17504"/>
                  <a:pt x="9806" y="17520"/>
                  <a:pt x="9798" y="175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24200" y="6161040"/>
            <a:ext cx="7920" cy="179280"/>
          </a:xfrm>
          <a:custGeom>
            <a:avLst/>
            <a:gdLst/>
            <a:ahLst/>
            <a:rect l="l" t="t" r="r" b="b"/>
            <a:pathLst>
              <a:path w="25" h="497">
                <a:moveTo>
                  <a:pt x="10368" y="17140"/>
                </a:moveTo>
                <a:cubicBezTo>
                  <a:pt x="10333" y="17122"/>
                  <a:pt x="10368" y="17214"/>
                  <a:pt x="10368" y="17289"/>
                </a:cubicBezTo>
                <a:cubicBezTo>
                  <a:pt x="10368" y="17396"/>
                  <a:pt x="10368" y="17504"/>
                  <a:pt x="10368" y="176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46680" y="6197760"/>
            <a:ext cx="98280" cy="125280"/>
          </a:xfrm>
          <a:custGeom>
            <a:avLst/>
            <a:gdLst/>
            <a:ahLst/>
            <a:rect l="l" t="t" r="r" b="b"/>
            <a:pathLst>
              <a:path w="274" h="349">
                <a:moveTo>
                  <a:pt x="11187" y="17314"/>
                </a:moveTo>
                <a:cubicBezTo>
                  <a:pt x="11204" y="17314"/>
                  <a:pt x="11220" y="17314"/>
                  <a:pt x="11237" y="17314"/>
                </a:cubicBezTo>
                <a:cubicBezTo>
                  <a:pt x="11172" y="17341"/>
                  <a:pt x="11110" y="17359"/>
                  <a:pt x="11038" y="17363"/>
                </a:cubicBezTo>
                <a:cubicBezTo>
                  <a:pt x="10997" y="17363"/>
                  <a:pt x="10989" y="17363"/>
                  <a:pt x="10964" y="17363"/>
                </a:cubicBezTo>
              </a:path>
              <a:path w="274" h="349">
                <a:moveTo>
                  <a:pt x="11013" y="17239"/>
                </a:moveTo>
                <a:cubicBezTo>
                  <a:pt x="11108" y="17203"/>
                  <a:pt x="11113" y="17200"/>
                  <a:pt x="11137" y="17289"/>
                </a:cubicBezTo>
                <a:cubicBezTo>
                  <a:pt x="11163" y="17383"/>
                  <a:pt x="11162" y="17464"/>
                  <a:pt x="11162" y="175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52960" y="6116760"/>
            <a:ext cx="330120" cy="179280"/>
          </a:xfrm>
          <a:custGeom>
            <a:avLst/>
            <a:gdLst/>
            <a:ahLst/>
            <a:rect l="l" t="t" r="r" b="b"/>
            <a:pathLst>
              <a:path w="919" h="497">
                <a:moveTo>
                  <a:pt x="11559" y="17190"/>
                </a:moveTo>
                <a:cubicBezTo>
                  <a:pt x="11528" y="17149"/>
                  <a:pt x="11521" y="17131"/>
                  <a:pt x="11559" y="17090"/>
                </a:cubicBezTo>
                <a:cubicBezTo>
                  <a:pt x="11599" y="17046"/>
                  <a:pt x="11651" y="17009"/>
                  <a:pt x="11708" y="16991"/>
                </a:cubicBezTo>
                <a:cubicBezTo>
                  <a:pt x="11782" y="16968"/>
                  <a:pt x="11803" y="17003"/>
                  <a:pt x="11807" y="17066"/>
                </a:cubicBezTo>
                <a:cubicBezTo>
                  <a:pt x="11812" y="17152"/>
                  <a:pt x="11787" y="17187"/>
                  <a:pt x="11757" y="17264"/>
                </a:cubicBezTo>
                <a:cubicBezTo>
                  <a:pt x="11730" y="17335"/>
                  <a:pt x="11708" y="17387"/>
                  <a:pt x="11708" y="17462"/>
                </a:cubicBezTo>
                <a:cubicBezTo>
                  <a:pt x="11776" y="17462"/>
                  <a:pt x="11818" y="17461"/>
                  <a:pt x="11881" y="17438"/>
                </a:cubicBezTo>
              </a:path>
              <a:path w="919" h="497">
                <a:moveTo>
                  <a:pt x="12030" y="17289"/>
                </a:moveTo>
                <a:cubicBezTo>
                  <a:pt x="12030" y="17247"/>
                  <a:pt x="12030" y="17239"/>
                  <a:pt x="12030" y="17214"/>
                </a:cubicBezTo>
                <a:cubicBezTo>
                  <a:pt x="12079" y="17214"/>
                  <a:pt x="12109" y="17209"/>
                  <a:pt x="12154" y="17239"/>
                </a:cubicBezTo>
                <a:cubicBezTo>
                  <a:pt x="12183" y="17259"/>
                  <a:pt x="12193" y="17331"/>
                  <a:pt x="12179" y="17363"/>
                </a:cubicBezTo>
                <a:cubicBezTo>
                  <a:pt x="12156" y="17418"/>
                  <a:pt x="12103" y="17413"/>
                  <a:pt x="12055" y="17413"/>
                </a:cubicBezTo>
              </a:path>
              <a:path w="919" h="497">
                <a:moveTo>
                  <a:pt x="12229" y="17165"/>
                </a:moveTo>
                <a:cubicBezTo>
                  <a:pt x="12237" y="17157"/>
                  <a:pt x="12246" y="17148"/>
                  <a:pt x="12254" y="17140"/>
                </a:cubicBezTo>
                <a:cubicBezTo>
                  <a:pt x="12295" y="17196"/>
                  <a:pt x="12278" y="17266"/>
                  <a:pt x="12278" y="17338"/>
                </a:cubicBezTo>
                <a:cubicBezTo>
                  <a:pt x="12278" y="17376"/>
                  <a:pt x="12251" y="17509"/>
                  <a:pt x="12328" y="17487"/>
                </a:cubicBezTo>
                <a:cubicBezTo>
                  <a:pt x="12381" y="17472"/>
                  <a:pt x="12415" y="17425"/>
                  <a:pt x="12452" y="173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06920" y="6180120"/>
            <a:ext cx="63360" cy="71280"/>
          </a:xfrm>
          <a:custGeom>
            <a:avLst/>
            <a:gdLst/>
            <a:ahLst/>
            <a:rect l="l" t="t" r="r" b="b"/>
            <a:pathLst>
              <a:path w="175" h="199">
                <a:moveTo>
                  <a:pt x="12898" y="17165"/>
                </a:moveTo>
                <a:cubicBezTo>
                  <a:pt x="12953" y="17165"/>
                  <a:pt x="13000" y="17165"/>
                  <a:pt x="12923" y="17165"/>
                </a:cubicBezTo>
                <a:cubicBezTo>
                  <a:pt x="12866" y="17165"/>
                  <a:pt x="12850" y="17186"/>
                  <a:pt x="12799" y="17214"/>
                </a:cubicBezTo>
              </a:path>
              <a:path w="175" h="199">
                <a:moveTo>
                  <a:pt x="12923" y="17289"/>
                </a:moveTo>
                <a:cubicBezTo>
                  <a:pt x="12963" y="17299"/>
                  <a:pt x="12963" y="17298"/>
                  <a:pt x="12973" y="17338"/>
                </a:cubicBezTo>
                <a:cubicBezTo>
                  <a:pt x="12943" y="17345"/>
                  <a:pt x="12928" y="17356"/>
                  <a:pt x="12898" y="173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7840" y="6116760"/>
            <a:ext cx="500040" cy="196560"/>
          </a:xfrm>
          <a:custGeom>
            <a:avLst/>
            <a:gdLst/>
            <a:ahLst/>
            <a:rect l="l" t="t" r="r" b="b"/>
            <a:pathLst>
              <a:path w="1390" h="547">
                <a:moveTo>
                  <a:pt x="13494" y="17066"/>
                </a:moveTo>
                <a:cubicBezTo>
                  <a:pt x="13534" y="17036"/>
                  <a:pt x="13556" y="17061"/>
                  <a:pt x="13593" y="17041"/>
                </a:cubicBezTo>
                <a:cubicBezTo>
                  <a:pt x="13649" y="17010"/>
                  <a:pt x="13698" y="17016"/>
                  <a:pt x="13767" y="17016"/>
                </a:cubicBezTo>
                <a:cubicBezTo>
                  <a:pt x="13829" y="17016"/>
                  <a:pt x="13828" y="17092"/>
                  <a:pt x="13816" y="17140"/>
                </a:cubicBezTo>
                <a:cubicBezTo>
                  <a:pt x="13785" y="17263"/>
                  <a:pt x="13703" y="17367"/>
                  <a:pt x="13667" y="17487"/>
                </a:cubicBezTo>
                <a:cubicBezTo>
                  <a:pt x="13667" y="17512"/>
                  <a:pt x="13667" y="17520"/>
                  <a:pt x="13667" y="17537"/>
                </a:cubicBezTo>
              </a:path>
              <a:path w="1390" h="547">
                <a:moveTo>
                  <a:pt x="14114" y="17165"/>
                </a:moveTo>
                <a:cubicBezTo>
                  <a:pt x="14081" y="17154"/>
                  <a:pt x="14072" y="17119"/>
                  <a:pt x="14114" y="17090"/>
                </a:cubicBezTo>
                <a:cubicBezTo>
                  <a:pt x="14181" y="17044"/>
                  <a:pt x="14291" y="16977"/>
                  <a:pt x="14362" y="17016"/>
                </a:cubicBezTo>
                <a:cubicBezTo>
                  <a:pt x="14438" y="17057"/>
                  <a:pt x="14354" y="17130"/>
                  <a:pt x="14337" y="17165"/>
                </a:cubicBezTo>
                <a:cubicBezTo>
                  <a:pt x="14304" y="17234"/>
                  <a:pt x="14254" y="17339"/>
                  <a:pt x="14238" y="17413"/>
                </a:cubicBezTo>
                <a:cubicBezTo>
                  <a:pt x="14227" y="17464"/>
                  <a:pt x="14237" y="17477"/>
                  <a:pt x="14263" y="17512"/>
                </a:cubicBezTo>
                <a:cubicBezTo>
                  <a:pt x="14340" y="17496"/>
                  <a:pt x="14373" y="17455"/>
                  <a:pt x="14436" y="17413"/>
                </a:cubicBezTo>
                <a:cubicBezTo>
                  <a:pt x="14453" y="17405"/>
                  <a:pt x="14469" y="17396"/>
                  <a:pt x="14486" y="17388"/>
                </a:cubicBezTo>
              </a:path>
              <a:path w="1390" h="547">
                <a:moveTo>
                  <a:pt x="14610" y="17264"/>
                </a:moveTo>
                <a:cubicBezTo>
                  <a:pt x="14579" y="17222"/>
                  <a:pt x="14573" y="17207"/>
                  <a:pt x="14610" y="17165"/>
                </a:cubicBezTo>
                <a:cubicBezTo>
                  <a:pt x="14660" y="17109"/>
                  <a:pt x="14742" y="17073"/>
                  <a:pt x="14808" y="17115"/>
                </a:cubicBezTo>
                <a:cubicBezTo>
                  <a:pt x="14883" y="17163"/>
                  <a:pt x="14904" y="17241"/>
                  <a:pt x="14858" y="17314"/>
                </a:cubicBezTo>
                <a:cubicBezTo>
                  <a:pt x="14812" y="17388"/>
                  <a:pt x="14689" y="17313"/>
                  <a:pt x="14635" y="172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73840" y="6259680"/>
            <a:ext cx="428400" cy="152280"/>
          </a:xfrm>
          <a:custGeom>
            <a:avLst/>
            <a:gdLst/>
            <a:ahLst/>
            <a:rect l="l" t="t" r="r" b="b"/>
            <a:pathLst>
              <a:path w="1192" h="423">
                <a:moveTo>
                  <a:pt x="16619" y="17562"/>
                </a:moveTo>
                <a:cubicBezTo>
                  <a:pt x="16594" y="17562"/>
                  <a:pt x="16607" y="17538"/>
                  <a:pt x="16644" y="17512"/>
                </a:cubicBezTo>
                <a:cubicBezTo>
                  <a:pt x="16705" y="17470"/>
                  <a:pt x="16763" y="17482"/>
                  <a:pt x="16818" y="17512"/>
                </a:cubicBezTo>
                <a:cubicBezTo>
                  <a:pt x="16908" y="17561"/>
                  <a:pt x="16905" y="17622"/>
                  <a:pt x="16867" y="17711"/>
                </a:cubicBezTo>
                <a:cubicBezTo>
                  <a:pt x="16835" y="17785"/>
                  <a:pt x="16768" y="17804"/>
                  <a:pt x="16694" y="17810"/>
                </a:cubicBezTo>
                <a:cubicBezTo>
                  <a:pt x="16686" y="17810"/>
                  <a:pt x="16677" y="17810"/>
                  <a:pt x="16669" y="17810"/>
                </a:cubicBezTo>
              </a:path>
              <a:path w="1192" h="423">
                <a:moveTo>
                  <a:pt x="16966" y="17413"/>
                </a:moveTo>
                <a:cubicBezTo>
                  <a:pt x="16983" y="17405"/>
                  <a:pt x="16999" y="17396"/>
                  <a:pt x="17016" y="17388"/>
                </a:cubicBezTo>
                <a:cubicBezTo>
                  <a:pt x="16999" y="17458"/>
                  <a:pt x="16970" y="17447"/>
                  <a:pt x="16966" y="17537"/>
                </a:cubicBezTo>
                <a:cubicBezTo>
                  <a:pt x="16961" y="17656"/>
                  <a:pt x="16959" y="17719"/>
                  <a:pt x="17066" y="17785"/>
                </a:cubicBezTo>
                <a:cubicBezTo>
                  <a:pt x="17155" y="17840"/>
                  <a:pt x="17196" y="17795"/>
                  <a:pt x="17264" y="17735"/>
                </a:cubicBezTo>
              </a:path>
              <a:path w="1192" h="423">
                <a:moveTo>
                  <a:pt x="17711" y="17537"/>
                </a:moveTo>
                <a:cubicBezTo>
                  <a:pt x="17752" y="17537"/>
                  <a:pt x="17760" y="17537"/>
                  <a:pt x="17785" y="17537"/>
                </a:cubicBezTo>
                <a:cubicBezTo>
                  <a:pt x="17770" y="17581"/>
                  <a:pt x="17714" y="17562"/>
                  <a:pt x="17661" y="17562"/>
                </a:cubicBezTo>
                <a:cubicBezTo>
                  <a:pt x="17620" y="17562"/>
                  <a:pt x="17578" y="17562"/>
                  <a:pt x="17537" y="17562"/>
                </a:cubicBezTo>
              </a:path>
              <a:path w="1192" h="423">
                <a:moveTo>
                  <a:pt x="17686" y="17661"/>
                </a:moveTo>
                <a:cubicBezTo>
                  <a:pt x="17694" y="17661"/>
                  <a:pt x="17703" y="17661"/>
                  <a:pt x="17711" y="17661"/>
                </a:cubicBezTo>
                <a:cubicBezTo>
                  <a:pt x="17701" y="17701"/>
                  <a:pt x="17683" y="17732"/>
                  <a:pt x="17636" y="17735"/>
                </a:cubicBezTo>
                <a:cubicBezTo>
                  <a:pt x="17620" y="17735"/>
                  <a:pt x="17603" y="17735"/>
                  <a:pt x="17587" y="177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607080" y="6170760"/>
            <a:ext cx="9720" cy="187200"/>
          </a:xfrm>
          <a:custGeom>
            <a:avLst/>
            <a:gdLst/>
            <a:ahLst/>
            <a:rect l="l" t="t" r="r" b="b"/>
            <a:pathLst>
              <a:path w="26" h="522">
                <a:moveTo>
                  <a:pt x="18380" y="17165"/>
                </a:moveTo>
                <a:cubicBezTo>
                  <a:pt x="18380" y="17095"/>
                  <a:pt x="18381" y="17306"/>
                  <a:pt x="18380" y="17314"/>
                </a:cubicBezTo>
                <a:cubicBezTo>
                  <a:pt x="18361" y="17433"/>
                  <a:pt x="18355" y="17539"/>
                  <a:pt x="18355" y="176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24800" y="6134040"/>
            <a:ext cx="473040" cy="233280"/>
          </a:xfrm>
          <a:custGeom>
            <a:avLst/>
            <a:gdLst/>
            <a:ahLst/>
            <a:rect l="l" t="t" r="r" b="b"/>
            <a:pathLst>
              <a:path w="1316" h="646">
                <a:moveTo>
                  <a:pt x="18777" y="17066"/>
                </a:moveTo>
                <a:cubicBezTo>
                  <a:pt x="18785" y="17058"/>
                  <a:pt x="18794" y="17049"/>
                  <a:pt x="18802" y="17041"/>
                </a:cubicBezTo>
                <a:cubicBezTo>
                  <a:pt x="18786" y="17119"/>
                  <a:pt x="18736" y="17167"/>
                  <a:pt x="18703" y="17239"/>
                </a:cubicBezTo>
                <a:cubicBezTo>
                  <a:pt x="18664" y="17323"/>
                  <a:pt x="18654" y="17478"/>
                  <a:pt x="18703" y="17562"/>
                </a:cubicBezTo>
                <a:cubicBezTo>
                  <a:pt x="18755" y="17650"/>
                  <a:pt x="18829" y="17699"/>
                  <a:pt x="18901" y="17611"/>
                </a:cubicBezTo>
                <a:cubicBezTo>
                  <a:pt x="18927" y="17579"/>
                  <a:pt x="18956" y="17459"/>
                  <a:pt x="18901" y="17438"/>
                </a:cubicBezTo>
                <a:cubicBezTo>
                  <a:pt x="18858" y="17422"/>
                  <a:pt x="18813" y="17447"/>
                  <a:pt x="18777" y="17462"/>
                </a:cubicBezTo>
              </a:path>
              <a:path w="1316" h="646">
                <a:moveTo>
                  <a:pt x="19298" y="17115"/>
                </a:moveTo>
                <a:cubicBezTo>
                  <a:pt x="19358" y="17106"/>
                  <a:pt x="19371" y="17082"/>
                  <a:pt x="19422" y="17066"/>
                </a:cubicBezTo>
                <a:cubicBezTo>
                  <a:pt x="19430" y="17066"/>
                  <a:pt x="19439" y="17066"/>
                  <a:pt x="19447" y="17066"/>
                </a:cubicBezTo>
                <a:cubicBezTo>
                  <a:pt x="19429" y="17011"/>
                  <a:pt x="19370" y="17067"/>
                  <a:pt x="19323" y="17090"/>
                </a:cubicBezTo>
                <a:cubicBezTo>
                  <a:pt x="19232" y="17135"/>
                  <a:pt x="19190" y="17228"/>
                  <a:pt x="19149" y="17314"/>
                </a:cubicBezTo>
                <a:cubicBezTo>
                  <a:pt x="19131" y="17351"/>
                  <a:pt x="19093" y="17435"/>
                  <a:pt x="19149" y="17462"/>
                </a:cubicBezTo>
                <a:cubicBezTo>
                  <a:pt x="19204" y="17488"/>
                  <a:pt x="19269" y="17479"/>
                  <a:pt x="19323" y="17512"/>
                </a:cubicBezTo>
                <a:cubicBezTo>
                  <a:pt x="19362" y="17536"/>
                  <a:pt x="19391" y="17589"/>
                  <a:pt x="19372" y="17636"/>
                </a:cubicBezTo>
                <a:cubicBezTo>
                  <a:pt x="19355" y="17678"/>
                  <a:pt x="19265" y="17703"/>
                  <a:pt x="19224" y="17686"/>
                </a:cubicBezTo>
                <a:cubicBezTo>
                  <a:pt x="19153" y="17656"/>
                  <a:pt x="19167" y="17565"/>
                  <a:pt x="19199" y="17512"/>
                </a:cubicBezTo>
                <a:cubicBezTo>
                  <a:pt x="19255" y="17421"/>
                  <a:pt x="19337" y="17327"/>
                  <a:pt x="19422" y="17264"/>
                </a:cubicBezTo>
                <a:cubicBezTo>
                  <a:pt x="19497" y="17208"/>
                  <a:pt x="19512" y="17214"/>
                  <a:pt x="19596" y="17214"/>
                </a:cubicBezTo>
              </a:path>
              <a:path w="1316" h="646">
                <a:moveTo>
                  <a:pt x="19720" y="17239"/>
                </a:moveTo>
                <a:cubicBezTo>
                  <a:pt x="19780" y="17163"/>
                  <a:pt x="19819" y="17145"/>
                  <a:pt x="19893" y="17090"/>
                </a:cubicBezTo>
                <a:cubicBezTo>
                  <a:pt x="19928" y="17064"/>
                  <a:pt x="19925" y="17066"/>
                  <a:pt x="19968" y="17066"/>
                </a:cubicBezTo>
                <a:cubicBezTo>
                  <a:pt x="19993" y="17107"/>
                  <a:pt x="20020" y="17175"/>
                  <a:pt x="19968" y="17214"/>
                </a:cubicBezTo>
                <a:cubicBezTo>
                  <a:pt x="19919" y="17251"/>
                  <a:pt x="19851" y="17295"/>
                  <a:pt x="19794" y="17239"/>
                </a:cubicBezTo>
                <a:cubicBezTo>
                  <a:pt x="19786" y="17223"/>
                  <a:pt x="19777" y="17206"/>
                  <a:pt x="19769" y="171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10120" y="285840"/>
            <a:ext cx="704880" cy="544320"/>
          </a:xfrm>
          <a:custGeom>
            <a:avLst/>
            <a:gdLst/>
            <a:ahLst/>
            <a:rect l="l" t="t" r="r" b="b"/>
            <a:pathLst>
              <a:path w="1961" h="1514">
                <a:moveTo>
                  <a:pt x="15875" y="1687"/>
                </a:moveTo>
                <a:cubicBezTo>
                  <a:pt x="15807" y="1687"/>
                  <a:pt x="15756" y="1673"/>
                  <a:pt x="15701" y="1662"/>
                </a:cubicBezTo>
                <a:cubicBezTo>
                  <a:pt x="15589" y="1639"/>
                  <a:pt x="15462" y="1627"/>
                  <a:pt x="15354" y="1588"/>
                </a:cubicBezTo>
                <a:cubicBezTo>
                  <a:pt x="15285" y="1563"/>
                  <a:pt x="15192" y="1551"/>
                  <a:pt x="15131" y="1513"/>
                </a:cubicBezTo>
                <a:cubicBezTo>
                  <a:pt x="15068" y="1474"/>
                  <a:pt x="15027" y="1443"/>
                  <a:pt x="14982" y="1389"/>
                </a:cubicBezTo>
                <a:cubicBezTo>
                  <a:pt x="14949" y="1349"/>
                  <a:pt x="14901" y="1357"/>
                  <a:pt x="14858" y="1315"/>
                </a:cubicBezTo>
                <a:cubicBezTo>
                  <a:pt x="14826" y="1284"/>
                  <a:pt x="14806" y="1234"/>
                  <a:pt x="14784" y="1191"/>
                </a:cubicBezTo>
                <a:cubicBezTo>
                  <a:pt x="14767" y="1159"/>
                  <a:pt x="14771" y="1125"/>
                  <a:pt x="14759" y="1091"/>
                </a:cubicBezTo>
                <a:cubicBezTo>
                  <a:pt x="14746" y="1054"/>
                  <a:pt x="14737" y="1035"/>
                  <a:pt x="14734" y="992"/>
                </a:cubicBezTo>
                <a:cubicBezTo>
                  <a:pt x="14730" y="922"/>
                  <a:pt x="14749" y="852"/>
                  <a:pt x="14759" y="819"/>
                </a:cubicBezTo>
                <a:cubicBezTo>
                  <a:pt x="14777" y="761"/>
                  <a:pt x="14771" y="827"/>
                  <a:pt x="14784" y="843"/>
                </a:cubicBezTo>
              </a:path>
              <a:path w="1961" h="1514">
                <a:moveTo>
                  <a:pt x="13940" y="1811"/>
                </a:moveTo>
                <a:cubicBezTo>
                  <a:pt x="13940" y="1737"/>
                  <a:pt x="13940" y="1935"/>
                  <a:pt x="13940" y="1935"/>
                </a:cubicBezTo>
                <a:cubicBezTo>
                  <a:pt x="13922" y="2030"/>
                  <a:pt x="13915" y="2110"/>
                  <a:pt x="13915" y="2208"/>
                </a:cubicBezTo>
              </a:path>
              <a:path w="1961" h="1514">
                <a:moveTo>
                  <a:pt x="14188" y="2009"/>
                </a:moveTo>
                <a:cubicBezTo>
                  <a:pt x="14188" y="1966"/>
                  <a:pt x="14174" y="1912"/>
                  <a:pt x="14213" y="1885"/>
                </a:cubicBezTo>
                <a:cubicBezTo>
                  <a:pt x="14277" y="1840"/>
                  <a:pt x="14338" y="1850"/>
                  <a:pt x="14387" y="1910"/>
                </a:cubicBezTo>
                <a:cubicBezTo>
                  <a:pt x="14433" y="1967"/>
                  <a:pt x="14454" y="2063"/>
                  <a:pt x="14436" y="2133"/>
                </a:cubicBezTo>
                <a:cubicBezTo>
                  <a:pt x="14423" y="2183"/>
                  <a:pt x="14343" y="2241"/>
                  <a:pt x="14288" y="2208"/>
                </a:cubicBezTo>
                <a:cubicBezTo>
                  <a:pt x="14246" y="2183"/>
                  <a:pt x="14171" y="2089"/>
                  <a:pt x="14213" y="2034"/>
                </a:cubicBezTo>
                <a:cubicBezTo>
                  <a:pt x="14230" y="2026"/>
                  <a:pt x="14246" y="2017"/>
                  <a:pt x="14263" y="2009"/>
                </a:cubicBezTo>
              </a:path>
              <a:path w="1961" h="1514">
                <a:moveTo>
                  <a:pt x="14759" y="1885"/>
                </a:moveTo>
                <a:cubicBezTo>
                  <a:pt x="14772" y="1846"/>
                  <a:pt x="14771" y="1875"/>
                  <a:pt x="14784" y="1836"/>
                </a:cubicBezTo>
                <a:cubicBezTo>
                  <a:pt x="14752" y="1812"/>
                  <a:pt x="14727" y="1770"/>
                  <a:pt x="14684" y="1786"/>
                </a:cubicBezTo>
                <a:cubicBezTo>
                  <a:pt x="14616" y="1811"/>
                  <a:pt x="14613" y="1906"/>
                  <a:pt x="14610" y="1960"/>
                </a:cubicBezTo>
                <a:cubicBezTo>
                  <a:pt x="14609" y="1988"/>
                  <a:pt x="14632" y="2083"/>
                  <a:pt x="14684" y="2059"/>
                </a:cubicBezTo>
                <a:cubicBezTo>
                  <a:pt x="14724" y="2041"/>
                  <a:pt x="14736" y="1989"/>
                  <a:pt x="14759" y="1960"/>
                </a:cubicBezTo>
                <a:cubicBezTo>
                  <a:pt x="14803" y="2015"/>
                  <a:pt x="14825" y="2086"/>
                  <a:pt x="14833" y="2158"/>
                </a:cubicBezTo>
                <a:cubicBezTo>
                  <a:pt x="14839" y="2205"/>
                  <a:pt x="14833" y="2259"/>
                  <a:pt x="14833" y="2307"/>
                </a:cubicBezTo>
              </a:path>
              <a:path w="1961" h="1514">
                <a:moveTo>
                  <a:pt x="15131" y="1910"/>
                </a:moveTo>
                <a:cubicBezTo>
                  <a:pt x="15119" y="1875"/>
                  <a:pt x="15087" y="1886"/>
                  <a:pt x="15081" y="1836"/>
                </a:cubicBezTo>
                <a:cubicBezTo>
                  <a:pt x="15077" y="1800"/>
                  <a:pt x="15090" y="1748"/>
                  <a:pt x="15131" y="1736"/>
                </a:cubicBezTo>
                <a:cubicBezTo>
                  <a:pt x="15212" y="1712"/>
                  <a:pt x="15250" y="1774"/>
                  <a:pt x="15255" y="1836"/>
                </a:cubicBezTo>
                <a:cubicBezTo>
                  <a:pt x="15262" y="1916"/>
                  <a:pt x="15214" y="1910"/>
                  <a:pt x="15156" y="1910"/>
                </a:cubicBezTo>
                <a:cubicBezTo>
                  <a:pt x="15139" y="1910"/>
                  <a:pt x="15123" y="1910"/>
                  <a:pt x="15106" y="19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19160" y="820800"/>
            <a:ext cx="385920" cy="135000"/>
          </a:xfrm>
          <a:custGeom>
            <a:avLst/>
            <a:gdLst/>
            <a:ahLst/>
            <a:rect l="l" t="t" r="r" b="b"/>
            <a:pathLst>
              <a:path w="1068" h="373">
                <a:moveTo>
                  <a:pt x="6375" y="2307"/>
                </a:moveTo>
                <a:cubicBezTo>
                  <a:pt x="6375" y="2282"/>
                  <a:pt x="6375" y="2274"/>
                  <a:pt x="6400" y="2282"/>
                </a:cubicBezTo>
                <a:cubicBezTo>
                  <a:pt x="6376" y="2314"/>
                  <a:pt x="6370" y="2351"/>
                  <a:pt x="6350" y="2381"/>
                </a:cubicBezTo>
                <a:cubicBezTo>
                  <a:pt x="6331" y="2410"/>
                  <a:pt x="6313" y="2464"/>
                  <a:pt x="6276" y="2480"/>
                </a:cubicBezTo>
                <a:cubicBezTo>
                  <a:pt x="6268" y="2480"/>
                  <a:pt x="6259" y="2480"/>
                  <a:pt x="6251" y="2480"/>
                </a:cubicBezTo>
                <a:cubicBezTo>
                  <a:pt x="6243" y="2513"/>
                  <a:pt x="6213" y="2547"/>
                  <a:pt x="6176" y="2555"/>
                </a:cubicBezTo>
                <a:cubicBezTo>
                  <a:pt x="6129" y="2565"/>
                  <a:pt x="6101" y="2580"/>
                  <a:pt x="6052" y="2580"/>
                </a:cubicBezTo>
                <a:cubicBezTo>
                  <a:pt x="5987" y="2580"/>
                  <a:pt x="5980" y="2611"/>
                  <a:pt x="5928" y="2629"/>
                </a:cubicBezTo>
                <a:cubicBezTo>
                  <a:pt x="5898" y="2639"/>
                  <a:pt x="5858" y="2651"/>
                  <a:pt x="5829" y="2654"/>
                </a:cubicBezTo>
                <a:cubicBezTo>
                  <a:pt x="5748" y="2663"/>
                  <a:pt x="5673" y="2651"/>
                  <a:pt x="5606" y="2629"/>
                </a:cubicBezTo>
                <a:cubicBezTo>
                  <a:pt x="5572" y="2618"/>
                  <a:pt x="5512" y="2597"/>
                  <a:pt x="5482" y="2580"/>
                </a:cubicBezTo>
                <a:cubicBezTo>
                  <a:pt x="5443" y="2558"/>
                  <a:pt x="5418" y="2549"/>
                  <a:pt x="5407" y="2505"/>
                </a:cubicBezTo>
                <a:cubicBezTo>
                  <a:pt x="5378" y="2497"/>
                  <a:pt x="5362" y="2487"/>
                  <a:pt x="5333" y="2480"/>
                </a:cubicBezTo>
                <a:cubicBezTo>
                  <a:pt x="5333" y="2456"/>
                  <a:pt x="5333" y="2447"/>
                  <a:pt x="5333" y="24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62080" y="1152360"/>
            <a:ext cx="250920" cy="160560"/>
          </a:xfrm>
          <a:custGeom>
            <a:avLst/>
            <a:gdLst/>
            <a:ahLst/>
            <a:rect l="l" t="t" r="r" b="b"/>
            <a:pathLst>
              <a:path w="695" h="447">
                <a:moveTo>
                  <a:pt x="5755" y="3373"/>
                </a:moveTo>
                <a:cubicBezTo>
                  <a:pt x="5734" y="3345"/>
                  <a:pt x="5721" y="3298"/>
                  <a:pt x="5755" y="3274"/>
                </a:cubicBezTo>
                <a:cubicBezTo>
                  <a:pt x="5808" y="3238"/>
                  <a:pt x="5924" y="3288"/>
                  <a:pt x="5953" y="3324"/>
                </a:cubicBezTo>
                <a:cubicBezTo>
                  <a:pt x="5999" y="3381"/>
                  <a:pt x="6022" y="3476"/>
                  <a:pt x="6003" y="3547"/>
                </a:cubicBezTo>
                <a:cubicBezTo>
                  <a:pt x="5991" y="3593"/>
                  <a:pt x="5949" y="3641"/>
                  <a:pt x="5904" y="3646"/>
                </a:cubicBezTo>
                <a:cubicBezTo>
                  <a:pt x="5896" y="3646"/>
                  <a:pt x="5887" y="3646"/>
                  <a:pt x="5879" y="3646"/>
                </a:cubicBezTo>
              </a:path>
              <a:path w="695" h="447">
                <a:moveTo>
                  <a:pt x="6102" y="3274"/>
                </a:moveTo>
                <a:cubicBezTo>
                  <a:pt x="6119" y="3249"/>
                  <a:pt x="6135" y="3225"/>
                  <a:pt x="6152" y="3200"/>
                </a:cubicBezTo>
                <a:cubicBezTo>
                  <a:pt x="6118" y="3244"/>
                  <a:pt x="6111" y="3314"/>
                  <a:pt x="6127" y="3373"/>
                </a:cubicBezTo>
                <a:cubicBezTo>
                  <a:pt x="6150" y="3460"/>
                  <a:pt x="6239" y="3513"/>
                  <a:pt x="6325" y="3497"/>
                </a:cubicBezTo>
                <a:cubicBezTo>
                  <a:pt x="6375" y="3473"/>
                  <a:pt x="6391" y="3465"/>
                  <a:pt x="6424" y="34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0960" y="312840"/>
            <a:ext cx="546120" cy="527040"/>
          </a:xfrm>
          <a:custGeom>
            <a:avLst/>
            <a:gdLst/>
            <a:ahLst/>
            <a:rect l="l" t="t" r="r" b="b"/>
            <a:pathLst>
              <a:path w="1514" h="1465">
                <a:moveTo>
                  <a:pt x="12576" y="1042"/>
                </a:moveTo>
                <a:cubicBezTo>
                  <a:pt x="12581" y="1006"/>
                  <a:pt x="12599" y="974"/>
                  <a:pt x="12601" y="967"/>
                </a:cubicBezTo>
                <a:cubicBezTo>
                  <a:pt x="12601" y="959"/>
                  <a:pt x="12601" y="951"/>
                  <a:pt x="12601" y="943"/>
                </a:cubicBezTo>
                <a:cubicBezTo>
                  <a:pt x="12554" y="989"/>
                  <a:pt x="12562" y="1015"/>
                  <a:pt x="12526" y="1067"/>
                </a:cubicBezTo>
                <a:cubicBezTo>
                  <a:pt x="12501" y="1104"/>
                  <a:pt x="12435" y="1186"/>
                  <a:pt x="12402" y="1215"/>
                </a:cubicBezTo>
                <a:cubicBezTo>
                  <a:pt x="12353" y="1257"/>
                  <a:pt x="12258" y="1334"/>
                  <a:pt x="12204" y="1364"/>
                </a:cubicBezTo>
                <a:cubicBezTo>
                  <a:pt x="12126" y="1408"/>
                  <a:pt x="11992" y="1470"/>
                  <a:pt x="11906" y="1488"/>
                </a:cubicBezTo>
                <a:cubicBezTo>
                  <a:pt x="11832" y="1504"/>
                  <a:pt x="11760" y="1513"/>
                  <a:pt x="11683" y="1513"/>
                </a:cubicBezTo>
                <a:cubicBezTo>
                  <a:pt x="11586" y="1513"/>
                  <a:pt x="11536" y="1464"/>
                  <a:pt x="11460" y="1414"/>
                </a:cubicBezTo>
                <a:cubicBezTo>
                  <a:pt x="11371" y="1356"/>
                  <a:pt x="11279" y="1300"/>
                  <a:pt x="11212" y="1215"/>
                </a:cubicBezTo>
                <a:cubicBezTo>
                  <a:pt x="11146" y="1130"/>
                  <a:pt x="11096" y="998"/>
                  <a:pt x="11088" y="893"/>
                </a:cubicBezTo>
                <a:cubicBezTo>
                  <a:pt x="11088" y="885"/>
                  <a:pt x="11088" y="876"/>
                  <a:pt x="11088" y="868"/>
                </a:cubicBezTo>
              </a:path>
              <a:path w="1514" h="1465">
                <a:moveTo>
                  <a:pt x="11137" y="2009"/>
                </a:moveTo>
                <a:cubicBezTo>
                  <a:pt x="11137" y="2034"/>
                  <a:pt x="11137" y="2042"/>
                  <a:pt x="11112" y="2034"/>
                </a:cubicBezTo>
                <a:cubicBezTo>
                  <a:pt x="11112" y="1976"/>
                  <a:pt x="11124" y="1956"/>
                  <a:pt x="11187" y="1935"/>
                </a:cubicBezTo>
                <a:cubicBezTo>
                  <a:pt x="11260" y="1911"/>
                  <a:pt x="11323" y="1981"/>
                  <a:pt x="11361" y="2034"/>
                </a:cubicBezTo>
                <a:cubicBezTo>
                  <a:pt x="11416" y="2111"/>
                  <a:pt x="11377" y="2203"/>
                  <a:pt x="11311" y="2257"/>
                </a:cubicBezTo>
                <a:cubicBezTo>
                  <a:pt x="11270" y="2291"/>
                  <a:pt x="11213" y="2322"/>
                  <a:pt x="11162" y="2332"/>
                </a:cubicBezTo>
              </a:path>
              <a:path w="1514" h="1465">
                <a:moveTo>
                  <a:pt x="11509" y="1984"/>
                </a:moveTo>
                <a:cubicBezTo>
                  <a:pt x="11548" y="1946"/>
                  <a:pt x="11565" y="1944"/>
                  <a:pt x="11559" y="1910"/>
                </a:cubicBezTo>
                <a:cubicBezTo>
                  <a:pt x="11505" y="1948"/>
                  <a:pt x="11448" y="2010"/>
                  <a:pt x="11435" y="2084"/>
                </a:cubicBezTo>
                <a:cubicBezTo>
                  <a:pt x="11416" y="2192"/>
                  <a:pt x="11509" y="2288"/>
                  <a:pt x="11609" y="2307"/>
                </a:cubicBezTo>
                <a:cubicBezTo>
                  <a:pt x="11723" y="2329"/>
                  <a:pt x="11777" y="2279"/>
                  <a:pt x="11857" y="22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6146" t="6144" r="12784" b="34888"/>
          <a:stretch/>
        </p:blipFill>
        <p:spPr>
          <a:xfrm>
            <a:off x="0" y="0"/>
            <a:ext cx="685008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759120" y="295200"/>
            <a:ext cx="9720" cy="34920"/>
          </a:xfrm>
          <a:custGeom>
            <a:avLst/>
            <a:gdLst/>
            <a:ahLst/>
            <a:rect l="l" t="t" r="r" b="b"/>
            <a:pathLst>
              <a:path w="26" h="100">
                <a:moveTo>
                  <a:pt x="10443" y="819"/>
                </a:moveTo>
                <a:cubicBezTo>
                  <a:pt x="10451" y="819"/>
                  <a:pt x="10460" y="819"/>
                  <a:pt x="10468" y="819"/>
                </a:cubicBezTo>
                <a:cubicBezTo>
                  <a:pt x="10468" y="863"/>
                  <a:pt x="10453" y="879"/>
                  <a:pt x="10443" y="9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24200" y="455760"/>
            <a:ext cx="44640" cy="1411200"/>
          </a:xfrm>
          <a:custGeom>
            <a:avLst/>
            <a:gdLst/>
            <a:ahLst/>
            <a:rect l="l" t="t" r="r" b="b"/>
            <a:pathLst>
              <a:path w="125" h="3920">
                <a:moveTo>
                  <a:pt x="10344" y="1265"/>
                </a:moveTo>
                <a:cubicBezTo>
                  <a:pt x="10349" y="1356"/>
                  <a:pt x="10368" y="1426"/>
                  <a:pt x="10368" y="1513"/>
                </a:cubicBezTo>
                <a:cubicBezTo>
                  <a:pt x="10368" y="1538"/>
                  <a:pt x="10368" y="1546"/>
                  <a:pt x="10368" y="1563"/>
                </a:cubicBezTo>
              </a:path>
              <a:path w="125" h="3920">
                <a:moveTo>
                  <a:pt x="10344" y="1687"/>
                </a:moveTo>
                <a:cubicBezTo>
                  <a:pt x="10350" y="1759"/>
                  <a:pt x="10368" y="1813"/>
                  <a:pt x="10368" y="1885"/>
                </a:cubicBezTo>
                <a:cubicBezTo>
                  <a:pt x="10368" y="1933"/>
                  <a:pt x="10364" y="1947"/>
                  <a:pt x="10393" y="1984"/>
                </a:cubicBezTo>
              </a:path>
              <a:path w="125" h="3920">
                <a:moveTo>
                  <a:pt x="10368" y="2084"/>
                </a:moveTo>
                <a:cubicBezTo>
                  <a:pt x="10391" y="2146"/>
                  <a:pt x="10413" y="2194"/>
                  <a:pt x="10418" y="2257"/>
                </a:cubicBezTo>
                <a:cubicBezTo>
                  <a:pt x="10418" y="2265"/>
                  <a:pt x="10418" y="2274"/>
                  <a:pt x="10418" y="2282"/>
                </a:cubicBezTo>
              </a:path>
              <a:path w="125" h="3920">
                <a:moveTo>
                  <a:pt x="10418" y="2406"/>
                </a:moveTo>
                <a:cubicBezTo>
                  <a:pt x="10439" y="2476"/>
                  <a:pt x="10443" y="2509"/>
                  <a:pt x="10443" y="2580"/>
                </a:cubicBezTo>
                <a:cubicBezTo>
                  <a:pt x="10443" y="2613"/>
                  <a:pt x="10443" y="2629"/>
                  <a:pt x="10443" y="2654"/>
                </a:cubicBezTo>
              </a:path>
              <a:path w="125" h="3920">
                <a:moveTo>
                  <a:pt x="10418" y="2803"/>
                </a:moveTo>
                <a:cubicBezTo>
                  <a:pt x="10437" y="2883"/>
                  <a:pt x="10443" y="2923"/>
                  <a:pt x="10443" y="3001"/>
                </a:cubicBezTo>
              </a:path>
              <a:path w="125" h="3920">
                <a:moveTo>
                  <a:pt x="10443" y="3175"/>
                </a:moveTo>
                <a:cubicBezTo>
                  <a:pt x="10451" y="3238"/>
                  <a:pt x="10468" y="3284"/>
                  <a:pt x="10468" y="3349"/>
                </a:cubicBezTo>
                <a:cubicBezTo>
                  <a:pt x="10468" y="3357"/>
                  <a:pt x="10468" y="3365"/>
                  <a:pt x="10468" y="3373"/>
                </a:cubicBezTo>
              </a:path>
              <a:path w="125" h="3920">
                <a:moveTo>
                  <a:pt x="10443" y="3473"/>
                </a:moveTo>
                <a:cubicBezTo>
                  <a:pt x="10468" y="3531"/>
                  <a:pt x="10468" y="3557"/>
                  <a:pt x="10468" y="3621"/>
                </a:cubicBezTo>
                <a:cubicBezTo>
                  <a:pt x="10468" y="3646"/>
                  <a:pt x="10468" y="3654"/>
                  <a:pt x="10468" y="3671"/>
                </a:cubicBezTo>
              </a:path>
              <a:path w="125" h="3920">
                <a:moveTo>
                  <a:pt x="10468" y="3795"/>
                </a:moveTo>
                <a:cubicBezTo>
                  <a:pt x="10468" y="3853"/>
                  <a:pt x="10468" y="3911"/>
                  <a:pt x="10468" y="3969"/>
                </a:cubicBezTo>
              </a:path>
              <a:path w="125" h="3920">
                <a:moveTo>
                  <a:pt x="10443" y="4068"/>
                </a:moveTo>
                <a:cubicBezTo>
                  <a:pt x="10443" y="4142"/>
                  <a:pt x="10443" y="4217"/>
                  <a:pt x="10443" y="4291"/>
                </a:cubicBezTo>
              </a:path>
              <a:path w="125" h="3920">
                <a:moveTo>
                  <a:pt x="10418" y="4341"/>
                </a:moveTo>
                <a:cubicBezTo>
                  <a:pt x="10418" y="4407"/>
                  <a:pt x="10418" y="4473"/>
                  <a:pt x="10418" y="4539"/>
                </a:cubicBezTo>
              </a:path>
              <a:path w="125" h="3920">
                <a:moveTo>
                  <a:pt x="10393" y="4663"/>
                </a:moveTo>
                <a:cubicBezTo>
                  <a:pt x="10393" y="4710"/>
                  <a:pt x="10413" y="4742"/>
                  <a:pt x="10418" y="4787"/>
                </a:cubicBezTo>
                <a:cubicBezTo>
                  <a:pt x="10418" y="4812"/>
                  <a:pt x="10418" y="4820"/>
                  <a:pt x="10418" y="4837"/>
                </a:cubicBezTo>
              </a:path>
              <a:path w="125" h="3920">
                <a:moveTo>
                  <a:pt x="10393" y="4961"/>
                </a:moveTo>
                <a:cubicBezTo>
                  <a:pt x="10409" y="5017"/>
                  <a:pt x="10439" y="5084"/>
                  <a:pt x="10443" y="5135"/>
                </a:cubicBezTo>
                <a:cubicBezTo>
                  <a:pt x="10443" y="5151"/>
                  <a:pt x="10443" y="5168"/>
                  <a:pt x="10443" y="51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57240" y="3633840"/>
            <a:ext cx="509760" cy="573120"/>
          </a:xfrm>
          <a:custGeom>
            <a:avLst/>
            <a:gdLst/>
            <a:ahLst/>
            <a:rect l="l" t="t" r="r" b="b"/>
            <a:pathLst>
              <a:path w="1415" h="1588">
                <a:moveTo>
                  <a:pt x="5730" y="10716"/>
                </a:moveTo>
                <a:cubicBezTo>
                  <a:pt x="5752" y="10694"/>
                  <a:pt x="5757" y="10685"/>
                  <a:pt x="5779" y="10691"/>
                </a:cubicBezTo>
                <a:cubicBezTo>
                  <a:pt x="5717" y="10678"/>
                  <a:pt x="5672" y="10666"/>
                  <a:pt x="5606" y="10666"/>
                </a:cubicBezTo>
                <a:cubicBezTo>
                  <a:pt x="5525" y="10666"/>
                  <a:pt x="5457" y="10679"/>
                  <a:pt x="5383" y="10691"/>
                </a:cubicBezTo>
                <a:cubicBezTo>
                  <a:pt x="5320" y="10701"/>
                  <a:pt x="5268" y="10711"/>
                  <a:pt x="5209" y="10716"/>
                </a:cubicBezTo>
                <a:cubicBezTo>
                  <a:pt x="5184" y="10716"/>
                  <a:pt x="5176" y="10716"/>
                  <a:pt x="5159" y="10716"/>
                </a:cubicBezTo>
                <a:cubicBezTo>
                  <a:pt x="5159" y="10663"/>
                  <a:pt x="5171" y="10654"/>
                  <a:pt x="5209" y="10616"/>
                </a:cubicBezTo>
                <a:cubicBezTo>
                  <a:pt x="5291" y="10536"/>
                  <a:pt x="5385" y="10457"/>
                  <a:pt x="5457" y="10368"/>
                </a:cubicBezTo>
                <a:cubicBezTo>
                  <a:pt x="5526" y="10283"/>
                  <a:pt x="5558" y="10187"/>
                  <a:pt x="5631" y="10120"/>
                </a:cubicBezTo>
                <a:cubicBezTo>
                  <a:pt x="5653" y="10098"/>
                  <a:pt x="5658" y="10090"/>
                  <a:pt x="5680" y="10096"/>
                </a:cubicBezTo>
                <a:cubicBezTo>
                  <a:pt x="5723" y="10151"/>
                  <a:pt x="5705" y="10221"/>
                  <a:pt x="5705" y="10294"/>
                </a:cubicBezTo>
                <a:cubicBezTo>
                  <a:pt x="5705" y="10435"/>
                  <a:pt x="5705" y="10575"/>
                  <a:pt x="5705" y="10716"/>
                </a:cubicBezTo>
              </a:path>
              <a:path w="1415" h="1588">
                <a:moveTo>
                  <a:pt x="6102" y="10517"/>
                </a:moveTo>
                <a:cubicBezTo>
                  <a:pt x="6195" y="10475"/>
                  <a:pt x="6179" y="10468"/>
                  <a:pt x="6251" y="10468"/>
                </a:cubicBezTo>
                <a:cubicBezTo>
                  <a:pt x="6233" y="10415"/>
                  <a:pt x="6176" y="10447"/>
                  <a:pt x="6127" y="10468"/>
                </a:cubicBezTo>
                <a:cubicBezTo>
                  <a:pt x="6088" y="10485"/>
                  <a:pt x="6005" y="10532"/>
                  <a:pt x="6028" y="10592"/>
                </a:cubicBezTo>
                <a:cubicBezTo>
                  <a:pt x="6047" y="10641"/>
                  <a:pt x="6138" y="10651"/>
                  <a:pt x="6176" y="10666"/>
                </a:cubicBezTo>
                <a:cubicBezTo>
                  <a:pt x="6222" y="10685"/>
                  <a:pt x="6240" y="10689"/>
                  <a:pt x="6276" y="10716"/>
                </a:cubicBezTo>
                <a:cubicBezTo>
                  <a:pt x="6265" y="10760"/>
                  <a:pt x="6240" y="10768"/>
                  <a:pt x="6201" y="10790"/>
                </a:cubicBezTo>
                <a:cubicBezTo>
                  <a:pt x="6153" y="10814"/>
                  <a:pt x="6139" y="10823"/>
                  <a:pt x="6102" y="10815"/>
                </a:cubicBezTo>
              </a:path>
              <a:path w="1415" h="1588">
                <a:moveTo>
                  <a:pt x="6573" y="10939"/>
                </a:moveTo>
                <a:cubicBezTo>
                  <a:pt x="6543" y="10985"/>
                  <a:pt x="6466" y="10975"/>
                  <a:pt x="6400" y="10988"/>
                </a:cubicBezTo>
                <a:cubicBezTo>
                  <a:pt x="6229" y="11021"/>
                  <a:pt x="6054" y="11035"/>
                  <a:pt x="5879" y="11038"/>
                </a:cubicBezTo>
                <a:cubicBezTo>
                  <a:pt x="5680" y="11041"/>
                  <a:pt x="5482" y="11038"/>
                  <a:pt x="5283" y="11038"/>
                </a:cubicBezTo>
              </a:path>
              <a:path w="1415" h="1588">
                <a:moveTo>
                  <a:pt x="5854" y="11584"/>
                </a:moveTo>
                <a:cubicBezTo>
                  <a:pt x="5895" y="11584"/>
                  <a:pt x="5903" y="11584"/>
                  <a:pt x="5928" y="11584"/>
                </a:cubicBezTo>
                <a:cubicBezTo>
                  <a:pt x="5713" y="11584"/>
                  <a:pt x="5498" y="11584"/>
                  <a:pt x="5283" y="11584"/>
                </a:cubicBezTo>
                <a:cubicBezTo>
                  <a:pt x="5298" y="11524"/>
                  <a:pt x="5327" y="11553"/>
                  <a:pt x="5358" y="11509"/>
                </a:cubicBezTo>
                <a:cubicBezTo>
                  <a:pt x="5405" y="11442"/>
                  <a:pt x="5480" y="11406"/>
                  <a:pt x="5531" y="11336"/>
                </a:cubicBezTo>
                <a:cubicBezTo>
                  <a:pt x="5580" y="11268"/>
                  <a:pt x="5614" y="11210"/>
                  <a:pt x="5680" y="11162"/>
                </a:cubicBezTo>
                <a:cubicBezTo>
                  <a:pt x="5750" y="11179"/>
                  <a:pt x="5756" y="11245"/>
                  <a:pt x="5779" y="11311"/>
                </a:cubicBezTo>
                <a:cubicBezTo>
                  <a:pt x="5812" y="11406"/>
                  <a:pt x="5822" y="11521"/>
                  <a:pt x="5854" y="11609"/>
                </a:cubicBezTo>
                <a:cubicBezTo>
                  <a:pt x="5862" y="11617"/>
                  <a:pt x="5871" y="11625"/>
                  <a:pt x="5879" y="11633"/>
                </a:cubicBezTo>
              </a:path>
              <a:path w="1415" h="1588">
                <a:moveTo>
                  <a:pt x="6152" y="11261"/>
                </a:moveTo>
                <a:cubicBezTo>
                  <a:pt x="6176" y="11237"/>
                  <a:pt x="6185" y="11228"/>
                  <a:pt x="6201" y="11212"/>
                </a:cubicBezTo>
                <a:cubicBezTo>
                  <a:pt x="6171" y="11222"/>
                  <a:pt x="6137" y="11291"/>
                  <a:pt x="6127" y="11336"/>
                </a:cubicBezTo>
                <a:cubicBezTo>
                  <a:pt x="6111" y="11408"/>
                  <a:pt x="6114" y="11545"/>
                  <a:pt x="6152" y="11609"/>
                </a:cubicBezTo>
                <a:cubicBezTo>
                  <a:pt x="6189" y="11672"/>
                  <a:pt x="6238" y="11675"/>
                  <a:pt x="6300" y="11683"/>
                </a:cubicBezTo>
              </a:path>
              <a:path w="1415" h="1588">
                <a:moveTo>
                  <a:pt x="6375" y="11485"/>
                </a:moveTo>
                <a:cubicBezTo>
                  <a:pt x="6306" y="11456"/>
                  <a:pt x="6289" y="11452"/>
                  <a:pt x="6226" y="11485"/>
                </a:cubicBezTo>
                <a:cubicBezTo>
                  <a:pt x="6173" y="11512"/>
                  <a:pt x="6134" y="11509"/>
                  <a:pt x="6077" y="11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89120" y="3919680"/>
            <a:ext cx="54000" cy="63360"/>
          </a:xfrm>
          <a:custGeom>
            <a:avLst/>
            <a:gdLst/>
            <a:ahLst/>
            <a:rect l="l" t="t" r="r" b="b"/>
            <a:pathLst>
              <a:path w="150" h="175">
                <a:moveTo>
                  <a:pt x="7268" y="10889"/>
                </a:moveTo>
                <a:cubicBezTo>
                  <a:pt x="7345" y="10889"/>
                  <a:pt x="7346" y="10870"/>
                  <a:pt x="7293" y="10889"/>
                </a:cubicBezTo>
                <a:cubicBezTo>
                  <a:pt x="7242" y="10908"/>
                  <a:pt x="7242" y="10914"/>
                  <a:pt x="7193" y="10914"/>
                </a:cubicBezTo>
              </a:path>
              <a:path w="150" h="175">
                <a:moveTo>
                  <a:pt x="7268" y="11013"/>
                </a:moveTo>
                <a:cubicBezTo>
                  <a:pt x="7346" y="11047"/>
                  <a:pt x="7347" y="11021"/>
                  <a:pt x="7293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27240" y="3697200"/>
            <a:ext cx="446040" cy="517680"/>
          </a:xfrm>
          <a:custGeom>
            <a:avLst/>
            <a:gdLst/>
            <a:ahLst/>
            <a:rect l="l" t="t" r="r" b="b"/>
            <a:pathLst>
              <a:path w="1241" h="1440">
                <a:moveTo>
                  <a:pt x="8434" y="10765"/>
                </a:moveTo>
                <a:cubicBezTo>
                  <a:pt x="8426" y="10757"/>
                  <a:pt x="8417" y="10748"/>
                  <a:pt x="8409" y="10740"/>
                </a:cubicBezTo>
                <a:cubicBezTo>
                  <a:pt x="8421" y="10777"/>
                  <a:pt x="8463" y="10755"/>
                  <a:pt x="8508" y="10740"/>
                </a:cubicBezTo>
                <a:cubicBezTo>
                  <a:pt x="8578" y="10716"/>
                  <a:pt x="8630" y="10716"/>
                  <a:pt x="8706" y="10716"/>
                </a:cubicBezTo>
              </a:path>
              <a:path w="1241" h="1440">
                <a:moveTo>
                  <a:pt x="8880" y="10418"/>
                </a:moveTo>
                <a:cubicBezTo>
                  <a:pt x="8925" y="10360"/>
                  <a:pt x="8959" y="10286"/>
                  <a:pt x="9029" y="10269"/>
                </a:cubicBezTo>
                <a:cubicBezTo>
                  <a:pt x="9029" y="10335"/>
                  <a:pt x="9012" y="10383"/>
                  <a:pt x="9004" y="10443"/>
                </a:cubicBezTo>
                <a:cubicBezTo>
                  <a:pt x="8996" y="10505"/>
                  <a:pt x="8991" y="10594"/>
                  <a:pt x="9029" y="10641"/>
                </a:cubicBezTo>
                <a:cubicBezTo>
                  <a:pt x="9076" y="10700"/>
                  <a:pt x="9136" y="10691"/>
                  <a:pt x="9203" y="10691"/>
                </a:cubicBezTo>
                <a:cubicBezTo>
                  <a:pt x="9281" y="10691"/>
                  <a:pt x="9356" y="10631"/>
                  <a:pt x="9426" y="10666"/>
                </a:cubicBezTo>
                <a:cubicBezTo>
                  <a:pt x="9426" y="10674"/>
                  <a:pt x="9426" y="10683"/>
                  <a:pt x="9426" y="10691"/>
                </a:cubicBezTo>
              </a:path>
              <a:path w="1241" h="1440">
                <a:moveTo>
                  <a:pt x="9227" y="10666"/>
                </a:moveTo>
                <a:cubicBezTo>
                  <a:pt x="9189" y="10627"/>
                  <a:pt x="9187" y="10610"/>
                  <a:pt x="9153" y="10616"/>
                </a:cubicBezTo>
                <a:cubicBezTo>
                  <a:pt x="9166" y="10680"/>
                  <a:pt x="9179" y="10751"/>
                  <a:pt x="9203" y="10815"/>
                </a:cubicBezTo>
                <a:cubicBezTo>
                  <a:pt x="9211" y="10831"/>
                  <a:pt x="9219" y="10848"/>
                  <a:pt x="9227" y="10864"/>
                </a:cubicBezTo>
              </a:path>
              <a:path w="1241" h="1440">
                <a:moveTo>
                  <a:pt x="9599" y="11038"/>
                </a:moveTo>
                <a:cubicBezTo>
                  <a:pt x="9669" y="11038"/>
                  <a:pt x="9468" y="11038"/>
                  <a:pt x="9451" y="11038"/>
                </a:cubicBezTo>
                <a:cubicBezTo>
                  <a:pt x="9233" y="11038"/>
                  <a:pt x="9021" y="11044"/>
                  <a:pt x="8806" y="11063"/>
                </a:cubicBezTo>
                <a:cubicBezTo>
                  <a:pt x="8748" y="11068"/>
                  <a:pt x="8634" y="11063"/>
                  <a:pt x="8582" y="11088"/>
                </a:cubicBezTo>
                <a:cubicBezTo>
                  <a:pt x="8574" y="11096"/>
                  <a:pt x="8566" y="11104"/>
                  <a:pt x="8558" y="11112"/>
                </a:cubicBezTo>
              </a:path>
              <a:path w="1241" h="1440">
                <a:moveTo>
                  <a:pt x="8483" y="11460"/>
                </a:moveTo>
                <a:cubicBezTo>
                  <a:pt x="8395" y="11504"/>
                  <a:pt x="8545" y="11374"/>
                  <a:pt x="8558" y="11361"/>
                </a:cubicBezTo>
                <a:cubicBezTo>
                  <a:pt x="8593" y="11326"/>
                  <a:pt x="8638" y="11297"/>
                  <a:pt x="8682" y="11286"/>
                </a:cubicBezTo>
                <a:cubicBezTo>
                  <a:pt x="8716" y="11346"/>
                  <a:pt x="8704" y="11400"/>
                  <a:pt x="8657" y="11460"/>
                </a:cubicBezTo>
                <a:cubicBezTo>
                  <a:pt x="8602" y="11530"/>
                  <a:pt x="8582" y="11542"/>
                  <a:pt x="8582" y="11633"/>
                </a:cubicBezTo>
                <a:cubicBezTo>
                  <a:pt x="8582" y="11686"/>
                  <a:pt x="8615" y="11683"/>
                  <a:pt x="8657" y="11683"/>
                </a:cubicBezTo>
                <a:cubicBezTo>
                  <a:pt x="8706" y="11683"/>
                  <a:pt x="8723" y="11683"/>
                  <a:pt x="8756" y="11683"/>
                </a:cubicBezTo>
              </a:path>
              <a:path w="1241" h="1440">
                <a:moveTo>
                  <a:pt x="9029" y="11633"/>
                </a:moveTo>
                <a:cubicBezTo>
                  <a:pt x="9051" y="11611"/>
                  <a:pt x="9060" y="11600"/>
                  <a:pt x="9054" y="11633"/>
                </a:cubicBezTo>
              </a:path>
              <a:path w="1241" h="1440">
                <a:moveTo>
                  <a:pt x="9302" y="11385"/>
                </a:moveTo>
                <a:cubicBezTo>
                  <a:pt x="9333" y="11314"/>
                  <a:pt x="9325" y="11294"/>
                  <a:pt x="9302" y="11361"/>
                </a:cubicBezTo>
                <a:cubicBezTo>
                  <a:pt x="9290" y="11398"/>
                  <a:pt x="9294" y="11462"/>
                  <a:pt x="9327" y="11485"/>
                </a:cubicBezTo>
                <a:cubicBezTo>
                  <a:pt x="9380" y="11521"/>
                  <a:pt x="9431" y="11523"/>
                  <a:pt x="9475" y="11559"/>
                </a:cubicBezTo>
                <a:cubicBezTo>
                  <a:pt x="9526" y="11601"/>
                  <a:pt x="9486" y="11623"/>
                  <a:pt x="9451" y="11658"/>
                </a:cubicBezTo>
                <a:cubicBezTo>
                  <a:pt x="9409" y="11700"/>
                  <a:pt x="9383" y="11701"/>
                  <a:pt x="9327" y="11708"/>
                </a:cubicBezTo>
              </a:path>
              <a:path w="1241" h="1440">
                <a:moveTo>
                  <a:pt x="9550" y="11385"/>
                </a:moveTo>
                <a:cubicBezTo>
                  <a:pt x="9645" y="11300"/>
                  <a:pt x="9676" y="11311"/>
                  <a:pt x="9575" y="11311"/>
                </a:cubicBezTo>
                <a:cubicBezTo>
                  <a:pt x="9523" y="11311"/>
                  <a:pt x="9505" y="11312"/>
                  <a:pt x="9475" y="113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05120" y="3821040"/>
            <a:ext cx="723960" cy="223920"/>
          </a:xfrm>
          <a:custGeom>
            <a:avLst/>
            <a:gdLst/>
            <a:ahLst/>
            <a:rect l="l" t="t" r="r" b="b"/>
            <a:pathLst>
              <a:path w="2010" h="622">
                <a:moveTo>
                  <a:pt x="10443" y="11063"/>
                </a:moveTo>
                <a:cubicBezTo>
                  <a:pt x="10471" y="11063"/>
                  <a:pt x="10482" y="11061"/>
                  <a:pt x="10492" y="11038"/>
                </a:cubicBezTo>
                <a:cubicBezTo>
                  <a:pt x="10438" y="11038"/>
                  <a:pt x="10410" y="11054"/>
                  <a:pt x="10368" y="11063"/>
                </a:cubicBezTo>
                <a:cubicBezTo>
                  <a:pt x="10327" y="11063"/>
                  <a:pt x="10319" y="11063"/>
                  <a:pt x="10294" y="11063"/>
                </a:cubicBezTo>
              </a:path>
              <a:path w="2010" h="622">
                <a:moveTo>
                  <a:pt x="10492" y="11162"/>
                </a:moveTo>
                <a:cubicBezTo>
                  <a:pt x="10577" y="11162"/>
                  <a:pt x="10577" y="11162"/>
                  <a:pt x="10492" y="11162"/>
                </a:cubicBezTo>
                <a:cubicBezTo>
                  <a:pt x="10464" y="11162"/>
                  <a:pt x="10454" y="11165"/>
                  <a:pt x="10443" y="11187"/>
                </a:cubicBezTo>
              </a:path>
              <a:path w="2010" h="622">
                <a:moveTo>
                  <a:pt x="11261" y="10740"/>
                </a:moveTo>
                <a:cubicBezTo>
                  <a:pt x="11310" y="10709"/>
                  <a:pt x="11308" y="10780"/>
                  <a:pt x="11311" y="10840"/>
                </a:cubicBezTo>
                <a:cubicBezTo>
                  <a:pt x="11315" y="10932"/>
                  <a:pt x="11286" y="11016"/>
                  <a:pt x="11286" y="11112"/>
                </a:cubicBezTo>
                <a:cubicBezTo>
                  <a:pt x="11286" y="11129"/>
                  <a:pt x="11286" y="11145"/>
                  <a:pt x="11286" y="11162"/>
                </a:cubicBezTo>
              </a:path>
              <a:path w="2010" h="622">
                <a:moveTo>
                  <a:pt x="11584" y="11212"/>
                </a:moveTo>
                <a:cubicBezTo>
                  <a:pt x="11623" y="11173"/>
                  <a:pt x="11625" y="11204"/>
                  <a:pt x="11658" y="11237"/>
                </a:cubicBezTo>
              </a:path>
              <a:path w="2010" h="622">
                <a:moveTo>
                  <a:pt x="12080" y="10765"/>
                </a:moveTo>
                <a:cubicBezTo>
                  <a:pt x="12116" y="10717"/>
                  <a:pt x="12149" y="10681"/>
                  <a:pt x="12154" y="10641"/>
                </a:cubicBezTo>
                <a:cubicBezTo>
                  <a:pt x="12154" y="10633"/>
                  <a:pt x="12154" y="10624"/>
                  <a:pt x="12154" y="10616"/>
                </a:cubicBezTo>
                <a:cubicBezTo>
                  <a:pt x="12100" y="10684"/>
                  <a:pt x="12064" y="10776"/>
                  <a:pt x="12055" y="10864"/>
                </a:cubicBezTo>
                <a:cubicBezTo>
                  <a:pt x="12043" y="10980"/>
                  <a:pt x="12030" y="11130"/>
                  <a:pt x="12129" y="11212"/>
                </a:cubicBezTo>
                <a:cubicBezTo>
                  <a:pt x="12189" y="11262"/>
                  <a:pt x="12283" y="11203"/>
                  <a:pt x="12303" y="11137"/>
                </a:cubicBezTo>
                <a:cubicBezTo>
                  <a:pt x="12325" y="11063"/>
                  <a:pt x="12255" y="11042"/>
                  <a:pt x="12204" y="11038"/>
                </a:cubicBezTo>
                <a:cubicBezTo>
                  <a:pt x="12196" y="11038"/>
                  <a:pt x="12187" y="11038"/>
                  <a:pt x="12179" y="11038"/>
                </a:cubicBezTo>
              </a:path>
              <a:path w="2010" h="622">
                <a:moveTo>
                  <a:pt x="11038" y="10889"/>
                </a:moveTo>
                <a:cubicBezTo>
                  <a:pt x="11015" y="10866"/>
                  <a:pt x="11011" y="10858"/>
                  <a:pt x="10988" y="10864"/>
                </a:cubicBezTo>
              </a:path>
              <a:path w="2010" h="622">
                <a:moveTo>
                  <a:pt x="11013" y="10864"/>
                </a:moveTo>
                <a:cubicBezTo>
                  <a:pt x="11080" y="10864"/>
                  <a:pt x="10976" y="10864"/>
                  <a:pt x="10964" y="10864"/>
                </a:cubicBezTo>
                <a:cubicBezTo>
                  <a:pt x="10888" y="10864"/>
                  <a:pt x="10820" y="10840"/>
                  <a:pt x="10740" y="10840"/>
                </a:cubicBezTo>
                <a:cubicBezTo>
                  <a:pt x="10681" y="10840"/>
                  <a:pt x="10666" y="10852"/>
                  <a:pt x="10616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53000" y="3795840"/>
            <a:ext cx="1000080" cy="312480"/>
          </a:xfrm>
          <a:custGeom>
            <a:avLst/>
            <a:gdLst/>
            <a:ahLst/>
            <a:rect l="l" t="t" r="r" b="b"/>
            <a:pathLst>
              <a:path w="2779" h="869">
                <a:moveTo>
                  <a:pt x="12923" y="10939"/>
                </a:moveTo>
                <a:cubicBezTo>
                  <a:pt x="12923" y="10931"/>
                  <a:pt x="12923" y="10922"/>
                  <a:pt x="12923" y="10914"/>
                </a:cubicBezTo>
                <a:cubicBezTo>
                  <a:pt x="12961" y="10927"/>
                  <a:pt x="12948" y="10943"/>
                  <a:pt x="12948" y="10988"/>
                </a:cubicBezTo>
                <a:cubicBezTo>
                  <a:pt x="12948" y="11061"/>
                  <a:pt x="12959" y="11128"/>
                  <a:pt x="12923" y="11187"/>
                </a:cubicBezTo>
                <a:cubicBezTo>
                  <a:pt x="12932" y="11125"/>
                  <a:pt x="12945" y="11074"/>
                  <a:pt x="12973" y="11013"/>
                </a:cubicBezTo>
                <a:cubicBezTo>
                  <a:pt x="13001" y="10952"/>
                  <a:pt x="13044" y="10914"/>
                  <a:pt x="13097" y="10964"/>
                </a:cubicBezTo>
                <a:cubicBezTo>
                  <a:pt x="13150" y="11013"/>
                  <a:pt x="13158" y="11063"/>
                  <a:pt x="13196" y="11112"/>
                </a:cubicBezTo>
                <a:cubicBezTo>
                  <a:pt x="13196" y="11164"/>
                  <a:pt x="13210" y="11062"/>
                  <a:pt x="13221" y="11038"/>
                </a:cubicBezTo>
                <a:cubicBezTo>
                  <a:pt x="13251" y="10975"/>
                  <a:pt x="13291" y="10915"/>
                  <a:pt x="13370" y="10939"/>
                </a:cubicBezTo>
                <a:cubicBezTo>
                  <a:pt x="13452" y="10963"/>
                  <a:pt x="13521" y="11027"/>
                  <a:pt x="13543" y="11112"/>
                </a:cubicBezTo>
                <a:cubicBezTo>
                  <a:pt x="13543" y="11162"/>
                  <a:pt x="13543" y="11179"/>
                  <a:pt x="13543" y="11212"/>
                </a:cubicBezTo>
              </a:path>
              <a:path w="2779" h="869">
                <a:moveTo>
                  <a:pt x="14288" y="10567"/>
                </a:moveTo>
                <a:cubicBezTo>
                  <a:pt x="14288" y="10535"/>
                  <a:pt x="14234" y="10698"/>
                  <a:pt x="14213" y="10740"/>
                </a:cubicBezTo>
                <a:cubicBezTo>
                  <a:pt x="14146" y="10874"/>
                  <a:pt x="14066" y="11021"/>
                  <a:pt x="14015" y="11162"/>
                </a:cubicBezTo>
                <a:cubicBezTo>
                  <a:pt x="13988" y="11237"/>
                  <a:pt x="13956" y="11333"/>
                  <a:pt x="13940" y="11410"/>
                </a:cubicBezTo>
              </a:path>
              <a:path w="2779" h="869">
                <a:moveTo>
                  <a:pt x="14486" y="10939"/>
                </a:moveTo>
                <a:cubicBezTo>
                  <a:pt x="14503" y="10922"/>
                  <a:pt x="14519" y="10906"/>
                  <a:pt x="14536" y="10889"/>
                </a:cubicBezTo>
                <a:cubicBezTo>
                  <a:pt x="14559" y="10914"/>
                  <a:pt x="14499" y="10905"/>
                  <a:pt x="14461" y="10939"/>
                </a:cubicBezTo>
                <a:cubicBezTo>
                  <a:pt x="14429" y="10968"/>
                  <a:pt x="14421" y="11010"/>
                  <a:pt x="14461" y="11038"/>
                </a:cubicBezTo>
                <a:cubicBezTo>
                  <a:pt x="14529" y="11085"/>
                  <a:pt x="14594" y="11053"/>
                  <a:pt x="14660" y="11112"/>
                </a:cubicBezTo>
                <a:cubicBezTo>
                  <a:pt x="14691" y="11140"/>
                  <a:pt x="14699" y="11185"/>
                  <a:pt x="14660" y="11212"/>
                </a:cubicBezTo>
                <a:cubicBezTo>
                  <a:pt x="14606" y="11250"/>
                  <a:pt x="14548" y="11237"/>
                  <a:pt x="14486" y="11237"/>
                </a:cubicBezTo>
              </a:path>
              <a:path w="2779" h="869">
                <a:moveTo>
                  <a:pt x="15081" y="10666"/>
                </a:moveTo>
                <a:cubicBezTo>
                  <a:pt x="15151" y="10589"/>
                  <a:pt x="15185" y="10530"/>
                  <a:pt x="15131" y="10641"/>
                </a:cubicBezTo>
                <a:cubicBezTo>
                  <a:pt x="15060" y="10787"/>
                  <a:pt x="14982" y="10933"/>
                  <a:pt x="14932" y="11088"/>
                </a:cubicBezTo>
                <a:cubicBezTo>
                  <a:pt x="14906" y="11170"/>
                  <a:pt x="14866" y="11276"/>
                  <a:pt x="14858" y="11361"/>
                </a:cubicBezTo>
                <a:cubicBezTo>
                  <a:pt x="14858" y="11369"/>
                  <a:pt x="14858" y="11377"/>
                  <a:pt x="14858" y="11385"/>
                </a:cubicBezTo>
              </a:path>
              <a:path w="2779" h="869">
                <a:moveTo>
                  <a:pt x="15354" y="10988"/>
                </a:moveTo>
                <a:cubicBezTo>
                  <a:pt x="15419" y="10956"/>
                  <a:pt x="15473" y="10933"/>
                  <a:pt x="15528" y="10889"/>
                </a:cubicBezTo>
                <a:cubicBezTo>
                  <a:pt x="15582" y="10889"/>
                  <a:pt x="15458" y="10925"/>
                  <a:pt x="15429" y="10939"/>
                </a:cubicBezTo>
                <a:cubicBezTo>
                  <a:pt x="15381" y="10963"/>
                  <a:pt x="15364" y="10969"/>
                  <a:pt x="15379" y="11013"/>
                </a:cubicBezTo>
                <a:cubicBezTo>
                  <a:pt x="15394" y="11072"/>
                  <a:pt x="15465" y="11081"/>
                  <a:pt x="15528" y="11088"/>
                </a:cubicBezTo>
                <a:cubicBezTo>
                  <a:pt x="15599" y="11096"/>
                  <a:pt x="15691" y="11090"/>
                  <a:pt x="15701" y="11187"/>
                </a:cubicBezTo>
                <a:cubicBezTo>
                  <a:pt x="15711" y="11291"/>
                  <a:pt x="15627" y="11348"/>
                  <a:pt x="15528" y="11361"/>
                </a:cubicBezTo>
                <a:cubicBezTo>
                  <a:pt x="15495" y="11361"/>
                  <a:pt x="15462" y="11361"/>
                  <a:pt x="15429" y="113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56080" y="4894200"/>
            <a:ext cx="27000" cy="231840"/>
          </a:xfrm>
          <a:custGeom>
            <a:avLst/>
            <a:gdLst/>
            <a:ahLst/>
            <a:rect l="l" t="t" r="r" b="b"/>
            <a:pathLst>
              <a:path w="75" h="646">
                <a:moveTo>
                  <a:pt x="12378" y="13692"/>
                </a:moveTo>
                <a:cubicBezTo>
                  <a:pt x="12417" y="13603"/>
                  <a:pt x="12410" y="13643"/>
                  <a:pt x="12427" y="13593"/>
                </a:cubicBezTo>
                <a:cubicBezTo>
                  <a:pt x="12466" y="13657"/>
                  <a:pt x="12442" y="13739"/>
                  <a:pt x="12427" y="13816"/>
                </a:cubicBezTo>
                <a:cubicBezTo>
                  <a:pt x="12406" y="13929"/>
                  <a:pt x="12377" y="14072"/>
                  <a:pt x="12402" y="14188"/>
                </a:cubicBezTo>
                <a:cubicBezTo>
                  <a:pt x="12410" y="14205"/>
                  <a:pt x="12419" y="14221"/>
                  <a:pt x="12427" y="142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26000" y="5126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849" y="14238"/>
                </a:moveTo>
                <a:lnTo>
                  <a:pt x="12849" y="1423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68920" y="4875120"/>
            <a:ext cx="115920" cy="250920"/>
          </a:xfrm>
          <a:custGeom>
            <a:avLst/>
            <a:gdLst/>
            <a:ahLst/>
            <a:rect l="l" t="t" r="r" b="b"/>
            <a:pathLst>
              <a:path w="323" h="696">
                <a:moveTo>
                  <a:pt x="13419" y="13618"/>
                </a:moveTo>
                <a:cubicBezTo>
                  <a:pt x="13452" y="13568"/>
                  <a:pt x="13457" y="13580"/>
                  <a:pt x="13469" y="13543"/>
                </a:cubicBezTo>
                <a:cubicBezTo>
                  <a:pt x="13416" y="13596"/>
                  <a:pt x="13387" y="13654"/>
                  <a:pt x="13345" y="13717"/>
                </a:cubicBezTo>
                <a:cubicBezTo>
                  <a:pt x="13282" y="13813"/>
                  <a:pt x="13230" y="13945"/>
                  <a:pt x="13246" y="14064"/>
                </a:cubicBezTo>
                <a:cubicBezTo>
                  <a:pt x="13256" y="14140"/>
                  <a:pt x="13306" y="14250"/>
                  <a:pt x="13395" y="14238"/>
                </a:cubicBezTo>
                <a:cubicBezTo>
                  <a:pt x="13478" y="14227"/>
                  <a:pt x="13551" y="14145"/>
                  <a:pt x="13568" y="14064"/>
                </a:cubicBezTo>
                <a:cubicBezTo>
                  <a:pt x="13568" y="14006"/>
                  <a:pt x="13568" y="13998"/>
                  <a:pt x="13568" y="13965"/>
                </a:cubicBezTo>
                <a:cubicBezTo>
                  <a:pt x="13475" y="13965"/>
                  <a:pt x="13446" y="13991"/>
                  <a:pt x="13370" y="14039"/>
                </a:cubicBezTo>
                <a:cubicBezTo>
                  <a:pt x="13353" y="14047"/>
                  <a:pt x="13337" y="14056"/>
                  <a:pt x="13320" y="140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0800" y="5661000"/>
            <a:ext cx="447480" cy="241200"/>
          </a:xfrm>
          <a:custGeom>
            <a:avLst/>
            <a:gdLst/>
            <a:ahLst/>
            <a:rect l="l" t="t" r="r" b="b"/>
            <a:pathLst>
              <a:path w="1241" h="671">
                <a:moveTo>
                  <a:pt x="2282" y="16197"/>
                </a:moveTo>
                <a:cubicBezTo>
                  <a:pt x="2282" y="16230"/>
                  <a:pt x="2282" y="16264"/>
                  <a:pt x="2282" y="16297"/>
                </a:cubicBezTo>
                <a:cubicBezTo>
                  <a:pt x="2318" y="16250"/>
                  <a:pt x="2317" y="16206"/>
                  <a:pt x="2332" y="16148"/>
                </a:cubicBezTo>
                <a:cubicBezTo>
                  <a:pt x="2360" y="16036"/>
                  <a:pt x="2435" y="15940"/>
                  <a:pt x="2456" y="15825"/>
                </a:cubicBezTo>
                <a:cubicBezTo>
                  <a:pt x="2467" y="15764"/>
                  <a:pt x="2461" y="15770"/>
                  <a:pt x="2505" y="15726"/>
                </a:cubicBezTo>
                <a:cubicBezTo>
                  <a:pt x="2541" y="15738"/>
                  <a:pt x="2573" y="15825"/>
                  <a:pt x="2580" y="15875"/>
                </a:cubicBezTo>
                <a:cubicBezTo>
                  <a:pt x="2596" y="15994"/>
                  <a:pt x="2599" y="16127"/>
                  <a:pt x="2604" y="16247"/>
                </a:cubicBezTo>
                <a:cubicBezTo>
                  <a:pt x="2604" y="16264"/>
                  <a:pt x="2604" y="16280"/>
                  <a:pt x="2604" y="16297"/>
                </a:cubicBezTo>
              </a:path>
              <a:path w="1241" h="671">
                <a:moveTo>
                  <a:pt x="2555" y="16173"/>
                </a:moveTo>
                <a:cubicBezTo>
                  <a:pt x="2525" y="16097"/>
                  <a:pt x="2534" y="16073"/>
                  <a:pt x="2456" y="16073"/>
                </a:cubicBezTo>
                <a:cubicBezTo>
                  <a:pt x="2390" y="16073"/>
                  <a:pt x="2383" y="16081"/>
                  <a:pt x="2332" y="16098"/>
                </a:cubicBezTo>
                <a:cubicBezTo>
                  <a:pt x="2307" y="16098"/>
                  <a:pt x="2299" y="16098"/>
                  <a:pt x="2282" y="16098"/>
                </a:cubicBezTo>
              </a:path>
              <a:path w="1241" h="671">
                <a:moveTo>
                  <a:pt x="2604" y="16197"/>
                </a:moveTo>
                <a:cubicBezTo>
                  <a:pt x="2629" y="16240"/>
                  <a:pt x="2668" y="16277"/>
                  <a:pt x="2679" y="16321"/>
                </a:cubicBezTo>
                <a:cubicBezTo>
                  <a:pt x="2679" y="16262"/>
                  <a:pt x="2695" y="16220"/>
                  <a:pt x="2704" y="16173"/>
                </a:cubicBezTo>
                <a:cubicBezTo>
                  <a:pt x="2716" y="16114"/>
                  <a:pt x="2722" y="16074"/>
                  <a:pt x="2803" y="16098"/>
                </a:cubicBezTo>
                <a:cubicBezTo>
                  <a:pt x="2847" y="16120"/>
                  <a:pt x="2858" y="16123"/>
                  <a:pt x="2877" y="16148"/>
                </a:cubicBezTo>
              </a:path>
              <a:path w="1241" h="671">
                <a:moveTo>
                  <a:pt x="2952" y="16222"/>
                </a:moveTo>
                <a:cubicBezTo>
                  <a:pt x="3007" y="16222"/>
                  <a:pt x="3036" y="16232"/>
                  <a:pt x="3076" y="16197"/>
                </a:cubicBezTo>
                <a:cubicBezTo>
                  <a:pt x="3120" y="16159"/>
                  <a:pt x="3105" y="16097"/>
                  <a:pt x="3051" y="16073"/>
                </a:cubicBezTo>
                <a:cubicBezTo>
                  <a:pt x="2984" y="16043"/>
                  <a:pt x="2957" y="16158"/>
                  <a:pt x="2952" y="16197"/>
                </a:cubicBezTo>
                <a:cubicBezTo>
                  <a:pt x="2945" y="16247"/>
                  <a:pt x="2994" y="16376"/>
                  <a:pt x="3051" y="16396"/>
                </a:cubicBezTo>
                <a:cubicBezTo>
                  <a:pt x="3108" y="16416"/>
                  <a:pt x="3156" y="16385"/>
                  <a:pt x="3175" y="16346"/>
                </a:cubicBezTo>
              </a:path>
              <a:path w="1241" h="671">
                <a:moveTo>
                  <a:pt x="3299" y="16197"/>
                </a:moveTo>
                <a:cubicBezTo>
                  <a:pt x="3307" y="16189"/>
                  <a:pt x="3316" y="16181"/>
                  <a:pt x="3324" y="16173"/>
                </a:cubicBezTo>
                <a:cubicBezTo>
                  <a:pt x="3292" y="16215"/>
                  <a:pt x="3299" y="16241"/>
                  <a:pt x="3299" y="16297"/>
                </a:cubicBezTo>
                <a:cubicBezTo>
                  <a:pt x="3299" y="16305"/>
                  <a:pt x="3299" y="16313"/>
                  <a:pt x="3299" y="16321"/>
                </a:cubicBezTo>
                <a:cubicBezTo>
                  <a:pt x="3340" y="16311"/>
                  <a:pt x="3356" y="16275"/>
                  <a:pt x="3398" y="16272"/>
                </a:cubicBezTo>
                <a:cubicBezTo>
                  <a:pt x="3454" y="16268"/>
                  <a:pt x="3474" y="16294"/>
                  <a:pt x="3522" y="163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00120" y="5670720"/>
            <a:ext cx="1401840" cy="374400"/>
          </a:xfrm>
          <a:custGeom>
            <a:avLst/>
            <a:gdLst/>
            <a:ahLst/>
            <a:rect l="l" t="t" r="r" b="b"/>
            <a:pathLst>
              <a:path w="3896" h="1043">
                <a:moveTo>
                  <a:pt x="4167" y="16222"/>
                </a:moveTo>
                <a:cubicBezTo>
                  <a:pt x="4167" y="16206"/>
                  <a:pt x="4167" y="16189"/>
                  <a:pt x="4167" y="16173"/>
                </a:cubicBezTo>
                <a:cubicBezTo>
                  <a:pt x="4167" y="16228"/>
                  <a:pt x="4189" y="16318"/>
                  <a:pt x="4242" y="16346"/>
                </a:cubicBezTo>
                <a:cubicBezTo>
                  <a:pt x="4318" y="16387"/>
                  <a:pt x="4376" y="16313"/>
                  <a:pt x="4390" y="16247"/>
                </a:cubicBezTo>
                <a:cubicBezTo>
                  <a:pt x="4390" y="16230"/>
                  <a:pt x="4390" y="16214"/>
                  <a:pt x="4390" y="16197"/>
                </a:cubicBezTo>
              </a:path>
              <a:path w="3896" h="1043">
                <a:moveTo>
                  <a:pt x="4440" y="16197"/>
                </a:moveTo>
                <a:cubicBezTo>
                  <a:pt x="4491" y="16210"/>
                  <a:pt x="4488" y="16254"/>
                  <a:pt x="4514" y="16272"/>
                </a:cubicBezTo>
                <a:cubicBezTo>
                  <a:pt x="4522" y="16272"/>
                  <a:pt x="4531" y="16272"/>
                  <a:pt x="4539" y="16272"/>
                </a:cubicBezTo>
                <a:cubicBezTo>
                  <a:pt x="4539" y="16225"/>
                  <a:pt x="4544" y="16162"/>
                  <a:pt x="4564" y="16123"/>
                </a:cubicBezTo>
                <a:cubicBezTo>
                  <a:pt x="4606" y="16040"/>
                  <a:pt x="4665" y="16123"/>
                  <a:pt x="4688" y="16148"/>
                </a:cubicBezTo>
                <a:cubicBezTo>
                  <a:pt x="4718" y="16182"/>
                  <a:pt x="4755" y="16214"/>
                  <a:pt x="4787" y="16247"/>
                </a:cubicBezTo>
              </a:path>
              <a:path w="3896" h="1043">
                <a:moveTo>
                  <a:pt x="4862" y="16197"/>
                </a:moveTo>
                <a:cubicBezTo>
                  <a:pt x="4862" y="16181"/>
                  <a:pt x="4862" y="16164"/>
                  <a:pt x="4862" y="16148"/>
                </a:cubicBezTo>
                <a:cubicBezTo>
                  <a:pt x="4862" y="16182"/>
                  <a:pt x="4871" y="16278"/>
                  <a:pt x="4887" y="16297"/>
                </a:cubicBezTo>
                <a:cubicBezTo>
                  <a:pt x="4903" y="16305"/>
                  <a:pt x="4920" y="16313"/>
                  <a:pt x="4936" y="16321"/>
                </a:cubicBezTo>
                <a:cubicBezTo>
                  <a:pt x="5003" y="16288"/>
                  <a:pt x="5015" y="16199"/>
                  <a:pt x="5035" y="16123"/>
                </a:cubicBezTo>
                <a:cubicBezTo>
                  <a:pt x="5064" y="16014"/>
                  <a:pt x="5060" y="15913"/>
                  <a:pt x="5060" y="15801"/>
                </a:cubicBezTo>
                <a:cubicBezTo>
                  <a:pt x="5060" y="15793"/>
                  <a:pt x="5060" y="15784"/>
                  <a:pt x="5060" y="15776"/>
                </a:cubicBezTo>
                <a:cubicBezTo>
                  <a:pt x="5060" y="15856"/>
                  <a:pt x="5046" y="15922"/>
                  <a:pt x="5035" y="15999"/>
                </a:cubicBezTo>
                <a:cubicBezTo>
                  <a:pt x="5025" y="16073"/>
                  <a:pt x="5070" y="16185"/>
                  <a:pt x="5110" y="16247"/>
                </a:cubicBezTo>
                <a:cubicBezTo>
                  <a:pt x="5149" y="16308"/>
                  <a:pt x="5188" y="16298"/>
                  <a:pt x="5234" y="16272"/>
                </a:cubicBezTo>
                <a:cubicBezTo>
                  <a:pt x="5295" y="16236"/>
                  <a:pt x="5296" y="16221"/>
                  <a:pt x="5333" y="16173"/>
                </a:cubicBezTo>
                <a:cubicBezTo>
                  <a:pt x="5320" y="16238"/>
                  <a:pt x="5290" y="16258"/>
                  <a:pt x="5333" y="16321"/>
                </a:cubicBezTo>
                <a:cubicBezTo>
                  <a:pt x="5361" y="16363"/>
                  <a:pt x="5406" y="16388"/>
                  <a:pt x="5457" y="16371"/>
                </a:cubicBezTo>
                <a:cubicBezTo>
                  <a:pt x="5474" y="16363"/>
                  <a:pt x="5490" y="16354"/>
                  <a:pt x="5507" y="16346"/>
                </a:cubicBezTo>
              </a:path>
              <a:path w="3896" h="1043">
                <a:moveTo>
                  <a:pt x="5581" y="16346"/>
                </a:moveTo>
                <a:cubicBezTo>
                  <a:pt x="5589" y="16346"/>
                  <a:pt x="5598" y="16346"/>
                  <a:pt x="5606" y="16346"/>
                </a:cubicBezTo>
                <a:cubicBezTo>
                  <a:pt x="5606" y="16313"/>
                  <a:pt x="5606" y="16280"/>
                  <a:pt x="5606" y="16247"/>
                </a:cubicBezTo>
                <a:cubicBezTo>
                  <a:pt x="5647" y="16237"/>
                  <a:pt x="5662" y="16200"/>
                  <a:pt x="5705" y="16197"/>
                </a:cubicBezTo>
                <a:cubicBezTo>
                  <a:pt x="5722" y="16197"/>
                  <a:pt x="5738" y="16197"/>
                  <a:pt x="5755" y="16197"/>
                </a:cubicBezTo>
              </a:path>
              <a:path w="3896" h="1043">
                <a:moveTo>
                  <a:pt x="6201" y="16222"/>
                </a:moveTo>
                <a:cubicBezTo>
                  <a:pt x="6221" y="16182"/>
                  <a:pt x="6220" y="16166"/>
                  <a:pt x="6251" y="16173"/>
                </a:cubicBezTo>
                <a:cubicBezTo>
                  <a:pt x="6240" y="16217"/>
                  <a:pt x="6206" y="16247"/>
                  <a:pt x="6201" y="16297"/>
                </a:cubicBezTo>
                <a:cubicBezTo>
                  <a:pt x="6201" y="16325"/>
                  <a:pt x="6204" y="16335"/>
                  <a:pt x="6226" y="16346"/>
                </a:cubicBezTo>
                <a:cubicBezTo>
                  <a:pt x="6257" y="16338"/>
                  <a:pt x="6313" y="16296"/>
                  <a:pt x="6350" y="16321"/>
                </a:cubicBezTo>
                <a:cubicBezTo>
                  <a:pt x="6438" y="16380"/>
                  <a:pt x="6439" y="16500"/>
                  <a:pt x="6424" y="16594"/>
                </a:cubicBezTo>
                <a:cubicBezTo>
                  <a:pt x="6412" y="16670"/>
                  <a:pt x="6360" y="16775"/>
                  <a:pt x="6276" y="16793"/>
                </a:cubicBezTo>
                <a:cubicBezTo>
                  <a:pt x="6202" y="16809"/>
                  <a:pt x="6102" y="16801"/>
                  <a:pt x="6077" y="16718"/>
                </a:cubicBezTo>
                <a:cubicBezTo>
                  <a:pt x="6077" y="16702"/>
                  <a:pt x="6077" y="16685"/>
                  <a:pt x="6077" y="16669"/>
                </a:cubicBezTo>
              </a:path>
              <a:path w="3896" h="1043">
                <a:moveTo>
                  <a:pt x="6524" y="16321"/>
                </a:moveTo>
                <a:cubicBezTo>
                  <a:pt x="6532" y="16329"/>
                  <a:pt x="6540" y="16338"/>
                  <a:pt x="6548" y="16346"/>
                </a:cubicBezTo>
                <a:cubicBezTo>
                  <a:pt x="6548" y="16284"/>
                  <a:pt x="6539" y="16228"/>
                  <a:pt x="6573" y="16173"/>
                </a:cubicBezTo>
                <a:cubicBezTo>
                  <a:pt x="6598" y="16133"/>
                  <a:pt x="6661" y="16105"/>
                  <a:pt x="6697" y="16098"/>
                </a:cubicBezTo>
                <a:cubicBezTo>
                  <a:pt x="6755" y="16086"/>
                  <a:pt x="6827" y="16090"/>
                  <a:pt x="6871" y="16123"/>
                </a:cubicBezTo>
                <a:cubicBezTo>
                  <a:pt x="6825" y="16158"/>
                  <a:pt x="6794" y="16175"/>
                  <a:pt x="6747" y="16222"/>
                </a:cubicBezTo>
                <a:cubicBezTo>
                  <a:pt x="6717" y="16252"/>
                  <a:pt x="6722" y="16257"/>
                  <a:pt x="6722" y="16297"/>
                </a:cubicBezTo>
                <a:cubicBezTo>
                  <a:pt x="6771" y="16297"/>
                  <a:pt x="6801" y="16302"/>
                  <a:pt x="6846" y="16272"/>
                </a:cubicBezTo>
                <a:cubicBezTo>
                  <a:pt x="6877" y="16251"/>
                  <a:pt x="6926" y="16228"/>
                  <a:pt x="6970" y="16247"/>
                </a:cubicBezTo>
                <a:cubicBezTo>
                  <a:pt x="6998" y="16275"/>
                  <a:pt x="7012" y="16284"/>
                  <a:pt x="7045" y="16272"/>
                </a:cubicBezTo>
              </a:path>
              <a:path w="3896" h="1043">
                <a:moveTo>
                  <a:pt x="7144" y="16297"/>
                </a:moveTo>
                <a:cubicBezTo>
                  <a:pt x="7144" y="16269"/>
                  <a:pt x="7146" y="16258"/>
                  <a:pt x="7169" y="16247"/>
                </a:cubicBezTo>
                <a:cubicBezTo>
                  <a:pt x="7169" y="16317"/>
                  <a:pt x="7187" y="16379"/>
                  <a:pt x="7193" y="16446"/>
                </a:cubicBezTo>
                <a:cubicBezTo>
                  <a:pt x="7196" y="16479"/>
                  <a:pt x="7200" y="16811"/>
                  <a:pt x="7218" y="16793"/>
                </a:cubicBezTo>
                <a:cubicBezTo>
                  <a:pt x="7218" y="16785"/>
                  <a:pt x="7218" y="16776"/>
                  <a:pt x="7218" y="16768"/>
                </a:cubicBezTo>
              </a:path>
              <a:path w="3896" h="1043">
                <a:moveTo>
                  <a:pt x="7218" y="16346"/>
                </a:moveTo>
                <a:cubicBezTo>
                  <a:pt x="7223" y="16279"/>
                  <a:pt x="7213" y="16184"/>
                  <a:pt x="7293" y="16148"/>
                </a:cubicBezTo>
                <a:cubicBezTo>
                  <a:pt x="7353" y="16121"/>
                  <a:pt x="7365" y="16181"/>
                  <a:pt x="7367" y="16222"/>
                </a:cubicBezTo>
                <a:cubicBezTo>
                  <a:pt x="7371" y="16297"/>
                  <a:pt x="7368" y="16319"/>
                  <a:pt x="7317" y="16371"/>
                </a:cubicBezTo>
                <a:cubicBezTo>
                  <a:pt x="7284" y="16405"/>
                  <a:pt x="7256" y="16411"/>
                  <a:pt x="7243" y="16371"/>
                </a:cubicBezTo>
              </a:path>
              <a:path w="3896" h="1043">
                <a:moveTo>
                  <a:pt x="7392" y="15825"/>
                </a:moveTo>
                <a:cubicBezTo>
                  <a:pt x="7414" y="15775"/>
                  <a:pt x="7406" y="15763"/>
                  <a:pt x="7441" y="15751"/>
                </a:cubicBezTo>
                <a:cubicBezTo>
                  <a:pt x="7441" y="15928"/>
                  <a:pt x="7442" y="16100"/>
                  <a:pt x="7466" y="16272"/>
                </a:cubicBezTo>
                <a:cubicBezTo>
                  <a:pt x="7471" y="16305"/>
                  <a:pt x="7481" y="16380"/>
                  <a:pt x="7541" y="16346"/>
                </a:cubicBezTo>
                <a:cubicBezTo>
                  <a:pt x="7589" y="16319"/>
                  <a:pt x="7585" y="16269"/>
                  <a:pt x="7640" y="16321"/>
                </a:cubicBezTo>
                <a:cubicBezTo>
                  <a:pt x="7693" y="16370"/>
                  <a:pt x="7687" y="16384"/>
                  <a:pt x="7714" y="16446"/>
                </a:cubicBezTo>
              </a:path>
              <a:path w="3896" h="1043">
                <a:moveTo>
                  <a:pt x="7987" y="16173"/>
                </a:moveTo>
                <a:cubicBezTo>
                  <a:pt x="8010" y="16150"/>
                  <a:pt x="8014" y="16142"/>
                  <a:pt x="8037" y="16148"/>
                </a:cubicBezTo>
              </a:path>
              <a:path w="3896" h="1043">
                <a:moveTo>
                  <a:pt x="8012" y="16321"/>
                </a:moveTo>
                <a:cubicBezTo>
                  <a:pt x="8021" y="16358"/>
                  <a:pt x="8033" y="16367"/>
                  <a:pt x="8062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05080" y="5670720"/>
            <a:ext cx="706680" cy="258480"/>
          </a:xfrm>
          <a:custGeom>
            <a:avLst/>
            <a:gdLst/>
            <a:ahLst/>
            <a:rect l="l" t="t" r="r" b="b"/>
            <a:pathLst>
              <a:path w="1960" h="720">
                <a:moveTo>
                  <a:pt x="8954" y="15875"/>
                </a:moveTo>
                <a:cubicBezTo>
                  <a:pt x="8995" y="15855"/>
                  <a:pt x="9001" y="15846"/>
                  <a:pt x="9029" y="15850"/>
                </a:cubicBezTo>
                <a:cubicBezTo>
                  <a:pt x="9029" y="15914"/>
                  <a:pt x="9000" y="15963"/>
                  <a:pt x="8979" y="16024"/>
                </a:cubicBezTo>
                <a:cubicBezTo>
                  <a:pt x="8951" y="16103"/>
                  <a:pt x="8918" y="16193"/>
                  <a:pt x="8905" y="16272"/>
                </a:cubicBezTo>
                <a:cubicBezTo>
                  <a:pt x="8895" y="16331"/>
                  <a:pt x="8942" y="16386"/>
                  <a:pt x="9004" y="16371"/>
                </a:cubicBezTo>
                <a:cubicBezTo>
                  <a:pt x="9078" y="16353"/>
                  <a:pt x="9152" y="16309"/>
                  <a:pt x="9227" y="16297"/>
                </a:cubicBezTo>
                <a:cubicBezTo>
                  <a:pt x="9298" y="16286"/>
                  <a:pt x="9345" y="16303"/>
                  <a:pt x="9401" y="16321"/>
                </a:cubicBezTo>
                <a:cubicBezTo>
                  <a:pt x="9426" y="16321"/>
                  <a:pt x="9434" y="16321"/>
                  <a:pt x="9426" y="16346"/>
                </a:cubicBezTo>
              </a:path>
              <a:path w="1960" h="720">
                <a:moveTo>
                  <a:pt x="9252" y="16222"/>
                </a:moveTo>
                <a:cubicBezTo>
                  <a:pt x="9244" y="16214"/>
                  <a:pt x="9235" y="16205"/>
                  <a:pt x="9227" y="16197"/>
                </a:cubicBezTo>
                <a:cubicBezTo>
                  <a:pt x="9240" y="16251"/>
                  <a:pt x="9261" y="16315"/>
                  <a:pt x="9277" y="16371"/>
                </a:cubicBezTo>
                <a:cubicBezTo>
                  <a:pt x="9302" y="16421"/>
                  <a:pt x="9310" y="16437"/>
                  <a:pt x="9327" y="16470"/>
                </a:cubicBezTo>
              </a:path>
              <a:path w="1960" h="720">
                <a:moveTo>
                  <a:pt x="9798" y="16049"/>
                </a:moveTo>
                <a:cubicBezTo>
                  <a:pt x="9806" y="16049"/>
                  <a:pt x="9815" y="16049"/>
                  <a:pt x="9823" y="16049"/>
                </a:cubicBezTo>
                <a:cubicBezTo>
                  <a:pt x="9780" y="16101"/>
                  <a:pt x="9764" y="16169"/>
                  <a:pt x="9723" y="16222"/>
                </a:cubicBezTo>
                <a:cubicBezTo>
                  <a:pt x="9710" y="16239"/>
                  <a:pt x="9657" y="16364"/>
                  <a:pt x="9649" y="16371"/>
                </a:cubicBezTo>
                <a:cubicBezTo>
                  <a:pt x="9641" y="16371"/>
                  <a:pt x="9632" y="16371"/>
                  <a:pt x="9624" y="16371"/>
                </a:cubicBezTo>
              </a:path>
              <a:path w="1960" h="720">
                <a:moveTo>
                  <a:pt x="9773" y="16297"/>
                </a:moveTo>
                <a:cubicBezTo>
                  <a:pt x="9796" y="16274"/>
                  <a:pt x="9804" y="16270"/>
                  <a:pt x="9798" y="16247"/>
                </a:cubicBezTo>
                <a:cubicBezTo>
                  <a:pt x="9748" y="16234"/>
                  <a:pt x="9734" y="16222"/>
                  <a:pt x="9674" y="16222"/>
                </a:cubicBezTo>
                <a:cubicBezTo>
                  <a:pt x="9649" y="16222"/>
                  <a:pt x="9641" y="16222"/>
                  <a:pt x="9624" y="16222"/>
                </a:cubicBezTo>
              </a:path>
              <a:path w="1960" h="720">
                <a:moveTo>
                  <a:pt x="10120" y="15974"/>
                </a:moveTo>
                <a:cubicBezTo>
                  <a:pt x="10103" y="15951"/>
                  <a:pt x="10078" y="15908"/>
                  <a:pt x="10096" y="15875"/>
                </a:cubicBezTo>
                <a:cubicBezTo>
                  <a:pt x="10129" y="15813"/>
                  <a:pt x="10192" y="15796"/>
                  <a:pt x="10244" y="15776"/>
                </a:cubicBezTo>
                <a:cubicBezTo>
                  <a:pt x="10302" y="15753"/>
                  <a:pt x="10376" y="15727"/>
                  <a:pt x="10418" y="15801"/>
                </a:cubicBezTo>
                <a:cubicBezTo>
                  <a:pt x="10438" y="15836"/>
                  <a:pt x="10390" y="15928"/>
                  <a:pt x="10368" y="15949"/>
                </a:cubicBezTo>
                <a:cubicBezTo>
                  <a:pt x="10312" y="16001"/>
                  <a:pt x="10276" y="16017"/>
                  <a:pt x="10269" y="16098"/>
                </a:cubicBezTo>
                <a:cubicBezTo>
                  <a:pt x="10263" y="16165"/>
                  <a:pt x="10378" y="16170"/>
                  <a:pt x="10418" y="16173"/>
                </a:cubicBezTo>
                <a:cubicBezTo>
                  <a:pt x="10470" y="16176"/>
                  <a:pt x="10511" y="16195"/>
                  <a:pt x="10517" y="16247"/>
                </a:cubicBezTo>
                <a:cubicBezTo>
                  <a:pt x="10523" y="16299"/>
                  <a:pt x="10499" y="16311"/>
                  <a:pt x="10443" y="16321"/>
                </a:cubicBezTo>
                <a:cubicBezTo>
                  <a:pt x="10383" y="16331"/>
                  <a:pt x="10348" y="16302"/>
                  <a:pt x="10319" y="16346"/>
                </a:cubicBezTo>
              </a:path>
              <a:path w="1960" h="720">
                <a:moveTo>
                  <a:pt x="10716" y="16272"/>
                </a:moveTo>
                <a:cubicBezTo>
                  <a:pt x="10795" y="16250"/>
                  <a:pt x="10801" y="16233"/>
                  <a:pt x="10864" y="16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37040" y="5680080"/>
            <a:ext cx="160200" cy="231840"/>
          </a:xfrm>
          <a:custGeom>
            <a:avLst/>
            <a:gdLst/>
            <a:ahLst/>
            <a:rect l="l" t="t" r="r" b="b"/>
            <a:pathLst>
              <a:path w="447" h="646">
                <a:moveTo>
                  <a:pt x="11237" y="15900"/>
                </a:moveTo>
                <a:cubicBezTo>
                  <a:pt x="11273" y="15876"/>
                  <a:pt x="11379" y="15850"/>
                  <a:pt x="11336" y="15850"/>
                </a:cubicBezTo>
                <a:cubicBezTo>
                  <a:pt x="11292" y="15850"/>
                  <a:pt x="11280" y="15892"/>
                  <a:pt x="11261" y="15925"/>
                </a:cubicBezTo>
                <a:cubicBezTo>
                  <a:pt x="11228" y="15983"/>
                  <a:pt x="11231" y="16051"/>
                  <a:pt x="11286" y="16098"/>
                </a:cubicBezTo>
                <a:cubicBezTo>
                  <a:pt x="11352" y="16154"/>
                  <a:pt x="11476" y="16159"/>
                  <a:pt x="11534" y="16222"/>
                </a:cubicBezTo>
                <a:cubicBezTo>
                  <a:pt x="11576" y="16267"/>
                  <a:pt x="11599" y="16326"/>
                  <a:pt x="11559" y="16371"/>
                </a:cubicBezTo>
                <a:cubicBezTo>
                  <a:pt x="11515" y="16420"/>
                  <a:pt x="11449" y="16435"/>
                  <a:pt x="11385" y="16421"/>
                </a:cubicBezTo>
                <a:cubicBezTo>
                  <a:pt x="11323" y="16407"/>
                  <a:pt x="11270" y="16393"/>
                  <a:pt x="11212" y="16371"/>
                </a:cubicBezTo>
              </a:path>
              <a:path w="447" h="646">
                <a:moveTo>
                  <a:pt x="11584" y="15850"/>
                </a:moveTo>
                <a:cubicBezTo>
                  <a:pt x="11629" y="15811"/>
                  <a:pt x="11646" y="15811"/>
                  <a:pt x="11658" y="15776"/>
                </a:cubicBezTo>
                <a:cubicBezTo>
                  <a:pt x="11579" y="15776"/>
                  <a:pt x="11537" y="15811"/>
                  <a:pt x="11460" y="15825"/>
                </a:cubicBezTo>
                <a:cubicBezTo>
                  <a:pt x="11443" y="15825"/>
                  <a:pt x="11427" y="15825"/>
                  <a:pt x="11410" y="158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78080" y="6180120"/>
            <a:ext cx="90720" cy="98280"/>
          </a:xfrm>
          <a:custGeom>
            <a:avLst/>
            <a:gdLst/>
            <a:ahLst/>
            <a:rect l="l" t="t" r="r" b="b"/>
            <a:pathLst>
              <a:path w="250" h="274">
                <a:moveTo>
                  <a:pt x="9004" y="17190"/>
                </a:moveTo>
                <a:cubicBezTo>
                  <a:pt x="9012" y="17182"/>
                  <a:pt x="9021" y="17173"/>
                  <a:pt x="9029" y="17165"/>
                </a:cubicBezTo>
                <a:cubicBezTo>
                  <a:pt x="8959" y="17165"/>
                  <a:pt x="8884" y="17149"/>
                  <a:pt x="8830" y="17190"/>
                </a:cubicBezTo>
              </a:path>
              <a:path w="250" h="274">
                <a:moveTo>
                  <a:pt x="9079" y="17413"/>
                </a:moveTo>
                <a:cubicBezTo>
                  <a:pt x="9022" y="17413"/>
                  <a:pt x="9000" y="17422"/>
                  <a:pt x="8954" y="17438"/>
                </a:cubicBezTo>
                <a:cubicBezTo>
                  <a:pt x="8946" y="17438"/>
                  <a:pt x="8938" y="17438"/>
                  <a:pt x="8930" y="174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10000" y="6062760"/>
            <a:ext cx="303120" cy="260280"/>
          </a:xfrm>
          <a:custGeom>
            <a:avLst/>
            <a:gdLst/>
            <a:ahLst/>
            <a:rect l="l" t="t" r="r" b="b"/>
            <a:pathLst>
              <a:path w="845" h="721">
                <a:moveTo>
                  <a:pt x="9748" y="16991"/>
                </a:moveTo>
                <a:cubicBezTo>
                  <a:pt x="9748" y="16975"/>
                  <a:pt x="9748" y="16958"/>
                  <a:pt x="9748" y="16942"/>
                </a:cubicBezTo>
                <a:cubicBezTo>
                  <a:pt x="9748" y="17020"/>
                  <a:pt x="9758" y="17115"/>
                  <a:pt x="9773" y="17190"/>
                </a:cubicBezTo>
                <a:cubicBezTo>
                  <a:pt x="9798" y="17263"/>
                  <a:pt x="9806" y="17286"/>
                  <a:pt x="9798" y="17338"/>
                </a:cubicBezTo>
              </a:path>
              <a:path w="845" h="721">
                <a:moveTo>
                  <a:pt x="9971" y="16917"/>
                </a:moveTo>
                <a:cubicBezTo>
                  <a:pt x="10018" y="16870"/>
                  <a:pt x="10030" y="16856"/>
                  <a:pt x="10071" y="16842"/>
                </a:cubicBezTo>
                <a:cubicBezTo>
                  <a:pt x="10107" y="16938"/>
                  <a:pt x="10085" y="16967"/>
                  <a:pt x="10071" y="17066"/>
                </a:cubicBezTo>
                <a:cubicBezTo>
                  <a:pt x="10062" y="17129"/>
                  <a:pt x="10063" y="17209"/>
                  <a:pt x="10096" y="17264"/>
                </a:cubicBezTo>
                <a:cubicBezTo>
                  <a:pt x="10119" y="17302"/>
                  <a:pt x="10206" y="17300"/>
                  <a:pt x="10244" y="17289"/>
                </a:cubicBezTo>
                <a:cubicBezTo>
                  <a:pt x="10313" y="17270"/>
                  <a:pt x="10371" y="17245"/>
                  <a:pt x="10443" y="17239"/>
                </a:cubicBezTo>
                <a:cubicBezTo>
                  <a:pt x="10503" y="17234"/>
                  <a:pt x="10522" y="17249"/>
                  <a:pt x="10567" y="17264"/>
                </a:cubicBezTo>
                <a:cubicBezTo>
                  <a:pt x="10603" y="17276"/>
                  <a:pt x="10603" y="17277"/>
                  <a:pt x="10567" y="17289"/>
                </a:cubicBezTo>
              </a:path>
              <a:path w="845" h="721">
                <a:moveTo>
                  <a:pt x="10368" y="17190"/>
                </a:moveTo>
                <a:cubicBezTo>
                  <a:pt x="10352" y="17182"/>
                  <a:pt x="10335" y="17173"/>
                  <a:pt x="10319" y="17165"/>
                </a:cubicBezTo>
                <a:cubicBezTo>
                  <a:pt x="10281" y="17228"/>
                  <a:pt x="10304" y="17337"/>
                  <a:pt x="10319" y="17413"/>
                </a:cubicBezTo>
                <a:cubicBezTo>
                  <a:pt x="10344" y="17487"/>
                  <a:pt x="10352" y="17512"/>
                  <a:pt x="10368" y="175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75080" y="5759280"/>
            <a:ext cx="169920" cy="500400"/>
          </a:xfrm>
          <a:custGeom>
            <a:avLst/>
            <a:gdLst/>
            <a:ahLst/>
            <a:rect l="l" t="t" r="r" b="b"/>
            <a:pathLst>
              <a:path w="473" h="1390">
                <a:moveTo>
                  <a:pt x="12427" y="16148"/>
                </a:moveTo>
                <a:cubicBezTo>
                  <a:pt x="12427" y="16156"/>
                  <a:pt x="12427" y="16165"/>
                  <a:pt x="12427" y="16173"/>
                </a:cubicBezTo>
                <a:cubicBezTo>
                  <a:pt x="12336" y="16173"/>
                  <a:pt x="12245" y="16173"/>
                  <a:pt x="12154" y="16173"/>
                </a:cubicBezTo>
              </a:path>
              <a:path w="473" h="1390">
                <a:moveTo>
                  <a:pt x="12204" y="16024"/>
                </a:moveTo>
                <a:cubicBezTo>
                  <a:pt x="12274" y="15989"/>
                  <a:pt x="12264" y="16059"/>
                  <a:pt x="12278" y="16123"/>
                </a:cubicBezTo>
                <a:cubicBezTo>
                  <a:pt x="12299" y="16219"/>
                  <a:pt x="12303" y="16298"/>
                  <a:pt x="12303" y="16396"/>
                </a:cubicBezTo>
              </a:path>
              <a:path w="473" h="1390">
                <a:moveTo>
                  <a:pt x="12601" y="17115"/>
                </a:moveTo>
                <a:cubicBezTo>
                  <a:pt x="12657" y="17115"/>
                  <a:pt x="12570" y="17139"/>
                  <a:pt x="12551" y="17140"/>
                </a:cubicBezTo>
                <a:cubicBezTo>
                  <a:pt x="12461" y="17147"/>
                  <a:pt x="12368" y="17140"/>
                  <a:pt x="12278" y="17140"/>
                </a:cubicBezTo>
              </a:path>
              <a:path w="473" h="1390">
                <a:moveTo>
                  <a:pt x="12378" y="17016"/>
                </a:moveTo>
                <a:cubicBezTo>
                  <a:pt x="12386" y="17008"/>
                  <a:pt x="12394" y="16999"/>
                  <a:pt x="12402" y="16991"/>
                </a:cubicBezTo>
                <a:cubicBezTo>
                  <a:pt x="12417" y="17064"/>
                  <a:pt x="12452" y="17141"/>
                  <a:pt x="12477" y="17214"/>
                </a:cubicBezTo>
                <a:cubicBezTo>
                  <a:pt x="12499" y="17280"/>
                  <a:pt x="12502" y="17320"/>
                  <a:pt x="12502" y="173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05200" y="5688000"/>
            <a:ext cx="573120" cy="258840"/>
          </a:xfrm>
          <a:custGeom>
            <a:avLst/>
            <a:gdLst/>
            <a:ahLst/>
            <a:rect l="l" t="t" r="r" b="b"/>
            <a:pathLst>
              <a:path w="1589" h="720">
                <a:moveTo>
                  <a:pt x="13122" y="16049"/>
                </a:moveTo>
                <a:cubicBezTo>
                  <a:pt x="13099" y="16071"/>
                  <a:pt x="13094" y="16079"/>
                  <a:pt x="13072" y="16073"/>
                </a:cubicBezTo>
                <a:cubicBezTo>
                  <a:pt x="13086" y="16003"/>
                  <a:pt x="13135" y="15965"/>
                  <a:pt x="13196" y="15925"/>
                </a:cubicBezTo>
                <a:cubicBezTo>
                  <a:pt x="13271" y="15875"/>
                  <a:pt x="13320" y="15847"/>
                  <a:pt x="13370" y="15925"/>
                </a:cubicBezTo>
                <a:cubicBezTo>
                  <a:pt x="13409" y="15987"/>
                  <a:pt x="13362" y="16137"/>
                  <a:pt x="13320" y="16197"/>
                </a:cubicBezTo>
                <a:cubicBezTo>
                  <a:pt x="13253" y="16293"/>
                  <a:pt x="13180" y="16328"/>
                  <a:pt x="13146" y="16446"/>
                </a:cubicBezTo>
                <a:cubicBezTo>
                  <a:pt x="13146" y="16470"/>
                  <a:pt x="13146" y="16479"/>
                  <a:pt x="13146" y="16495"/>
                </a:cubicBezTo>
                <a:cubicBezTo>
                  <a:pt x="13216" y="16537"/>
                  <a:pt x="13247" y="16506"/>
                  <a:pt x="13320" y="16470"/>
                </a:cubicBezTo>
                <a:cubicBezTo>
                  <a:pt x="13369" y="16446"/>
                  <a:pt x="13449" y="16430"/>
                  <a:pt x="13494" y="16421"/>
                </a:cubicBezTo>
                <a:cubicBezTo>
                  <a:pt x="13535" y="16421"/>
                  <a:pt x="13543" y="16421"/>
                  <a:pt x="13568" y="16421"/>
                </a:cubicBezTo>
              </a:path>
              <a:path w="1589" h="720">
                <a:moveTo>
                  <a:pt x="13891" y="16421"/>
                </a:moveTo>
                <a:cubicBezTo>
                  <a:pt x="13891" y="16396"/>
                  <a:pt x="13891" y="16388"/>
                  <a:pt x="13891" y="16421"/>
                </a:cubicBezTo>
              </a:path>
              <a:path w="1589" h="720">
                <a:moveTo>
                  <a:pt x="14238" y="15850"/>
                </a:moveTo>
                <a:cubicBezTo>
                  <a:pt x="14238" y="15825"/>
                  <a:pt x="14238" y="15817"/>
                  <a:pt x="14263" y="15825"/>
                </a:cubicBezTo>
                <a:cubicBezTo>
                  <a:pt x="14217" y="15871"/>
                  <a:pt x="14194" y="15883"/>
                  <a:pt x="14188" y="15949"/>
                </a:cubicBezTo>
                <a:cubicBezTo>
                  <a:pt x="14184" y="16000"/>
                  <a:pt x="14176" y="16033"/>
                  <a:pt x="14238" y="16049"/>
                </a:cubicBezTo>
                <a:cubicBezTo>
                  <a:pt x="14310" y="16067"/>
                  <a:pt x="14392" y="16084"/>
                  <a:pt x="14461" y="16123"/>
                </a:cubicBezTo>
                <a:cubicBezTo>
                  <a:pt x="14505" y="16148"/>
                  <a:pt x="14531" y="16201"/>
                  <a:pt x="14536" y="16247"/>
                </a:cubicBezTo>
                <a:cubicBezTo>
                  <a:pt x="14543" y="16314"/>
                  <a:pt x="14458" y="16318"/>
                  <a:pt x="14412" y="16321"/>
                </a:cubicBezTo>
                <a:cubicBezTo>
                  <a:pt x="14379" y="16323"/>
                  <a:pt x="14345" y="16321"/>
                  <a:pt x="14312" y="16321"/>
                </a:cubicBezTo>
              </a:path>
              <a:path w="1589" h="720">
                <a:moveTo>
                  <a:pt x="14635" y="15825"/>
                </a:moveTo>
                <a:cubicBezTo>
                  <a:pt x="14643" y="15817"/>
                  <a:pt x="14652" y="15809"/>
                  <a:pt x="14660" y="15801"/>
                </a:cubicBezTo>
                <a:cubicBezTo>
                  <a:pt x="14585" y="15837"/>
                  <a:pt x="14511" y="15871"/>
                  <a:pt x="14436" y="15900"/>
                </a:cubicBezTo>
                <a:cubicBezTo>
                  <a:pt x="14428" y="15900"/>
                  <a:pt x="14420" y="15900"/>
                  <a:pt x="14412" y="159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29160" y="5715000"/>
            <a:ext cx="374760" cy="241200"/>
          </a:xfrm>
          <a:custGeom>
            <a:avLst/>
            <a:gdLst/>
            <a:ahLst/>
            <a:rect l="l" t="t" r="r" b="b"/>
            <a:pathLst>
              <a:path w="1043" h="671">
                <a:moveTo>
                  <a:pt x="15230" y="16049"/>
                </a:moveTo>
                <a:cubicBezTo>
                  <a:pt x="15263" y="16049"/>
                  <a:pt x="15296" y="16049"/>
                  <a:pt x="15329" y="16049"/>
                </a:cubicBezTo>
                <a:cubicBezTo>
                  <a:pt x="15313" y="16111"/>
                  <a:pt x="15273" y="16091"/>
                  <a:pt x="15230" y="16148"/>
                </a:cubicBezTo>
                <a:cubicBezTo>
                  <a:pt x="15199" y="16189"/>
                  <a:pt x="15127" y="16224"/>
                  <a:pt x="15106" y="16272"/>
                </a:cubicBezTo>
                <a:cubicBezTo>
                  <a:pt x="15106" y="16280"/>
                  <a:pt x="15106" y="16289"/>
                  <a:pt x="15106" y="16297"/>
                </a:cubicBezTo>
              </a:path>
              <a:path w="1043" h="671">
                <a:moveTo>
                  <a:pt x="15304" y="16272"/>
                </a:moveTo>
                <a:cubicBezTo>
                  <a:pt x="15364" y="16263"/>
                  <a:pt x="15365" y="16278"/>
                  <a:pt x="15379" y="16222"/>
                </a:cubicBezTo>
                <a:cubicBezTo>
                  <a:pt x="15324" y="16214"/>
                  <a:pt x="15261" y="16212"/>
                  <a:pt x="15205" y="16197"/>
                </a:cubicBezTo>
                <a:cubicBezTo>
                  <a:pt x="15156" y="16184"/>
                  <a:pt x="15134" y="16173"/>
                  <a:pt x="15081" y="16173"/>
                </a:cubicBezTo>
              </a:path>
              <a:path w="1043" h="671">
                <a:moveTo>
                  <a:pt x="15503" y="15925"/>
                </a:moveTo>
                <a:cubicBezTo>
                  <a:pt x="15609" y="15887"/>
                  <a:pt x="15611" y="15875"/>
                  <a:pt x="15701" y="15875"/>
                </a:cubicBezTo>
                <a:cubicBezTo>
                  <a:pt x="15701" y="15956"/>
                  <a:pt x="15686" y="16020"/>
                  <a:pt x="15677" y="16098"/>
                </a:cubicBezTo>
                <a:cubicBezTo>
                  <a:pt x="15669" y="16167"/>
                  <a:pt x="15654" y="16292"/>
                  <a:pt x="15701" y="16346"/>
                </a:cubicBezTo>
                <a:cubicBezTo>
                  <a:pt x="15754" y="16406"/>
                  <a:pt x="15816" y="16356"/>
                  <a:pt x="15875" y="16346"/>
                </a:cubicBezTo>
                <a:cubicBezTo>
                  <a:pt x="15929" y="16337"/>
                  <a:pt x="15978" y="16307"/>
                  <a:pt x="16024" y="16297"/>
                </a:cubicBezTo>
                <a:cubicBezTo>
                  <a:pt x="16070" y="16287"/>
                  <a:pt x="16112" y="16289"/>
                  <a:pt x="16123" y="16321"/>
                </a:cubicBezTo>
              </a:path>
              <a:path w="1043" h="671">
                <a:moveTo>
                  <a:pt x="16024" y="16297"/>
                </a:moveTo>
                <a:cubicBezTo>
                  <a:pt x="15985" y="16258"/>
                  <a:pt x="15983" y="16241"/>
                  <a:pt x="15949" y="16247"/>
                </a:cubicBezTo>
                <a:cubicBezTo>
                  <a:pt x="15912" y="16324"/>
                  <a:pt x="15923" y="16385"/>
                  <a:pt x="15949" y="16470"/>
                </a:cubicBezTo>
                <a:cubicBezTo>
                  <a:pt x="15957" y="16495"/>
                  <a:pt x="15966" y="16520"/>
                  <a:pt x="15974" y="165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00840" y="5653080"/>
            <a:ext cx="411120" cy="365040"/>
          </a:xfrm>
          <a:custGeom>
            <a:avLst/>
            <a:gdLst/>
            <a:ahLst/>
            <a:rect l="l" t="t" r="r" b="b"/>
            <a:pathLst>
              <a:path w="1142" h="1018">
                <a:moveTo>
                  <a:pt x="16818" y="16123"/>
                </a:moveTo>
                <a:cubicBezTo>
                  <a:pt x="16818" y="16106"/>
                  <a:pt x="16818" y="16090"/>
                  <a:pt x="16818" y="16073"/>
                </a:cubicBezTo>
                <a:cubicBezTo>
                  <a:pt x="16840" y="16084"/>
                  <a:pt x="16801" y="16155"/>
                  <a:pt x="16768" y="16197"/>
                </a:cubicBezTo>
                <a:cubicBezTo>
                  <a:pt x="16727" y="16249"/>
                  <a:pt x="16705" y="16298"/>
                  <a:pt x="16669" y="16346"/>
                </a:cubicBezTo>
              </a:path>
              <a:path w="1142" h="1018">
                <a:moveTo>
                  <a:pt x="16818" y="16321"/>
                </a:moveTo>
                <a:cubicBezTo>
                  <a:pt x="16826" y="16313"/>
                  <a:pt x="16834" y="16305"/>
                  <a:pt x="16842" y="16297"/>
                </a:cubicBezTo>
                <a:cubicBezTo>
                  <a:pt x="16794" y="16287"/>
                  <a:pt x="16755" y="16275"/>
                  <a:pt x="16718" y="16247"/>
                </a:cubicBezTo>
              </a:path>
              <a:path w="1142" h="1018">
                <a:moveTo>
                  <a:pt x="17289" y="15751"/>
                </a:moveTo>
                <a:cubicBezTo>
                  <a:pt x="17327" y="15712"/>
                  <a:pt x="17329" y="15695"/>
                  <a:pt x="17363" y="15701"/>
                </a:cubicBezTo>
                <a:cubicBezTo>
                  <a:pt x="17363" y="15789"/>
                  <a:pt x="17341" y="15862"/>
                  <a:pt x="17338" y="15949"/>
                </a:cubicBezTo>
                <a:cubicBezTo>
                  <a:pt x="17338" y="16025"/>
                  <a:pt x="17338" y="16051"/>
                  <a:pt x="17363" y="16098"/>
                </a:cubicBezTo>
              </a:path>
              <a:path w="1142" h="1018">
                <a:moveTo>
                  <a:pt x="17537" y="16247"/>
                </a:moveTo>
                <a:cubicBezTo>
                  <a:pt x="17545" y="16239"/>
                  <a:pt x="17554" y="16230"/>
                  <a:pt x="17562" y="16222"/>
                </a:cubicBezTo>
                <a:cubicBezTo>
                  <a:pt x="17457" y="16222"/>
                  <a:pt x="17362" y="16231"/>
                  <a:pt x="17264" y="16247"/>
                </a:cubicBezTo>
                <a:cubicBezTo>
                  <a:pt x="17223" y="16247"/>
                  <a:pt x="17215" y="16247"/>
                  <a:pt x="17190" y="16247"/>
                </a:cubicBezTo>
              </a:path>
              <a:path w="1142" h="1018">
                <a:moveTo>
                  <a:pt x="17388" y="16396"/>
                </a:moveTo>
                <a:cubicBezTo>
                  <a:pt x="17401" y="16434"/>
                  <a:pt x="17417" y="16421"/>
                  <a:pt x="17462" y="16421"/>
                </a:cubicBezTo>
                <a:cubicBezTo>
                  <a:pt x="17494" y="16421"/>
                  <a:pt x="17507" y="16404"/>
                  <a:pt x="17537" y="16396"/>
                </a:cubicBezTo>
                <a:cubicBezTo>
                  <a:pt x="17537" y="16450"/>
                  <a:pt x="17536" y="16469"/>
                  <a:pt x="17512" y="16520"/>
                </a:cubicBezTo>
                <a:cubicBezTo>
                  <a:pt x="17491" y="16565"/>
                  <a:pt x="17434" y="16639"/>
                  <a:pt x="17462" y="16694"/>
                </a:cubicBezTo>
                <a:cubicBezTo>
                  <a:pt x="17481" y="16730"/>
                  <a:pt x="17576" y="16726"/>
                  <a:pt x="17611" y="16718"/>
                </a:cubicBezTo>
                <a:cubicBezTo>
                  <a:pt x="17688" y="16701"/>
                  <a:pt x="17739" y="16651"/>
                  <a:pt x="17810" y="166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02120" y="6126120"/>
            <a:ext cx="223920" cy="268200"/>
          </a:xfrm>
          <a:custGeom>
            <a:avLst/>
            <a:gdLst/>
            <a:ahLst/>
            <a:rect l="l" t="t" r="r" b="b"/>
            <a:pathLst>
              <a:path w="621" h="745">
                <a:moveTo>
                  <a:pt x="13618" y="17190"/>
                </a:moveTo>
                <a:cubicBezTo>
                  <a:pt x="13653" y="17154"/>
                  <a:pt x="13692" y="17079"/>
                  <a:pt x="13692" y="17115"/>
                </a:cubicBezTo>
                <a:cubicBezTo>
                  <a:pt x="13692" y="17167"/>
                  <a:pt x="13628" y="17208"/>
                  <a:pt x="13618" y="17264"/>
                </a:cubicBezTo>
                <a:cubicBezTo>
                  <a:pt x="13604" y="17347"/>
                  <a:pt x="13627" y="17435"/>
                  <a:pt x="13717" y="17462"/>
                </a:cubicBezTo>
                <a:cubicBezTo>
                  <a:pt x="13800" y="17487"/>
                  <a:pt x="13883" y="17477"/>
                  <a:pt x="13965" y="17512"/>
                </a:cubicBezTo>
                <a:cubicBezTo>
                  <a:pt x="14005" y="17529"/>
                  <a:pt x="14068" y="17583"/>
                  <a:pt x="14039" y="17636"/>
                </a:cubicBezTo>
                <a:cubicBezTo>
                  <a:pt x="14006" y="17698"/>
                  <a:pt x="13919" y="17694"/>
                  <a:pt x="13866" y="17711"/>
                </a:cubicBezTo>
                <a:cubicBezTo>
                  <a:pt x="13812" y="17729"/>
                  <a:pt x="13767" y="17748"/>
                  <a:pt x="13717" y="17760"/>
                </a:cubicBezTo>
              </a:path>
              <a:path w="621" h="745">
                <a:moveTo>
                  <a:pt x="14188" y="17115"/>
                </a:moveTo>
                <a:cubicBezTo>
                  <a:pt x="14226" y="17059"/>
                  <a:pt x="14243" y="17056"/>
                  <a:pt x="14238" y="17016"/>
                </a:cubicBezTo>
                <a:cubicBezTo>
                  <a:pt x="14129" y="17028"/>
                  <a:pt x="14040" y="17067"/>
                  <a:pt x="13940" y="17115"/>
                </a:cubicBezTo>
                <a:cubicBezTo>
                  <a:pt x="13924" y="17123"/>
                  <a:pt x="13907" y="17132"/>
                  <a:pt x="13891" y="171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48200" y="6215040"/>
            <a:ext cx="90720" cy="54000"/>
          </a:xfrm>
          <a:custGeom>
            <a:avLst/>
            <a:gdLst/>
            <a:ahLst/>
            <a:rect l="l" t="t" r="r" b="b"/>
            <a:pathLst>
              <a:path w="249" h="150">
                <a:moveTo>
                  <a:pt x="16421" y="17264"/>
                </a:moveTo>
                <a:cubicBezTo>
                  <a:pt x="16446" y="17264"/>
                  <a:pt x="16454" y="17264"/>
                  <a:pt x="16470" y="17264"/>
                </a:cubicBezTo>
                <a:cubicBezTo>
                  <a:pt x="16552" y="17264"/>
                  <a:pt x="16372" y="17263"/>
                  <a:pt x="16371" y="17264"/>
                </a:cubicBezTo>
                <a:cubicBezTo>
                  <a:pt x="16327" y="17282"/>
                  <a:pt x="16300" y="17289"/>
                  <a:pt x="16247" y="17289"/>
                </a:cubicBezTo>
              </a:path>
              <a:path w="249" h="150">
                <a:moveTo>
                  <a:pt x="16470" y="17363"/>
                </a:moveTo>
                <a:cubicBezTo>
                  <a:pt x="16478" y="17363"/>
                  <a:pt x="16487" y="17363"/>
                  <a:pt x="16495" y="17363"/>
                </a:cubicBezTo>
                <a:cubicBezTo>
                  <a:pt x="16486" y="17391"/>
                  <a:pt x="16438" y="17402"/>
                  <a:pt x="16396" y="17413"/>
                </a:cubicBezTo>
                <a:cubicBezTo>
                  <a:pt x="16375" y="17418"/>
                  <a:pt x="16343" y="17413"/>
                  <a:pt x="16321" y="174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67320" y="6180120"/>
            <a:ext cx="276480" cy="241200"/>
          </a:xfrm>
          <a:custGeom>
            <a:avLst/>
            <a:gdLst/>
            <a:ahLst/>
            <a:rect l="l" t="t" r="r" b="b"/>
            <a:pathLst>
              <a:path w="770" h="671">
                <a:moveTo>
                  <a:pt x="17686" y="17214"/>
                </a:moveTo>
                <a:cubicBezTo>
                  <a:pt x="17686" y="17206"/>
                  <a:pt x="17686" y="17198"/>
                  <a:pt x="17686" y="17190"/>
                </a:cubicBezTo>
                <a:cubicBezTo>
                  <a:pt x="17703" y="17201"/>
                  <a:pt x="17730" y="17273"/>
                  <a:pt x="17735" y="17314"/>
                </a:cubicBezTo>
                <a:cubicBezTo>
                  <a:pt x="17753" y="17453"/>
                  <a:pt x="17741" y="17597"/>
                  <a:pt x="17760" y="17735"/>
                </a:cubicBezTo>
                <a:cubicBezTo>
                  <a:pt x="17760" y="17752"/>
                  <a:pt x="17760" y="17768"/>
                  <a:pt x="17760" y="17785"/>
                </a:cubicBezTo>
              </a:path>
              <a:path w="770" h="671">
                <a:moveTo>
                  <a:pt x="18355" y="17264"/>
                </a:moveTo>
                <a:cubicBezTo>
                  <a:pt x="18393" y="17236"/>
                  <a:pt x="18418" y="17250"/>
                  <a:pt x="18430" y="17214"/>
                </a:cubicBezTo>
                <a:cubicBezTo>
                  <a:pt x="18419" y="17183"/>
                  <a:pt x="18380" y="17156"/>
                  <a:pt x="18331" y="17165"/>
                </a:cubicBezTo>
                <a:cubicBezTo>
                  <a:pt x="18234" y="17183"/>
                  <a:pt x="18148" y="17206"/>
                  <a:pt x="18083" y="17289"/>
                </a:cubicBezTo>
                <a:cubicBezTo>
                  <a:pt x="18047" y="17335"/>
                  <a:pt x="18049" y="17454"/>
                  <a:pt x="18107" y="17487"/>
                </a:cubicBezTo>
                <a:cubicBezTo>
                  <a:pt x="18173" y="17524"/>
                  <a:pt x="18251" y="17429"/>
                  <a:pt x="18281" y="17388"/>
                </a:cubicBezTo>
                <a:cubicBezTo>
                  <a:pt x="18319" y="17335"/>
                  <a:pt x="18314" y="17281"/>
                  <a:pt x="18380" y="17264"/>
                </a:cubicBezTo>
                <a:cubicBezTo>
                  <a:pt x="18417" y="17375"/>
                  <a:pt x="18427" y="17491"/>
                  <a:pt x="18430" y="17611"/>
                </a:cubicBezTo>
                <a:cubicBezTo>
                  <a:pt x="18432" y="17701"/>
                  <a:pt x="18428" y="17754"/>
                  <a:pt x="18455" y="178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67360" y="6340320"/>
            <a:ext cx="320760" cy="88920"/>
          </a:xfrm>
          <a:custGeom>
            <a:avLst/>
            <a:gdLst/>
            <a:ahLst/>
            <a:rect l="l" t="t" r="r" b="b"/>
            <a:pathLst>
              <a:path w="894" h="249">
                <a:moveTo>
                  <a:pt x="19075" y="17686"/>
                </a:moveTo>
                <a:cubicBezTo>
                  <a:pt x="19082" y="17665"/>
                  <a:pt x="19100" y="17618"/>
                  <a:pt x="19100" y="17661"/>
                </a:cubicBezTo>
                <a:cubicBezTo>
                  <a:pt x="19100" y="17711"/>
                  <a:pt x="19100" y="17760"/>
                  <a:pt x="19100" y="17810"/>
                </a:cubicBezTo>
                <a:cubicBezTo>
                  <a:pt x="19129" y="17800"/>
                  <a:pt x="19151" y="17749"/>
                  <a:pt x="19174" y="17711"/>
                </a:cubicBezTo>
                <a:cubicBezTo>
                  <a:pt x="19205" y="17660"/>
                  <a:pt x="19217" y="17625"/>
                  <a:pt x="19273" y="17611"/>
                </a:cubicBezTo>
                <a:cubicBezTo>
                  <a:pt x="19280" y="17661"/>
                  <a:pt x="19302" y="17739"/>
                  <a:pt x="19323" y="17785"/>
                </a:cubicBezTo>
                <a:cubicBezTo>
                  <a:pt x="19331" y="17793"/>
                  <a:pt x="19340" y="17802"/>
                  <a:pt x="19348" y="17810"/>
                </a:cubicBezTo>
                <a:cubicBezTo>
                  <a:pt x="19393" y="17763"/>
                  <a:pt x="19409" y="17711"/>
                  <a:pt x="19447" y="17661"/>
                </a:cubicBezTo>
                <a:cubicBezTo>
                  <a:pt x="19485" y="17622"/>
                  <a:pt x="19487" y="17605"/>
                  <a:pt x="19521" y="17611"/>
                </a:cubicBezTo>
                <a:cubicBezTo>
                  <a:pt x="19578" y="17668"/>
                  <a:pt x="19610" y="17714"/>
                  <a:pt x="19645" y="17785"/>
                </a:cubicBezTo>
                <a:cubicBezTo>
                  <a:pt x="19667" y="17829"/>
                  <a:pt x="19670" y="17840"/>
                  <a:pt x="19695" y="17859"/>
                </a:cubicBezTo>
              </a:path>
              <a:path w="894" h="249">
                <a:moveTo>
                  <a:pt x="19943" y="17735"/>
                </a:moveTo>
                <a:cubicBezTo>
                  <a:pt x="19951" y="17719"/>
                  <a:pt x="19960" y="17702"/>
                  <a:pt x="19968" y="176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rcRect l="12969" t="4721" r="8740" b="34962"/>
          <a:stretch/>
        </p:blipFill>
        <p:spPr>
          <a:xfrm>
            <a:off x="0" y="0"/>
            <a:ext cx="646596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73080" y="1295280"/>
            <a:ext cx="1268640" cy="830520"/>
          </a:xfrm>
          <a:custGeom>
            <a:avLst/>
            <a:gdLst/>
            <a:ahLst/>
            <a:rect l="l" t="t" r="r" b="b"/>
            <a:pathLst>
              <a:path w="3523" h="2308">
                <a:moveTo>
                  <a:pt x="4911" y="3746"/>
                </a:moveTo>
                <a:cubicBezTo>
                  <a:pt x="4858" y="3728"/>
                  <a:pt x="4899" y="3721"/>
                  <a:pt x="4936" y="3721"/>
                </a:cubicBezTo>
                <a:cubicBezTo>
                  <a:pt x="4985" y="3721"/>
                  <a:pt x="5049" y="3796"/>
                  <a:pt x="5060" y="3845"/>
                </a:cubicBezTo>
                <a:cubicBezTo>
                  <a:pt x="5071" y="3892"/>
                  <a:pt x="5068" y="3933"/>
                  <a:pt x="5035" y="3944"/>
                </a:cubicBezTo>
                <a:cubicBezTo>
                  <a:pt x="4956" y="3928"/>
                  <a:pt x="4955" y="3904"/>
                  <a:pt x="4911" y="3845"/>
                </a:cubicBezTo>
                <a:cubicBezTo>
                  <a:pt x="4871" y="3791"/>
                  <a:pt x="4875" y="3705"/>
                  <a:pt x="4911" y="3646"/>
                </a:cubicBezTo>
                <a:cubicBezTo>
                  <a:pt x="4939" y="3599"/>
                  <a:pt x="4964" y="3604"/>
                  <a:pt x="5011" y="3597"/>
                </a:cubicBezTo>
                <a:cubicBezTo>
                  <a:pt x="5053" y="3650"/>
                  <a:pt x="5060" y="3678"/>
                  <a:pt x="5060" y="3746"/>
                </a:cubicBezTo>
                <a:cubicBezTo>
                  <a:pt x="5060" y="3805"/>
                  <a:pt x="5026" y="3816"/>
                  <a:pt x="4961" y="3820"/>
                </a:cubicBezTo>
                <a:cubicBezTo>
                  <a:pt x="4909" y="3823"/>
                  <a:pt x="4866" y="3801"/>
                  <a:pt x="4862" y="3746"/>
                </a:cubicBezTo>
                <a:cubicBezTo>
                  <a:pt x="4858" y="3689"/>
                  <a:pt x="4861" y="3665"/>
                  <a:pt x="4887" y="3621"/>
                </a:cubicBezTo>
                <a:cubicBezTo>
                  <a:pt x="4970" y="3621"/>
                  <a:pt x="5005" y="3655"/>
                  <a:pt x="5035" y="3746"/>
                </a:cubicBezTo>
                <a:cubicBezTo>
                  <a:pt x="5051" y="3795"/>
                  <a:pt x="5038" y="3857"/>
                  <a:pt x="5011" y="3894"/>
                </a:cubicBezTo>
                <a:cubicBezTo>
                  <a:pt x="4961" y="3869"/>
                  <a:pt x="4940" y="3831"/>
                  <a:pt x="4936" y="3770"/>
                </a:cubicBezTo>
                <a:cubicBezTo>
                  <a:pt x="4936" y="3762"/>
                  <a:pt x="4928" y="3609"/>
                  <a:pt x="4961" y="3646"/>
                </a:cubicBezTo>
                <a:cubicBezTo>
                  <a:pt x="5009" y="3700"/>
                  <a:pt x="5020" y="3739"/>
                  <a:pt x="4986" y="3795"/>
                </a:cubicBezTo>
              </a:path>
              <a:path w="3523" h="2308">
                <a:moveTo>
                  <a:pt x="6201" y="4192"/>
                </a:moveTo>
                <a:cubicBezTo>
                  <a:pt x="6209" y="4192"/>
                  <a:pt x="6218" y="4192"/>
                  <a:pt x="6226" y="4192"/>
                </a:cubicBezTo>
                <a:cubicBezTo>
                  <a:pt x="6186" y="4205"/>
                  <a:pt x="6216" y="4204"/>
                  <a:pt x="6176" y="4217"/>
                </a:cubicBezTo>
                <a:cubicBezTo>
                  <a:pt x="6166" y="4247"/>
                  <a:pt x="6156" y="4258"/>
                  <a:pt x="6127" y="4291"/>
                </a:cubicBezTo>
                <a:cubicBezTo>
                  <a:pt x="6104" y="4314"/>
                  <a:pt x="6096" y="4318"/>
                  <a:pt x="6102" y="4341"/>
                </a:cubicBezTo>
                <a:cubicBezTo>
                  <a:pt x="6073" y="4348"/>
                  <a:pt x="6057" y="4358"/>
                  <a:pt x="6028" y="4366"/>
                </a:cubicBezTo>
                <a:cubicBezTo>
                  <a:pt x="6018" y="4395"/>
                  <a:pt x="6007" y="4408"/>
                  <a:pt x="5978" y="4440"/>
                </a:cubicBezTo>
                <a:cubicBezTo>
                  <a:pt x="5955" y="4463"/>
                  <a:pt x="5951" y="4471"/>
                  <a:pt x="5928" y="4465"/>
                </a:cubicBezTo>
                <a:cubicBezTo>
                  <a:pt x="5916" y="4503"/>
                  <a:pt x="5899" y="4490"/>
                  <a:pt x="5854" y="4490"/>
                </a:cubicBezTo>
                <a:cubicBezTo>
                  <a:pt x="5841" y="4526"/>
                  <a:pt x="5823" y="4514"/>
                  <a:pt x="5779" y="4514"/>
                </a:cubicBezTo>
                <a:cubicBezTo>
                  <a:pt x="5695" y="4514"/>
                  <a:pt x="5627" y="4515"/>
                  <a:pt x="5556" y="4539"/>
                </a:cubicBezTo>
                <a:cubicBezTo>
                  <a:pt x="5531" y="4539"/>
                  <a:pt x="5523" y="4539"/>
                  <a:pt x="5507" y="4539"/>
                </a:cubicBezTo>
                <a:cubicBezTo>
                  <a:pt x="5494" y="4501"/>
                  <a:pt x="5477" y="4514"/>
                  <a:pt x="5432" y="4514"/>
                </a:cubicBezTo>
                <a:cubicBezTo>
                  <a:pt x="5391" y="4514"/>
                  <a:pt x="5419" y="4502"/>
                  <a:pt x="5383" y="4490"/>
                </a:cubicBezTo>
              </a:path>
              <a:path w="3523" h="2308">
                <a:moveTo>
                  <a:pt x="5606" y="5531"/>
                </a:moveTo>
                <a:cubicBezTo>
                  <a:pt x="5631" y="5531"/>
                  <a:pt x="5639" y="5531"/>
                  <a:pt x="5655" y="5531"/>
                </a:cubicBezTo>
                <a:cubicBezTo>
                  <a:pt x="5592" y="5531"/>
                  <a:pt x="5547" y="5509"/>
                  <a:pt x="5482" y="5507"/>
                </a:cubicBezTo>
                <a:cubicBezTo>
                  <a:pt x="5338" y="5502"/>
                  <a:pt x="5202" y="5522"/>
                  <a:pt x="5060" y="5531"/>
                </a:cubicBezTo>
                <a:cubicBezTo>
                  <a:pt x="4916" y="5540"/>
                  <a:pt x="4781" y="5564"/>
                  <a:pt x="4638" y="5581"/>
                </a:cubicBezTo>
                <a:cubicBezTo>
                  <a:pt x="4576" y="5588"/>
                  <a:pt x="4529" y="5606"/>
                  <a:pt x="4465" y="5606"/>
                </a:cubicBezTo>
              </a:path>
              <a:path w="3523" h="2308">
                <a:moveTo>
                  <a:pt x="3572" y="5482"/>
                </a:moveTo>
                <a:cubicBezTo>
                  <a:pt x="3580" y="5474"/>
                  <a:pt x="3589" y="5465"/>
                  <a:pt x="3597" y="5457"/>
                </a:cubicBezTo>
                <a:cubicBezTo>
                  <a:pt x="3586" y="5424"/>
                  <a:pt x="3518" y="5415"/>
                  <a:pt x="3473" y="5432"/>
                </a:cubicBezTo>
                <a:cubicBezTo>
                  <a:pt x="3429" y="5449"/>
                  <a:pt x="3364" y="5535"/>
                  <a:pt x="3349" y="5581"/>
                </a:cubicBezTo>
                <a:cubicBezTo>
                  <a:pt x="3337" y="5618"/>
                  <a:pt x="3364" y="5665"/>
                  <a:pt x="3398" y="5680"/>
                </a:cubicBezTo>
                <a:cubicBezTo>
                  <a:pt x="3450" y="5703"/>
                  <a:pt x="3514" y="5679"/>
                  <a:pt x="3572" y="5705"/>
                </a:cubicBezTo>
                <a:cubicBezTo>
                  <a:pt x="3634" y="5733"/>
                  <a:pt x="3675" y="5780"/>
                  <a:pt x="3646" y="5854"/>
                </a:cubicBezTo>
                <a:cubicBezTo>
                  <a:pt x="3630" y="5896"/>
                  <a:pt x="3562" y="5924"/>
                  <a:pt x="3522" y="5904"/>
                </a:cubicBezTo>
                <a:cubicBezTo>
                  <a:pt x="3459" y="5873"/>
                  <a:pt x="3507" y="5772"/>
                  <a:pt x="3522" y="5730"/>
                </a:cubicBezTo>
                <a:cubicBezTo>
                  <a:pt x="3547" y="5659"/>
                  <a:pt x="3570" y="5587"/>
                  <a:pt x="3621" y="5531"/>
                </a:cubicBezTo>
                <a:cubicBezTo>
                  <a:pt x="3649" y="5500"/>
                  <a:pt x="3713" y="5448"/>
                  <a:pt x="3721" y="5507"/>
                </a:cubicBezTo>
                <a:cubicBezTo>
                  <a:pt x="3726" y="5547"/>
                  <a:pt x="3746" y="5560"/>
                  <a:pt x="3746" y="5606"/>
                </a:cubicBezTo>
                <a:cubicBezTo>
                  <a:pt x="3775" y="5596"/>
                  <a:pt x="3788" y="5563"/>
                  <a:pt x="3820" y="5531"/>
                </a:cubicBezTo>
                <a:cubicBezTo>
                  <a:pt x="3863" y="5489"/>
                  <a:pt x="3910" y="5449"/>
                  <a:pt x="3969" y="5507"/>
                </a:cubicBezTo>
                <a:cubicBezTo>
                  <a:pt x="4019" y="5556"/>
                  <a:pt x="4034" y="5666"/>
                  <a:pt x="4018" y="5730"/>
                </a:cubicBezTo>
                <a:cubicBezTo>
                  <a:pt x="4007" y="5772"/>
                  <a:pt x="3915" y="5848"/>
                  <a:pt x="3870" y="5804"/>
                </a:cubicBezTo>
                <a:cubicBezTo>
                  <a:pt x="3845" y="5755"/>
                  <a:pt x="3836" y="5738"/>
                  <a:pt x="3820" y="5705"/>
                </a:cubicBezTo>
              </a:path>
              <a:path w="3523" h="2308">
                <a:moveTo>
                  <a:pt x="4093" y="5333"/>
                </a:moveTo>
                <a:cubicBezTo>
                  <a:pt x="4102" y="5307"/>
                  <a:pt x="4111" y="5287"/>
                  <a:pt x="4142" y="5283"/>
                </a:cubicBezTo>
                <a:cubicBezTo>
                  <a:pt x="4163" y="5280"/>
                  <a:pt x="4244" y="5331"/>
                  <a:pt x="4217" y="5358"/>
                </a:cubicBezTo>
                <a:cubicBezTo>
                  <a:pt x="4176" y="5378"/>
                  <a:pt x="4170" y="5387"/>
                  <a:pt x="4142" y="5383"/>
                </a:cubicBezTo>
              </a:path>
              <a:path w="3523" h="2308">
                <a:moveTo>
                  <a:pt x="5383" y="4316"/>
                </a:moveTo>
                <a:cubicBezTo>
                  <a:pt x="5475" y="4285"/>
                  <a:pt x="5342" y="4293"/>
                  <a:pt x="5283" y="4291"/>
                </a:cubicBezTo>
                <a:cubicBezTo>
                  <a:pt x="5090" y="4285"/>
                  <a:pt x="4905" y="4254"/>
                  <a:pt x="4713" y="4242"/>
                </a:cubicBezTo>
                <a:cubicBezTo>
                  <a:pt x="4464" y="4227"/>
                  <a:pt x="4215" y="4240"/>
                  <a:pt x="3969" y="4217"/>
                </a:cubicBezTo>
                <a:cubicBezTo>
                  <a:pt x="3903" y="4217"/>
                  <a:pt x="3886" y="4217"/>
                  <a:pt x="3845" y="4217"/>
                </a:cubicBezTo>
              </a:path>
              <a:path w="3523" h="2308">
                <a:moveTo>
                  <a:pt x="2778" y="4093"/>
                </a:moveTo>
                <a:cubicBezTo>
                  <a:pt x="2778" y="4076"/>
                  <a:pt x="2778" y="4060"/>
                  <a:pt x="2778" y="4043"/>
                </a:cubicBezTo>
                <a:cubicBezTo>
                  <a:pt x="2729" y="4105"/>
                  <a:pt x="2711" y="4187"/>
                  <a:pt x="2704" y="4266"/>
                </a:cubicBezTo>
                <a:cubicBezTo>
                  <a:pt x="2693" y="4378"/>
                  <a:pt x="2746" y="4507"/>
                  <a:pt x="2853" y="4539"/>
                </a:cubicBezTo>
                <a:cubicBezTo>
                  <a:pt x="2869" y="4539"/>
                  <a:pt x="2886" y="4539"/>
                  <a:pt x="2902" y="4539"/>
                </a:cubicBezTo>
                <a:cubicBezTo>
                  <a:pt x="2928" y="4480"/>
                  <a:pt x="2946" y="4444"/>
                  <a:pt x="2902" y="4390"/>
                </a:cubicBezTo>
                <a:cubicBezTo>
                  <a:pt x="2861" y="4340"/>
                  <a:pt x="2823" y="4390"/>
                  <a:pt x="2778" y="4415"/>
                </a:cubicBezTo>
              </a:path>
              <a:path w="3523" h="2308">
                <a:moveTo>
                  <a:pt x="2977" y="4068"/>
                </a:moveTo>
                <a:cubicBezTo>
                  <a:pt x="2977" y="4076"/>
                  <a:pt x="2977" y="4085"/>
                  <a:pt x="2977" y="4093"/>
                </a:cubicBezTo>
                <a:cubicBezTo>
                  <a:pt x="3024" y="4081"/>
                  <a:pt x="3035" y="4044"/>
                  <a:pt x="3076" y="4018"/>
                </a:cubicBezTo>
                <a:cubicBezTo>
                  <a:pt x="3130" y="3984"/>
                  <a:pt x="3175" y="3950"/>
                  <a:pt x="3225" y="3994"/>
                </a:cubicBezTo>
                <a:cubicBezTo>
                  <a:pt x="3292" y="4053"/>
                  <a:pt x="3233" y="4171"/>
                  <a:pt x="3225" y="4242"/>
                </a:cubicBezTo>
                <a:cubicBezTo>
                  <a:pt x="3217" y="4319"/>
                  <a:pt x="3190" y="4368"/>
                  <a:pt x="3175" y="4440"/>
                </a:cubicBezTo>
              </a:path>
              <a:path w="3523" h="2308">
                <a:moveTo>
                  <a:pt x="3473" y="3969"/>
                </a:moveTo>
                <a:cubicBezTo>
                  <a:pt x="3473" y="3913"/>
                  <a:pt x="3453" y="3935"/>
                  <a:pt x="3448" y="3894"/>
                </a:cubicBezTo>
                <a:cubicBezTo>
                  <a:pt x="3444" y="3860"/>
                  <a:pt x="3474" y="3823"/>
                  <a:pt x="3497" y="3820"/>
                </a:cubicBezTo>
                <a:cubicBezTo>
                  <a:pt x="3537" y="3815"/>
                  <a:pt x="3579" y="3830"/>
                  <a:pt x="3597" y="3870"/>
                </a:cubicBezTo>
                <a:cubicBezTo>
                  <a:pt x="3625" y="3931"/>
                  <a:pt x="3518" y="3919"/>
                  <a:pt x="3497" y="3919"/>
                </a:cubicBezTo>
                <a:cubicBezTo>
                  <a:pt x="3489" y="3919"/>
                  <a:pt x="3481" y="3919"/>
                  <a:pt x="3473" y="39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51120" y="615960"/>
            <a:ext cx="1170000" cy="1054080"/>
          </a:xfrm>
          <a:custGeom>
            <a:avLst/>
            <a:gdLst/>
            <a:ahLst/>
            <a:rect l="l" t="t" r="r" b="b"/>
            <a:pathLst>
              <a:path w="3250" h="2927">
                <a:moveTo>
                  <a:pt x="10716" y="3721"/>
                </a:moveTo>
                <a:cubicBezTo>
                  <a:pt x="10691" y="3721"/>
                  <a:pt x="10683" y="3721"/>
                  <a:pt x="10666" y="3721"/>
                </a:cubicBezTo>
                <a:cubicBezTo>
                  <a:pt x="10653" y="3681"/>
                  <a:pt x="10654" y="3711"/>
                  <a:pt x="10641" y="3671"/>
                </a:cubicBezTo>
                <a:cubicBezTo>
                  <a:pt x="10602" y="3658"/>
                  <a:pt x="10631" y="3659"/>
                  <a:pt x="10592" y="3646"/>
                </a:cubicBezTo>
                <a:cubicBezTo>
                  <a:pt x="10592" y="3604"/>
                  <a:pt x="10602" y="3608"/>
                  <a:pt x="10567" y="3597"/>
                </a:cubicBezTo>
                <a:cubicBezTo>
                  <a:pt x="10567" y="3551"/>
                  <a:pt x="10547" y="3538"/>
                  <a:pt x="10542" y="3497"/>
                </a:cubicBezTo>
                <a:cubicBezTo>
                  <a:pt x="10542" y="3489"/>
                  <a:pt x="10542" y="3481"/>
                  <a:pt x="10542" y="3473"/>
                </a:cubicBezTo>
                <a:cubicBezTo>
                  <a:pt x="10504" y="3460"/>
                  <a:pt x="10517" y="3443"/>
                  <a:pt x="10517" y="3398"/>
                </a:cubicBezTo>
                <a:cubicBezTo>
                  <a:pt x="10517" y="3348"/>
                  <a:pt x="10517" y="3299"/>
                  <a:pt x="10517" y="3249"/>
                </a:cubicBezTo>
                <a:cubicBezTo>
                  <a:pt x="10555" y="3237"/>
                  <a:pt x="10542" y="3220"/>
                  <a:pt x="10542" y="3175"/>
                </a:cubicBezTo>
                <a:cubicBezTo>
                  <a:pt x="10542" y="3132"/>
                  <a:pt x="10532" y="3137"/>
                  <a:pt x="10567" y="3125"/>
                </a:cubicBezTo>
              </a:path>
              <a:path w="3250" h="2927">
                <a:moveTo>
                  <a:pt x="8830" y="4514"/>
                </a:moveTo>
                <a:cubicBezTo>
                  <a:pt x="8806" y="4514"/>
                  <a:pt x="8797" y="4514"/>
                  <a:pt x="8781" y="4514"/>
                </a:cubicBezTo>
                <a:cubicBezTo>
                  <a:pt x="8765" y="4486"/>
                  <a:pt x="8747" y="4443"/>
                  <a:pt x="8731" y="4415"/>
                </a:cubicBezTo>
                <a:cubicBezTo>
                  <a:pt x="8710" y="4394"/>
                  <a:pt x="8702" y="4377"/>
                  <a:pt x="8682" y="4341"/>
                </a:cubicBezTo>
                <a:cubicBezTo>
                  <a:pt x="8639" y="4316"/>
                  <a:pt x="8632" y="4309"/>
                  <a:pt x="8607" y="4266"/>
                </a:cubicBezTo>
                <a:cubicBezTo>
                  <a:pt x="8582" y="4247"/>
                  <a:pt x="8566" y="4250"/>
                  <a:pt x="8533" y="4217"/>
                </a:cubicBezTo>
                <a:cubicBezTo>
                  <a:pt x="8503" y="4187"/>
                  <a:pt x="8464" y="4188"/>
                  <a:pt x="8434" y="4167"/>
                </a:cubicBezTo>
                <a:cubicBezTo>
                  <a:pt x="8393" y="4138"/>
                  <a:pt x="8384" y="4145"/>
                  <a:pt x="8334" y="4142"/>
                </a:cubicBezTo>
                <a:cubicBezTo>
                  <a:pt x="8237" y="4137"/>
                  <a:pt x="8145" y="4150"/>
                  <a:pt x="8062" y="4167"/>
                </a:cubicBezTo>
                <a:cubicBezTo>
                  <a:pt x="8038" y="4172"/>
                  <a:pt x="8011" y="4164"/>
                  <a:pt x="7987" y="4167"/>
                </a:cubicBezTo>
                <a:cubicBezTo>
                  <a:pt x="7967" y="4188"/>
                  <a:pt x="7948" y="4197"/>
                  <a:pt x="7913" y="4217"/>
                </a:cubicBezTo>
                <a:cubicBezTo>
                  <a:pt x="7897" y="4233"/>
                  <a:pt x="7867" y="4262"/>
                  <a:pt x="7838" y="4291"/>
                </a:cubicBezTo>
                <a:cubicBezTo>
                  <a:pt x="7804" y="4325"/>
                  <a:pt x="7786" y="4353"/>
                  <a:pt x="7764" y="4390"/>
                </a:cubicBezTo>
                <a:cubicBezTo>
                  <a:pt x="7744" y="4423"/>
                  <a:pt x="7743" y="4458"/>
                  <a:pt x="7714" y="4490"/>
                </a:cubicBezTo>
                <a:cubicBezTo>
                  <a:pt x="7676" y="4532"/>
                  <a:pt x="7709" y="4545"/>
                  <a:pt x="7689" y="4589"/>
                </a:cubicBezTo>
                <a:cubicBezTo>
                  <a:pt x="7674" y="4622"/>
                  <a:pt x="7681" y="4605"/>
                  <a:pt x="7665" y="4638"/>
                </a:cubicBezTo>
              </a:path>
              <a:path w="3250" h="2927">
                <a:moveTo>
                  <a:pt x="8855" y="3919"/>
                </a:moveTo>
                <a:cubicBezTo>
                  <a:pt x="8880" y="3919"/>
                  <a:pt x="8888" y="3919"/>
                  <a:pt x="8880" y="3894"/>
                </a:cubicBezTo>
                <a:cubicBezTo>
                  <a:pt x="8880" y="3993"/>
                  <a:pt x="8880" y="4093"/>
                  <a:pt x="8880" y="4192"/>
                </a:cubicBezTo>
              </a:path>
              <a:path w="3250" h="2927">
                <a:moveTo>
                  <a:pt x="9079" y="3845"/>
                </a:moveTo>
                <a:cubicBezTo>
                  <a:pt x="9101" y="3822"/>
                  <a:pt x="9106" y="3814"/>
                  <a:pt x="9128" y="3820"/>
                </a:cubicBezTo>
                <a:cubicBezTo>
                  <a:pt x="9128" y="3867"/>
                  <a:pt x="9108" y="3899"/>
                  <a:pt x="9103" y="3944"/>
                </a:cubicBezTo>
                <a:cubicBezTo>
                  <a:pt x="9099" y="3981"/>
                  <a:pt x="9088" y="4048"/>
                  <a:pt x="9128" y="4068"/>
                </a:cubicBezTo>
                <a:cubicBezTo>
                  <a:pt x="9179" y="4093"/>
                  <a:pt x="9199" y="4047"/>
                  <a:pt x="9227" y="4043"/>
                </a:cubicBezTo>
                <a:cubicBezTo>
                  <a:pt x="9244" y="4041"/>
                  <a:pt x="9309" y="3995"/>
                  <a:pt x="9327" y="4018"/>
                </a:cubicBezTo>
                <a:cubicBezTo>
                  <a:pt x="9327" y="4026"/>
                  <a:pt x="9327" y="4035"/>
                  <a:pt x="9327" y="4043"/>
                </a:cubicBezTo>
              </a:path>
              <a:path w="3250" h="2927">
                <a:moveTo>
                  <a:pt x="9227" y="3969"/>
                </a:moveTo>
                <a:cubicBezTo>
                  <a:pt x="9219" y="3969"/>
                  <a:pt x="9211" y="3969"/>
                  <a:pt x="9203" y="3969"/>
                </a:cubicBezTo>
                <a:cubicBezTo>
                  <a:pt x="9203" y="4052"/>
                  <a:pt x="9203" y="4134"/>
                  <a:pt x="9203" y="4217"/>
                </a:cubicBezTo>
              </a:path>
              <a:path w="3250" h="2927">
                <a:moveTo>
                  <a:pt x="9327" y="3845"/>
                </a:moveTo>
                <a:cubicBezTo>
                  <a:pt x="9351" y="3845"/>
                  <a:pt x="9360" y="3845"/>
                  <a:pt x="9376" y="3845"/>
                </a:cubicBezTo>
                <a:cubicBezTo>
                  <a:pt x="9384" y="3822"/>
                  <a:pt x="9419" y="3806"/>
                  <a:pt x="9451" y="3795"/>
                </a:cubicBezTo>
                <a:cubicBezTo>
                  <a:pt x="9477" y="3786"/>
                  <a:pt x="9523" y="3795"/>
                  <a:pt x="9550" y="3795"/>
                </a:cubicBezTo>
                <a:cubicBezTo>
                  <a:pt x="9550" y="3884"/>
                  <a:pt x="9540" y="3968"/>
                  <a:pt x="9525" y="4043"/>
                </a:cubicBezTo>
                <a:cubicBezTo>
                  <a:pt x="9525" y="4060"/>
                  <a:pt x="9525" y="4076"/>
                  <a:pt x="9525" y="4093"/>
                </a:cubicBezTo>
              </a:path>
              <a:path w="3250" h="2927">
                <a:moveTo>
                  <a:pt x="9773" y="3746"/>
                </a:moveTo>
                <a:cubicBezTo>
                  <a:pt x="9773" y="3700"/>
                  <a:pt x="9771" y="3677"/>
                  <a:pt x="9823" y="3671"/>
                </a:cubicBezTo>
                <a:cubicBezTo>
                  <a:pt x="9863" y="3666"/>
                  <a:pt x="9904" y="3681"/>
                  <a:pt x="9922" y="3721"/>
                </a:cubicBezTo>
                <a:cubicBezTo>
                  <a:pt x="9941" y="3764"/>
                  <a:pt x="9908" y="3791"/>
                  <a:pt x="9872" y="3795"/>
                </a:cubicBezTo>
                <a:cubicBezTo>
                  <a:pt x="9823" y="3800"/>
                  <a:pt x="9809" y="3791"/>
                  <a:pt x="9798" y="3746"/>
                </a:cubicBezTo>
              </a:path>
              <a:path w="3250" h="2927">
                <a:moveTo>
                  <a:pt x="10889" y="3299"/>
                </a:moveTo>
                <a:cubicBezTo>
                  <a:pt x="10874" y="3223"/>
                  <a:pt x="10825" y="3146"/>
                  <a:pt x="10790" y="3076"/>
                </a:cubicBezTo>
                <a:cubicBezTo>
                  <a:pt x="10715" y="2927"/>
                  <a:pt x="10630" y="2785"/>
                  <a:pt x="10567" y="2629"/>
                </a:cubicBezTo>
                <a:cubicBezTo>
                  <a:pt x="10548" y="2581"/>
                  <a:pt x="10527" y="2529"/>
                  <a:pt x="10517" y="2480"/>
                </a:cubicBezTo>
              </a:path>
              <a:path w="3250" h="2927">
                <a:moveTo>
                  <a:pt x="9872" y="2158"/>
                </a:moveTo>
                <a:cubicBezTo>
                  <a:pt x="9849" y="2135"/>
                  <a:pt x="9841" y="2131"/>
                  <a:pt x="9847" y="2108"/>
                </a:cubicBezTo>
                <a:cubicBezTo>
                  <a:pt x="9891" y="2123"/>
                  <a:pt x="9872" y="2179"/>
                  <a:pt x="9872" y="2232"/>
                </a:cubicBezTo>
                <a:cubicBezTo>
                  <a:pt x="9872" y="2316"/>
                  <a:pt x="9887" y="2377"/>
                  <a:pt x="9897" y="2456"/>
                </a:cubicBezTo>
              </a:path>
              <a:path w="3250" h="2927">
                <a:moveTo>
                  <a:pt x="10096" y="2084"/>
                </a:moveTo>
                <a:cubicBezTo>
                  <a:pt x="10096" y="2049"/>
                  <a:pt x="10102" y="2010"/>
                  <a:pt x="10120" y="1984"/>
                </a:cubicBezTo>
                <a:cubicBezTo>
                  <a:pt x="10140" y="1954"/>
                  <a:pt x="10204" y="1894"/>
                  <a:pt x="10244" y="1910"/>
                </a:cubicBezTo>
                <a:cubicBezTo>
                  <a:pt x="10298" y="1932"/>
                  <a:pt x="10308" y="2011"/>
                  <a:pt x="10294" y="2059"/>
                </a:cubicBezTo>
                <a:cubicBezTo>
                  <a:pt x="10276" y="2123"/>
                  <a:pt x="10246" y="2197"/>
                  <a:pt x="10220" y="2257"/>
                </a:cubicBezTo>
                <a:cubicBezTo>
                  <a:pt x="10196" y="2312"/>
                  <a:pt x="10195" y="2347"/>
                  <a:pt x="10195" y="2406"/>
                </a:cubicBezTo>
                <a:cubicBezTo>
                  <a:pt x="10195" y="2414"/>
                  <a:pt x="10195" y="2423"/>
                  <a:pt x="10195" y="2431"/>
                </a:cubicBezTo>
                <a:cubicBezTo>
                  <a:pt x="10248" y="2431"/>
                  <a:pt x="10265" y="2411"/>
                  <a:pt x="10319" y="2406"/>
                </a:cubicBezTo>
                <a:cubicBezTo>
                  <a:pt x="10374" y="2401"/>
                  <a:pt x="10423" y="2370"/>
                  <a:pt x="10468" y="2356"/>
                </a:cubicBezTo>
                <a:cubicBezTo>
                  <a:pt x="10476" y="2356"/>
                  <a:pt x="10484" y="2356"/>
                  <a:pt x="10492" y="2356"/>
                </a:cubicBezTo>
              </a:path>
              <a:path w="3250" h="2927">
                <a:moveTo>
                  <a:pt x="10592" y="1836"/>
                </a:moveTo>
                <a:cubicBezTo>
                  <a:pt x="10592" y="1777"/>
                  <a:pt x="10593" y="1767"/>
                  <a:pt x="10616" y="1736"/>
                </a:cubicBezTo>
                <a:cubicBezTo>
                  <a:pt x="10624" y="1728"/>
                  <a:pt x="10633" y="1720"/>
                  <a:pt x="10641" y="1712"/>
                </a:cubicBezTo>
                <a:cubicBezTo>
                  <a:pt x="10737" y="1731"/>
                  <a:pt x="10736" y="1767"/>
                  <a:pt x="10740" y="1860"/>
                </a:cubicBezTo>
                <a:cubicBezTo>
                  <a:pt x="10743" y="1914"/>
                  <a:pt x="10759" y="1979"/>
                  <a:pt x="10691" y="1984"/>
                </a:cubicBezTo>
                <a:cubicBezTo>
                  <a:pt x="10632" y="1988"/>
                  <a:pt x="10629" y="1973"/>
                  <a:pt x="10592" y="19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73720" y="928800"/>
            <a:ext cx="134640" cy="16992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12502" y="2902"/>
                </a:moveTo>
                <a:cubicBezTo>
                  <a:pt x="12494" y="2902"/>
                  <a:pt x="12485" y="2902"/>
                  <a:pt x="12477" y="2902"/>
                </a:cubicBezTo>
                <a:cubicBezTo>
                  <a:pt x="12488" y="2858"/>
                  <a:pt x="12522" y="2794"/>
                  <a:pt x="12551" y="2753"/>
                </a:cubicBezTo>
                <a:cubicBezTo>
                  <a:pt x="12590" y="2698"/>
                  <a:pt x="12653" y="2689"/>
                  <a:pt x="12700" y="2729"/>
                </a:cubicBezTo>
                <a:cubicBezTo>
                  <a:pt x="12762" y="2782"/>
                  <a:pt x="12815" y="2893"/>
                  <a:pt x="12799" y="2977"/>
                </a:cubicBezTo>
                <a:cubicBezTo>
                  <a:pt x="12774" y="3026"/>
                  <a:pt x="12766" y="3042"/>
                  <a:pt x="12725" y="3051"/>
                </a:cubicBezTo>
                <a:cubicBezTo>
                  <a:pt x="12640" y="3051"/>
                  <a:pt x="12583" y="3052"/>
                  <a:pt x="12526" y="2977"/>
                </a:cubicBezTo>
                <a:cubicBezTo>
                  <a:pt x="12471" y="2904"/>
                  <a:pt x="12501" y="2757"/>
                  <a:pt x="12526" y="2679"/>
                </a:cubicBezTo>
                <a:cubicBezTo>
                  <a:pt x="12556" y="2619"/>
                  <a:pt x="12574" y="2596"/>
                  <a:pt x="12626" y="2580"/>
                </a:cubicBezTo>
                <a:cubicBezTo>
                  <a:pt x="12729" y="2606"/>
                  <a:pt x="12759" y="2664"/>
                  <a:pt x="12774" y="2778"/>
                </a:cubicBezTo>
                <a:cubicBezTo>
                  <a:pt x="12783" y="2846"/>
                  <a:pt x="12781" y="2950"/>
                  <a:pt x="12700" y="2977"/>
                </a:cubicBezTo>
                <a:cubicBezTo>
                  <a:pt x="12629" y="3001"/>
                  <a:pt x="12540" y="2917"/>
                  <a:pt x="12526" y="2853"/>
                </a:cubicBezTo>
                <a:cubicBezTo>
                  <a:pt x="12511" y="2782"/>
                  <a:pt x="12530" y="2717"/>
                  <a:pt x="12551" y="2654"/>
                </a:cubicBezTo>
                <a:cubicBezTo>
                  <a:pt x="12649" y="2654"/>
                  <a:pt x="12669" y="2682"/>
                  <a:pt x="12700" y="2778"/>
                </a:cubicBezTo>
                <a:cubicBezTo>
                  <a:pt x="12731" y="2875"/>
                  <a:pt x="12731" y="2893"/>
                  <a:pt x="12700" y="2977"/>
                </a:cubicBezTo>
                <a:cubicBezTo>
                  <a:pt x="12600" y="3001"/>
                  <a:pt x="12531" y="2954"/>
                  <a:pt x="12477" y="2853"/>
                </a:cubicBezTo>
                <a:cubicBezTo>
                  <a:pt x="12447" y="2798"/>
                  <a:pt x="12434" y="2738"/>
                  <a:pt x="12427" y="2679"/>
                </a:cubicBezTo>
                <a:cubicBezTo>
                  <a:pt x="12504" y="2694"/>
                  <a:pt x="12522" y="2730"/>
                  <a:pt x="12551" y="2803"/>
                </a:cubicBezTo>
                <a:cubicBezTo>
                  <a:pt x="12570" y="2850"/>
                  <a:pt x="12560" y="2940"/>
                  <a:pt x="12526" y="2902"/>
                </a:cubicBezTo>
                <a:cubicBezTo>
                  <a:pt x="12502" y="2853"/>
                  <a:pt x="12493" y="2836"/>
                  <a:pt x="12452" y="28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18040" y="4330800"/>
            <a:ext cx="679320" cy="304560"/>
          </a:xfrm>
          <a:custGeom>
            <a:avLst/>
            <a:gdLst/>
            <a:ahLst/>
            <a:rect l="l" t="t" r="r" b="b"/>
            <a:pathLst>
              <a:path w="1886" h="845">
                <a:moveTo>
                  <a:pt x="14362" y="12129"/>
                </a:moveTo>
                <a:cubicBezTo>
                  <a:pt x="14436" y="12129"/>
                  <a:pt x="14501" y="12140"/>
                  <a:pt x="14560" y="12105"/>
                </a:cubicBezTo>
                <a:cubicBezTo>
                  <a:pt x="14543" y="12032"/>
                  <a:pt x="14511" y="12033"/>
                  <a:pt x="14436" y="12030"/>
                </a:cubicBezTo>
                <a:cubicBezTo>
                  <a:pt x="14316" y="12026"/>
                  <a:pt x="14152" y="12090"/>
                  <a:pt x="14064" y="12179"/>
                </a:cubicBezTo>
                <a:cubicBezTo>
                  <a:pt x="13992" y="12252"/>
                  <a:pt x="13989" y="12363"/>
                  <a:pt x="14064" y="12427"/>
                </a:cubicBezTo>
                <a:cubicBezTo>
                  <a:pt x="14144" y="12496"/>
                  <a:pt x="14270" y="12521"/>
                  <a:pt x="14312" y="12626"/>
                </a:cubicBezTo>
                <a:cubicBezTo>
                  <a:pt x="14342" y="12700"/>
                  <a:pt x="14288" y="12783"/>
                  <a:pt x="14213" y="12799"/>
                </a:cubicBezTo>
                <a:cubicBezTo>
                  <a:pt x="14102" y="12823"/>
                  <a:pt x="14022" y="12788"/>
                  <a:pt x="13940" y="12725"/>
                </a:cubicBezTo>
                <a:cubicBezTo>
                  <a:pt x="13940" y="12597"/>
                  <a:pt x="14002" y="12575"/>
                  <a:pt x="14114" y="12502"/>
                </a:cubicBezTo>
                <a:cubicBezTo>
                  <a:pt x="14236" y="12423"/>
                  <a:pt x="14389" y="12304"/>
                  <a:pt x="14536" y="12278"/>
                </a:cubicBezTo>
                <a:cubicBezTo>
                  <a:pt x="14597" y="12278"/>
                  <a:pt x="14613" y="12269"/>
                  <a:pt x="14635" y="12303"/>
                </a:cubicBezTo>
              </a:path>
              <a:path w="1886" h="845">
                <a:moveTo>
                  <a:pt x="14709" y="12502"/>
                </a:moveTo>
                <a:cubicBezTo>
                  <a:pt x="14740" y="12471"/>
                  <a:pt x="14786" y="12459"/>
                  <a:pt x="14808" y="12427"/>
                </a:cubicBezTo>
                <a:cubicBezTo>
                  <a:pt x="14849" y="12368"/>
                  <a:pt x="14972" y="12293"/>
                  <a:pt x="15056" y="12328"/>
                </a:cubicBezTo>
                <a:cubicBezTo>
                  <a:pt x="15174" y="12376"/>
                  <a:pt x="15191" y="12572"/>
                  <a:pt x="15180" y="12675"/>
                </a:cubicBezTo>
                <a:cubicBezTo>
                  <a:pt x="15167" y="12803"/>
                  <a:pt x="15127" y="12914"/>
                  <a:pt x="14982" y="12849"/>
                </a:cubicBezTo>
                <a:cubicBezTo>
                  <a:pt x="14851" y="12790"/>
                  <a:pt x="14806" y="12674"/>
                  <a:pt x="14759" y="12551"/>
                </a:cubicBezTo>
              </a:path>
              <a:path w="1886" h="845">
                <a:moveTo>
                  <a:pt x="15553" y="12204"/>
                </a:moveTo>
                <a:cubicBezTo>
                  <a:pt x="15553" y="12131"/>
                  <a:pt x="15539" y="12076"/>
                  <a:pt x="15627" y="12055"/>
                </a:cubicBezTo>
                <a:cubicBezTo>
                  <a:pt x="15709" y="12036"/>
                  <a:pt x="15762" y="12062"/>
                  <a:pt x="15801" y="12129"/>
                </a:cubicBezTo>
                <a:cubicBezTo>
                  <a:pt x="15852" y="12216"/>
                  <a:pt x="15820" y="12268"/>
                  <a:pt x="15726" y="12278"/>
                </a:cubicBezTo>
                <a:cubicBezTo>
                  <a:pt x="15668" y="12284"/>
                  <a:pt x="15644" y="12262"/>
                  <a:pt x="15602" y="122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56120" y="4973760"/>
            <a:ext cx="303120" cy="223560"/>
          </a:xfrm>
          <a:custGeom>
            <a:avLst/>
            <a:gdLst/>
            <a:ahLst/>
            <a:rect l="l" t="t" r="r" b="b"/>
            <a:pathLst>
              <a:path w="844" h="621">
                <a:moveTo>
                  <a:pt x="14139" y="13891"/>
                </a:moveTo>
                <a:cubicBezTo>
                  <a:pt x="14179" y="13871"/>
                  <a:pt x="14195" y="13872"/>
                  <a:pt x="14188" y="13841"/>
                </a:cubicBezTo>
                <a:cubicBezTo>
                  <a:pt x="14099" y="13823"/>
                  <a:pt x="14060" y="13813"/>
                  <a:pt x="13965" y="13841"/>
                </a:cubicBezTo>
                <a:cubicBezTo>
                  <a:pt x="13893" y="13863"/>
                  <a:pt x="13789" y="13881"/>
                  <a:pt x="13767" y="13965"/>
                </a:cubicBezTo>
                <a:cubicBezTo>
                  <a:pt x="13744" y="14054"/>
                  <a:pt x="13857" y="14086"/>
                  <a:pt x="13915" y="14114"/>
                </a:cubicBezTo>
                <a:cubicBezTo>
                  <a:pt x="13993" y="14151"/>
                  <a:pt x="14055" y="14204"/>
                  <a:pt x="14064" y="14288"/>
                </a:cubicBezTo>
                <a:cubicBezTo>
                  <a:pt x="14072" y="14357"/>
                  <a:pt x="14010" y="14403"/>
                  <a:pt x="13940" y="14387"/>
                </a:cubicBezTo>
                <a:cubicBezTo>
                  <a:pt x="13881" y="14374"/>
                  <a:pt x="13834" y="14325"/>
                  <a:pt x="13791" y="14288"/>
                </a:cubicBezTo>
                <a:cubicBezTo>
                  <a:pt x="13804" y="14234"/>
                  <a:pt x="13869" y="14199"/>
                  <a:pt x="13915" y="14163"/>
                </a:cubicBezTo>
                <a:cubicBezTo>
                  <a:pt x="14007" y="14091"/>
                  <a:pt x="14152" y="13981"/>
                  <a:pt x="14263" y="13940"/>
                </a:cubicBezTo>
                <a:cubicBezTo>
                  <a:pt x="14279" y="13940"/>
                  <a:pt x="14296" y="13940"/>
                  <a:pt x="14312" y="13940"/>
                </a:cubicBezTo>
              </a:path>
              <a:path w="844" h="621">
                <a:moveTo>
                  <a:pt x="14436" y="14139"/>
                </a:moveTo>
                <a:cubicBezTo>
                  <a:pt x="14380" y="14101"/>
                  <a:pt x="14387" y="14123"/>
                  <a:pt x="14387" y="14064"/>
                </a:cubicBezTo>
                <a:cubicBezTo>
                  <a:pt x="14435" y="14052"/>
                  <a:pt x="14475" y="13997"/>
                  <a:pt x="14536" y="14015"/>
                </a:cubicBezTo>
                <a:cubicBezTo>
                  <a:pt x="14601" y="14035"/>
                  <a:pt x="14608" y="14212"/>
                  <a:pt x="14610" y="14263"/>
                </a:cubicBezTo>
                <a:cubicBezTo>
                  <a:pt x="14613" y="14348"/>
                  <a:pt x="14606" y="14462"/>
                  <a:pt x="14486" y="14436"/>
                </a:cubicBezTo>
                <a:cubicBezTo>
                  <a:pt x="14396" y="14417"/>
                  <a:pt x="14372" y="14369"/>
                  <a:pt x="14362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402160" y="5000760"/>
            <a:ext cx="500040" cy="206280"/>
          </a:xfrm>
          <a:custGeom>
            <a:avLst/>
            <a:gdLst/>
            <a:ahLst/>
            <a:rect l="l" t="t" r="r" b="b"/>
            <a:pathLst>
              <a:path w="1390" h="571">
                <a:moveTo>
                  <a:pt x="15056" y="14337"/>
                </a:moveTo>
                <a:cubicBezTo>
                  <a:pt x="15035" y="14294"/>
                  <a:pt x="15031" y="14282"/>
                  <a:pt x="15007" y="14263"/>
                </a:cubicBezTo>
                <a:cubicBezTo>
                  <a:pt x="15090" y="14263"/>
                  <a:pt x="15172" y="14263"/>
                  <a:pt x="15255" y="14263"/>
                </a:cubicBezTo>
              </a:path>
              <a:path w="1390" h="571">
                <a:moveTo>
                  <a:pt x="15453" y="14064"/>
                </a:moveTo>
                <a:cubicBezTo>
                  <a:pt x="15465" y="13995"/>
                  <a:pt x="15463" y="14020"/>
                  <a:pt x="15503" y="13990"/>
                </a:cubicBezTo>
                <a:cubicBezTo>
                  <a:pt x="15548" y="13956"/>
                  <a:pt x="15592" y="13943"/>
                  <a:pt x="15652" y="13940"/>
                </a:cubicBezTo>
                <a:cubicBezTo>
                  <a:pt x="15699" y="13937"/>
                  <a:pt x="15797" y="13919"/>
                  <a:pt x="15825" y="13965"/>
                </a:cubicBezTo>
                <a:cubicBezTo>
                  <a:pt x="15867" y="14033"/>
                  <a:pt x="15787" y="14062"/>
                  <a:pt x="15751" y="14089"/>
                </a:cubicBezTo>
                <a:cubicBezTo>
                  <a:pt x="15711" y="14119"/>
                  <a:pt x="15658" y="14136"/>
                  <a:pt x="15652" y="14188"/>
                </a:cubicBezTo>
                <a:cubicBezTo>
                  <a:pt x="15648" y="14228"/>
                  <a:pt x="15700" y="14283"/>
                  <a:pt x="15726" y="14312"/>
                </a:cubicBezTo>
                <a:cubicBezTo>
                  <a:pt x="15750" y="14338"/>
                  <a:pt x="15799" y="14394"/>
                  <a:pt x="15776" y="14436"/>
                </a:cubicBezTo>
                <a:cubicBezTo>
                  <a:pt x="15751" y="14480"/>
                  <a:pt x="15670" y="14461"/>
                  <a:pt x="15627" y="14461"/>
                </a:cubicBezTo>
                <a:cubicBezTo>
                  <a:pt x="15602" y="14461"/>
                  <a:pt x="15594" y="14461"/>
                  <a:pt x="15577" y="14461"/>
                </a:cubicBezTo>
              </a:path>
              <a:path w="1390" h="571">
                <a:moveTo>
                  <a:pt x="15205" y="14139"/>
                </a:moveTo>
                <a:cubicBezTo>
                  <a:pt x="15205" y="14114"/>
                  <a:pt x="15205" y="14106"/>
                  <a:pt x="15230" y="14114"/>
                </a:cubicBezTo>
                <a:cubicBezTo>
                  <a:pt x="15176" y="14181"/>
                  <a:pt x="15180" y="14227"/>
                  <a:pt x="15180" y="14312"/>
                </a:cubicBezTo>
                <a:cubicBezTo>
                  <a:pt x="15180" y="14380"/>
                  <a:pt x="15177" y="14399"/>
                  <a:pt x="15205" y="14436"/>
                </a:cubicBezTo>
              </a:path>
              <a:path w="1390" h="571">
                <a:moveTo>
                  <a:pt x="16024" y="14064"/>
                </a:moveTo>
                <a:cubicBezTo>
                  <a:pt x="16002" y="14057"/>
                  <a:pt x="15979" y="14026"/>
                  <a:pt x="15999" y="13990"/>
                </a:cubicBezTo>
                <a:cubicBezTo>
                  <a:pt x="16024" y="13946"/>
                  <a:pt x="16101" y="13901"/>
                  <a:pt x="16148" y="13891"/>
                </a:cubicBezTo>
                <a:cubicBezTo>
                  <a:pt x="16216" y="13876"/>
                  <a:pt x="16252" y="13894"/>
                  <a:pt x="16297" y="13940"/>
                </a:cubicBezTo>
                <a:cubicBezTo>
                  <a:pt x="16346" y="13990"/>
                  <a:pt x="16308" y="14041"/>
                  <a:pt x="16272" y="14089"/>
                </a:cubicBezTo>
                <a:cubicBezTo>
                  <a:pt x="16248" y="14122"/>
                  <a:pt x="16204" y="14139"/>
                  <a:pt x="16222" y="14188"/>
                </a:cubicBezTo>
                <a:cubicBezTo>
                  <a:pt x="16247" y="14258"/>
                  <a:pt x="16295" y="14267"/>
                  <a:pt x="16346" y="14312"/>
                </a:cubicBezTo>
                <a:cubicBezTo>
                  <a:pt x="16395" y="14355"/>
                  <a:pt x="16415" y="14381"/>
                  <a:pt x="16371" y="14436"/>
                </a:cubicBezTo>
                <a:cubicBezTo>
                  <a:pt x="16330" y="14487"/>
                  <a:pt x="16296" y="14454"/>
                  <a:pt x="16247" y="144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34040" y="5000760"/>
            <a:ext cx="63720" cy="44280"/>
          </a:xfrm>
          <a:custGeom>
            <a:avLst/>
            <a:gdLst/>
            <a:ahLst/>
            <a:rect l="l" t="t" r="r" b="b"/>
            <a:pathLst>
              <a:path w="174" h="125">
                <a:moveTo>
                  <a:pt x="17214" y="13915"/>
                </a:moveTo>
                <a:cubicBezTo>
                  <a:pt x="17180" y="13890"/>
                  <a:pt x="17183" y="13891"/>
                  <a:pt x="17140" y="13891"/>
                </a:cubicBezTo>
              </a:path>
              <a:path w="174" h="125">
                <a:moveTo>
                  <a:pt x="17140" y="13965"/>
                </a:moveTo>
                <a:cubicBezTo>
                  <a:pt x="17148" y="13965"/>
                  <a:pt x="17157" y="13965"/>
                  <a:pt x="17165" y="13965"/>
                </a:cubicBezTo>
                <a:cubicBezTo>
                  <a:pt x="17153" y="14015"/>
                  <a:pt x="17141" y="14015"/>
                  <a:pt x="17090" y="14015"/>
                </a:cubicBezTo>
                <a:cubicBezTo>
                  <a:pt x="17074" y="14015"/>
                  <a:pt x="17057" y="14015"/>
                  <a:pt x="17041" y="140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7320" y="4919760"/>
            <a:ext cx="411480" cy="206280"/>
          </a:xfrm>
          <a:custGeom>
            <a:avLst/>
            <a:gdLst/>
            <a:ahLst/>
            <a:rect l="l" t="t" r="r" b="b"/>
            <a:pathLst>
              <a:path w="1142" h="572">
                <a:moveTo>
                  <a:pt x="17735" y="13742"/>
                </a:moveTo>
                <a:cubicBezTo>
                  <a:pt x="17715" y="13722"/>
                  <a:pt x="17694" y="13811"/>
                  <a:pt x="17686" y="13866"/>
                </a:cubicBezTo>
                <a:cubicBezTo>
                  <a:pt x="17673" y="13953"/>
                  <a:pt x="17686" y="14050"/>
                  <a:pt x="17686" y="14139"/>
                </a:cubicBezTo>
              </a:path>
              <a:path w="1142" h="572">
                <a:moveTo>
                  <a:pt x="17959" y="13940"/>
                </a:moveTo>
                <a:cubicBezTo>
                  <a:pt x="17959" y="13895"/>
                  <a:pt x="17953" y="13876"/>
                  <a:pt x="17983" y="13841"/>
                </a:cubicBezTo>
                <a:cubicBezTo>
                  <a:pt x="18035" y="13781"/>
                  <a:pt x="18115" y="13770"/>
                  <a:pt x="18182" y="13816"/>
                </a:cubicBezTo>
                <a:cubicBezTo>
                  <a:pt x="18245" y="13859"/>
                  <a:pt x="18294" y="13963"/>
                  <a:pt x="18281" y="14039"/>
                </a:cubicBezTo>
                <a:cubicBezTo>
                  <a:pt x="18265" y="14134"/>
                  <a:pt x="18195" y="14158"/>
                  <a:pt x="18107" y="14139"/>
                </a:cubicBezTo>
                <a:cubicBezTo>
                  <a:pt x="18033" y="14123"/>
                  <a:pt x="18008" y="14090"/>
                  <a:pt x="17959" y="14039"/>
                </a:cubicBezTo>
              </a:path>
              <a:path w="1142" h="572">
                <a:moveTo>
                  <a:pt x="18604" y="13816"/>
                </a:moveTo>
                <a:cubicBezTo>
                  <a:pt x="18576" y="13753"/>
                  <a:pt x="18566" y="13746"/>
                  <a:pt x="18604" y="13717"/>
                </a:cubicBezTo>
                <a:cubicBezTo>
                  <a:pt x="18639" y="13690"/>
                  <a:pt x="18728" y="13629"/>
                  <a:pt x="18777" y="13667"/>
                </a:cubicBezTo>
                <a:cubicBezTo>
                  <a:pt x="18834" y="13711"/>
                  <a:pt x="18828" y="13768"/>
                  <a:pt x="18802" y="13816"/>
                </a:cubicBezTo>
                <a:cubicBezTo>
                  <a:pt x="18769" y="13878"/>
                  <a:pt x="18707" y="13887"/>
                  <a:pt x="18678" y="13940"/>
                </a:cubicBezTo>
                <a:cubicBezTo>
                  <a:pt x="18657" y="13977"/>
                  <a:pt x="18701" y="14021"/>
                  <a:pt x="18728" y="14039"/>
                </a:cubicBezTo>
                <a:cubicBezTo>
                  <a:pt x="18774" y="14069"/>
                  <a:pt x="18832" y="14091"/>
                  <a:pt x="18802" y="14163"/>
                </a:cubicBezTo>
                <a:cubicBezTo>
                  <a:pt x="18777" y="14221"/>
                  <a:pt x="18655" y="14246"/>
                  <a:pt x="18604" y="14238"/>
                </a:cubicBezTo>
                <a:cubicBezTo>
                  <a:pt x="18579" y="14230"/>
                  <a:pt x="18554" y="14221"/>
                  <a:pt x="18529" y="142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49880" y="5375160"/>
            <a:ext cx="198360" cy="241560"/>
          </a:xfrm>
          <a:custGeom>
            <a:avLst/>
            <a:gdLst/>
            <a:ahLst/>
            <a:rect l="l" t="t" r="r" b="b"/>
            <a:pathLst>
              <a:path w="547" h="671">
                <a:moveTo>
                  <a:pt x="14610" y="15081"/>
                </a:moveTo>
                <a:cubicBezTo>
                  <a:pt x="14536" y="15081"/>
                  <a:pt x="14732" y="15081"/>
                  <a:pt x="14734" y="15081"/>
                </a:cubicBezTo>
                <a:cubicBezTo>
                  <a:pt x="14839" y="15081"/>
                  <a:pt x="14956" y="15076"/>
                  <a:pt x="15056" y="15106"/>
                </a:cubicBezTo>
                <a:cubicBezTo>
                  <a:pt x="15161" y="15138"/>
                  <a:pt x="15123" y="15211"/>
                  <a:pt x="15081" y="15280"/>
                </a:cubicBezTo>
                <a:cubicBezTo>
                  <a:pt x="15024" y="15374"/>
                  <a:pt x="14961" y="15451"/>
                  <a:pt x="14883" y="15528"/>
                </a:cubicBezTo>
                <a:cubicBezTo>
                  <a:pt x="14841" y="15569"/>
                  <a:pt x="14833" y="15577"/>
                  <a:pt x="14808" y="15602"/>
                </a:cubicBezTo>
              </a:path>
              <a:path w="547" h="671">
                <a:moveTo>
                  <a:pt x="14833" y="15081"/>
                </a:moveTo>
                <a:cubicBezTo>
                  <a:pt x="14845" y="15010"/>
                  <a:pt x="14871" y="15014"/>
                  <a:pt x="14908" y="15081"/>
                </a:cubicBezTo>
                <a:cubicBezTo>
                  <a:pt x="14953" y="15163"/>
                  <a:pt x="15009" y="15237"/>
                  <a:pt x="15032" y="15329"/>
                </a:cubicBezTo>
                <a:cubicBezTo>
                  <a:pt x="15032" y="15357"/>
                  <a:pt x="15034" y="15368"/>
                  <a:pt x="15056" y="15379"/>
                </a:cubicBezTo>
                <a:cubicBezTo>
                  <a:pt x="15056" y="15291"/>
                  <a:pt x="15029" y="15217"/>
                  <a:pt x="15007" y="15131"/>
                </a:cubicBezTo>
                <a:cubicBezTo>
                  <a:pt x="14988" y="15056"/>
                  <a:pt x="14983" y="15001"/>
                  <a:pt x="14957" y="14932"/>
                </a:cubicBezTo>
                <a:cubicBezTo>
                  <a:pt x="14969" y="15028"/>
                  <a:pt x="14966" y="15132"/>
                  <a:pt x="14982" y="15230"/>
                </a:cubicBezTo>
                <a:cubicBezTo>
                  <a:pt x="14991" y="15284"/>
                  <a:pt x="15042" y="15359"/>
                  <a:pt x="14982" y="15379"/>
                </a:cubicBezTo>
                <a:cubicBezTo>
                  <a:pt x="14945" y="15306"/>
                  <a:pt x="14909" y="15220"/>
                  <a:pt x="14858" y="15156"/>
                </a:cubicBezTo>
                <a:cubicBezTo>
                  <a:pt x="14816" y="15114"/>
                  <a:pt x="14808" y="15107"/>
                  <a:pt x="14784" y="15081"/>
                </a:cubicBezTo>
                <a:cubicBezTo>
                  <a:pt x="14737" y="15097"/>
                  <a:pt x="14759" y="15175"/>
                  <a:pt x="14759" y="15230"/>
                </a:cubicBezTo>
                <a:cubicBezTo>
                  <a:pt x="14759" y="15280"/>
                  <a:pt x="14759" y="15329"/>
                  <a:pt x="14759" y="15379"/>
                </a:cubicBezTo>
                <a:cubicBezTo>
                  <a:pt x="14688" y="15361"/>
                  <a:pt x="14690" y="15321"/>
                  <a:pt x="14660" y="15255"/>
                </a:cubicBezTo>
                <a:cubicBezTo>
                  <a:pt x="14638" y="15211"/>
                  <a:pt x="14635" y="15199"/>
                  <a:pt x="14610" y="15180"/>
                </a:cubicBezTo>
                <a:cubicBezTo>
                  <a:pt x="14610" y="15271"/>
                  <a:pt x="14610" y="15362"/>
                  <a:pt x="14610" y="154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53080" y="5330880"/>
            <a:ext cx="534960" cy="250920"/>
          </a:xfrm>
          <a:custGeom>
            <a:avLst/>
            <a:gdLst/>
            <a:ahLst/>
            <a:rect l="l" t="t" r="r" b="b"/>
            <a:pathLst>
              <a:path w="1490" h="696">
                <a:moveTo>
                  <a:pt x="15900" y="14982"/>
                </a:moveTo>
                <a:cubicBezTo>
                  <a:pt x="15960" y="14982"/>
                  <a:pt x="15950" y="14954"/>
                  <a:pt x="15999" y="14932"/>
                </a:cubicBezTo>
                <a:cubicBezTo>
                  <a:pt x="16032" y="14917"/>
                  <a:pt x="16024" y="14928"/>
                  <a:pt x="16024" y="14883"/>
                </a:cubicBezTo>
                <a:cubicBezTo>
                  <a:pt x="15951" y="14883"/>
                  <a:pt x="15926" y="14931"/>
                  <a:pt x="15875" y="14982"/>
                </a:cubicBezTo>
                <a:cubicBezTo>
                  <a:pt x="15784" y="15073"/>
                  <a:pt x="15697" y="15191"/>
                  <a:pt x="15701" y="15329"/>
                </a:cubicBezTo>
                <a:cubicBezTo>
                  <a:pt x="15704" y="15414"/>
                  <a:pt x="15751" y="15520"/>
                  <a:pt x="15850" y="15503"/>
                </a:cubicBezTo>
                <a:cubicBezTo>
                  <a:pt x="15955" y="15485"/>
                  <a:pt x="15980" y="15441"/>
                  <a:pt x="16024" y="15354"/>
                </a:cubicBezTo>
                <a:cubicBezTo>
                  <a:pt x="15970" y="15289"/>
                  <a:pt x="15920" y="15284"/>
                  <a:pt x="15825" y="15280"/>
                </a:cubicBezTo>
                <a:cubicBezTo>
                  <a:pt x="15774" y="15280"/>
                  <a:pt x="15756" y="15281"/>
                  <a:pt x="15726" y="15304"/>
                </a:cubicBezTo>
              </a:path>
              <a:path w="1490" h="696">
                <a:moveTo>
                  <a:pt x="16396" y="14982"/>
                </a:moveTo>
                <a:cubicBezTo>
                  <a:pt x="16449" y="14995"/>
                  <a:pt x="16481" y="15007"/>
                  <a:pt x="16545" y="15007"/>
                </a:cubicBezTo>
                <a:cubicBezTo>
                  <a:pt x="16613" y="15007"/>
                  <a:pt x="16664" y="14999"/>
                  <a:pt x="16718" y="15032"/>
                </a:cubicBezTo>
                <a:cubicBezTo>
                  <a:pt x="16704" y="15091"/>
                  <a:pt x="16640" y="15186"/>
                  <a:pt x="16594" y="15230"/>
                </a:cubicBezTo>
                <a:cubicBezTo>
                  <a:pt x="16516" y="15305"/>
                  <a:pt x="16471" y="15354"/>
                  <a:pt x="16421" y="15453"/>
                </a:cubicBezTo>
                <a:cubicBezTo>
                  <a:pt x="16401" y="15494"/>
                  <a:pt x="16382" y="15510"/>
                  <a:pt x="16421" y="15503"/>
                </a:cubicBezTo>
              </a:path>
              <a:path w="1490" h="696">
                <a:moveTo>
                  <a:pt x="17066" y="14883"/>
                </a:moveTo>
                <a:cubicBezTo>
                  <a:pt x="17066" y="14858"/>
                  <a:pt x="17066" y="14833"/>
                  <a:pt x="17066" y="14808"/>
                </a:cubicBezTo>
                <a:cubicBezTo>
                  <a:pt x="17104" y="14808"/>
                  <a:pt x="17170" y="14792"/>
                  <a:pt x="17190" y="14833"/>
                </a:cubicBezTo>
                <a:cubicBezTo>
                  <a:pt x="17217" y="14886"/>
                  <a:pt x="17173" y="14924"/>
                  <a:pt x="17140" y="14957"/>
                </a:cubicBezTo>
                <a:cubicBezTo>
                  <a:pt x="17104" y="14993"/>
                  <a:pt x="17064" y="14983"/>
                  <a:pt x="17041" y="14932"/>
                </a:cubicBezTo>
                <a:cubicBezTo>
                  <a:pt x="17041" y="14908"/>
                  <a:pt x="17041" y="14899"/>
                  <a:pt x="17041" y="148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49960" y="4919760"/>
            <a:ext cx="304920" cy="188640"/>
          </a:xfrm>
          <a:custGeom>
            <a:avLst/>
            <a:gdLst/>
            <a:ahLst/>
            <a:rect l="l" t="t" r="r" b="b"/>
            <a:pathLst>
              <a:path w="845" h="522">
                <a:moveTo>
                  <a:pt x="17512" y="13717"/>
                </a:moveTo>
                <a:cubicBezTo>
                  <a:pt x="17512" y="13777"/>
                  <a:pt x="17485" y="13784"/>
                  <a:pt x="17462" y="13841"/>
                </a:cubicBezTo>
                <a:cubicBezTo>
                  <a:pt x="17429" y="13923"/>
                  <a:pt x="17394" y="14002"/>
                  <a:pt x="17388" y="14089"/>
                </a:cubicBezTo>
                <a:cubicBezTo>
                  <a:pt x="17388" y="14117"/>
                  <a:pt x="17386" y="14128"/>
                  <a:pt x="17363" y="14139"/>
                </a:cubicBezTo>
              </a:path>
              <a:path w="845" h="522">
                <a:moveTo>
                  <a:pt x="17959" y="13965"/>
                </a:moveTo>
                <a:cubicBezTo>
                  <a:pt x="17969" y="13949"/>
                  <a:pt x="18033" y="13860"/>
                  <a:pt x="18058" y="13940"/>
                </a:cubicBezTo>
                <a:cubicBezTo>
                  <a:pt x="18077" y="14000"/>
                  <a:pt x="18049" y="14033"/>
                  <a:pt x="18083" y="14089"/>
                </a:cubicBezTo>
                <a:cubicBezTo>
                  <a:pt x="18083" y="14022"/>
                  <a:pt x="18076" y="13970"/>
                  <a:pt x="18107" y="13915"/>
                </a:cubicBezTo>
                <a:cubicBezTo>
                  <a:pt x="18173" y="13948"/>
                  <a:pt x="18178" y="14013"/>
                  <a:pt x="18182" y="14089"/>
                </a:cubicBezTo>
                <a:cubicBezTo>
                  <a:pt x="18185" y="14143"/>
                  <a:pt x="18229" y="14172"/>
                  <a:pt x="18182" y="14188"/>
                </a:cubicBezTo>
                <a:cubicBezTo>
                  <a:pt x="18173" y="14124"/>
                  <a:pt x="18157" y="14086"/>
                  <a:pt x="18157" y="14015"/>
                </a:cubicBezTo>
                <a:cubicBezTo>
                  <a:pt x="18157" y="13982"/>
                  <a:pt x="18157" y="13948"/>
                  <a:pt x="18157" y="13915"/>
                </a:cubicBezTo>
                <a:cubicBezTo>
                  <a:pt x="18166" y="13979"/>
                  <a:pt x="18182" y="14018"/>
                  <a:pt x="18182" y="14089"/>
                </a:cubicBezTo>
                <a:cubicBezTo>
                  <a:pt x="18182" y="14175"/>
                  <a:pt x="18171" y="14111"/>
                  <a:pt x="18157" y="14064"/>
                </a:cubicBezTo>
                <a:cubicBezTo>
                  <a:pt x="18134" y="13989"/>
                  <a:pt x="18107" y="13944"/>
                  <a:pt x="18107" y="13866"/>
                </a:cubicBezTo>
                <a:cubicBezTo>
                  <a:pt x="18107" y="13841"/>
                  <a:pt x="18107" y="13833"/>
                  <a:pt x="18107" y="13866"/>
                </a:cubicBezTo>
                <a:cubicBezTo>
                  <a:pt x="18138" y="13946"/>
                  <a:pt x="18138" y="13984"/>
                  <a:pt x="18107" y="14064"/>
                </a:cubicBezTo>
                <a:cubicBezTo>
                  <a:pt x="18040" y="14047"/>
                  <a:pt x="18048" y="13992"/>
                  <a:pt x="18008" y="13940"/>
                </a:cubicBezTo>
                <a:cubicBezTo>
                  <a:pt x="17965" y="13885"/>
                  <a:pt x="17930" y="13795"/>
                  <a:pt x="17959" y="13717"/>
                </a:cubicBezTo>
                <a:cubicBezTo>
                  <a:pt x="17983" y="13692"/>
                  <a:pt x="17991" y="13683"/>
                  <a:pt x="18008" y="13667"/>
                </a:cubicBezTo>
                <a:cubicBezTo>
                  <a:pt x="18036" y="13704"/>
                  <a:pt x="18050" y="13769"/>
                  <a:pt x="18058" y="13816"/>
                </a:cubicBezTo>
                <a:cubicBezTo>
                  <a:pt x="18069" y="13882"/>
                  <a:pt x="18064" y="13891"/>
                  <a:pt x="18008" y="13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11880" y="6170760"/>
            <a:ext cx="322200" cy="223560"/>
          </a:xfrm>
          <a:custGeom>
            <a:avLst/>
            <a:gdLst/>
            <a:ahLst/>
            <a:rect l="l" t="t" r="r" b="b"/>
            <a:pathLst>
              <a:path w="894" h="621">
                <a:moveTo>
                  <a:pt x="15032" y="17140"/>
                </a:moveTo>
                <a:cubicBezTo>
                  <a:pt x="15111" y="17180"/>
                  <a:pt x="15068" y="17256"/>
                  <a:pt x="15081" y="17338"/>
                </a:cubicBezTo>
                <a:cubicBezTo>
                  <a:pt x="15101" y="17462"/>
                  <a:pt x="15126" y="17591"/>
                  <a:pt x="15156" y="17711"/>
                </a:cubicBezTo>
              </a:path>
              <a:path w="894" h="621">
                <a:moveTo>
                  <a:pt x="15379" y="17363"/>
                </a:moveTo>
                <a:cubicBezTo>
                  <a:pt x="15414" y="17303"/>
                  <a:pt x="15421" y="17271"/>
                  <a:pt x="15478" y="17239"/>
                </a:cubicBezTo>
                <a:cubicBezTo>
                  <a:pt x="15527" y="17211"/>
                  <a:pt x="15618" y="17147"/>
                  <a:pt x="15677" y="17165"/>
                </a:cubicBezTo>
                <a:cubicBezTo>
                  <a:pt x="15760" y="17191"/>
                  <a:pt x="15718" y="17287"/>
                  <a:pt x="15701" y="17338"/>
                </a:cubicBezTo>
                <a:cubicBezTo>
                  <a:pt x="15667" y="17444"/>
                  <a:pt x="15622" y="17536"/>
                  <a:pt x="15577" y="17636"/>
                </a:cubicBezTo>
                <a:cubicBezTo>
                  <a:pt x="15555" y="17685"/>
                  <a:pt x="15553" y="17707"/>
                  <a:pt x="15553" y="17760"/>
                </a:cubicBezTo>
                <a:cubicBezTo>
                  <a:pt x="15608" y="17760"/>
                  <a:pt x="15623" y="17754"/>
                  <a:pt x="15677" y="17735"/>
                </a:cubicBezTo>
                <a:cubicBezTo>
                  <a:pt x="15762" y="17705"/>
                  <a:pt x="15836" y="17711"/>
                  <a:pt x="15925" y="177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803920" y="6116760"/>
            <a:ext cx="54000" cy="71280"/>
          </a:xfrm>
          <a:custGeom>
            <a:avLst/>
            <a:gdLst/>
            <a:ahLst/>
            <a:rect l="l" t="t" r="r" b="b"/>
            <a:pathLst>
              <a:path w="150" h="200">
                <a:moveTo>
                  <a:pt x="16148" y="17090"/>
                </a:moveTo>
                <a:cubicBezTo>
                  <a:pt x="16156" y="17035"/>
                  <a:pt x="16167" y="17009"/>
                  <a:pt x="16222" y="16991"/>
                </a:cubicBezTo>
                <a:cubicBezTo>
                  <a:pt x="16303" y="16964"/>
                  <a:pt x="16263" y="17089"/>
                  <a:pt x="16247" y="17115"/>
                </a:cubicBezTo>
                <a:cubicBezTo>
                  <a:pt x="16226" y="17148"/>
                  <a:pt x="16184" y="17186"/>
                  <a:pt x="16148" y="17190"/>
                </a:cubicBezTo>
                <a:cubicBezTo>
                  <a:pt x="16140" y="17190"/>
                  <a:pt x="16131" y="17190"/>
                  <a:pt x="16123" y="171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01880" y="1874880"/>
            <a:ext cx="384120" cy="98280"/>
          </a:xfrm>
          <a:custGeom>
            <a:avLst/>
            <a:gdLst/>
            <a:ahLst/>
            <a:rect l="l" t="t" r="r" b="b"/>
            <a:pathLst>
              <a:path w="1068" h="274">
                <a:moveTo>
                  <a:pt x="6350" y="5482"/>
                </a:moveTo>
                <a:cubicBezTo>
                  <a:pt x="6350" y="5457"/>
                  <a:pt x="6350" y="5449"/>
                  <a:pt x="6350" y="5432"/>
                </a:cubicBezTo>
                <a:cubicBezTo>
                  <a:pt x="6310" y="5419"/>
                  <a:pt x="6340" y="5420"/>
                  <a:pt x="6300" y="5407"/>
                </a:cubicBezTo>
                <a:cubicBezTo>
                  <a:pt x="6287" y="5368"/>
                  <a:pt x="6289" y="5398"/>
                  <a:pt x="6276" y="5358"/>
                </a:cubicBezTo>
                <a:cubicBezTo>
                  <a:pt x="6236" y="5345"/>
                  <a:pt x="6266" y="5346"/>
                  <a:pt x="6226" y="5333"/>
                </a:cubicBezTo>
                <a:cubicBezTo>
                  <a:pt x="6208" y="5279"/>
                  <a:pt x="6195" y="5332"/>
                  <a:pt x="6152" y="5308"/>
                </a:cubicBezTo>
                <a:cubicBezTo>
                  <a:pt x="6111" y="5285"/>
                  <a:pt x="6103" y="5283"/>
                  <a:pt x="6052" y="5283"/>
                </a:cubicBezTo>
                <a:cubicBezTo>
                  <a:pt x="6014" y="5283"/>
                  <a:pt x="5997" y="5259"/>
                  <a:pt x="5953" y="5259"/>
                </a:cubicBezTo>
                <a:cubicBezTo>
                  <a:pt x="5903" y="5259"/>
                  <a:pt x="5854" y="5259"/>
                  <a:pt x="5804" y="5259"/>
                </a:cubicBezTo>
                <a:cubicBezTo>
                  <a:pt x="5791" y="5221"/>
                  <a:pt x="5775" y="5234"/>
                  <a:pt x="5730" y="5234"/>
                </a:cubicBezTo>
                <a:cubicBezTo>
                  <a:pt x="5684" y="5234"/>
                  <a:pt x="5671" y="5214"/>
                  <a:pt x="5631" y="5209"/>
                </a:cubicBezTo>
                <a:cubicBezTo>
                  <a:pt x="5556" y="5201"/>
                  <a:pt x="5493" y="5214"/>
                  <a:pt x="5432" y="5234"/>
                </a:cubicBezTo>
                <a:cubicBezTo>
                  <a:pt x="5384" y="5250"/>
                  <a:pt x="5334" y="5246"/>
                  <a:pt x="5308" y="5259"/>
                </a:cubicBezTo>
                <a:cubicBezTo>
                  <a:pt x="5283" y="5259"/>
                  <a:pt x="5275" y="5259"/>
                  <a:pt x="5308" y="52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66960" y="196920"/>
            <a:ext cx="2705040" cy="1116000"/>
          </a:xfrm>
          <a:custGeom>
            <a:avLst/>
            <a:gdLst/>
            <a:ahLst/>
            <a:rect l="l" t="t" r="r" b="b"/>
            <a:pathLst>
              <a:path w="7517" h="3101">
                <a:moveTo>
                  <a:pt x="12675" y="2679"/>
                </a:moveTo>
                <a:cubicBezTo>
                  <a:pt x="12675" y="2636"/>
                  <a:pt x="12706" y="2556"/>
                  <a:pt x="12700" y="2530"/>
                </a:cubicBezTo>
                <a:cubicBezTo>
                  <a:pt x="12689" y="2485"/>
                  <a:pt x="12650" y="2451"/>
                  <a:pt x="12626" y="2406"/>
                </a:cubicBezTo>
                <a:cubicBezTo>
                  <a:pt x="12600" y="2357"/>
                  <a:pt x="12561" y="2303"/>
                  <a:pt x="12526" y="2257"/>
                </a:cubicBezTo>
                <a:cubicBezTo>
                  <a:pt x="12483" y="2200"/>
                  <a:pt x="12445" y="2141"/>
                  <a:pt x="12402" y="2084"/>
                </a:cubicBezTo>
                <a:cubicBezTo>
                  <a:pt x="12375" y="2049"/>
                  <a:pt x="12357" y="2022"/>
                  <a:pt x="12328" y="1984"/>
                </a:cubicBezTo>
                <a:cubicBezTo>
                  <a:pt x="12241" y="1872"/>
                  <a:pt x="12136" y="1800"/>
                  <a:pt x="12030" y="1712"/>
                </a:cubicBezTo>
                <a:cubicBezTo>
                  <a:pt x="11978" y="1669"/>
                  <a:pt x="11938" y="1630"/>
                  <a:pt x="11881" y="1588"/>
                </a:cubicBezTo>
                <a:cubicBezTo>
                  <a:pt x="11845" y="1561"/>
                  <a:pt x="11819" y="1546"/>
                  <a:pt x="11782" y="1513"/>
                </a:cubicBezTo>
                <a:cubicBezTo>
                  <a:pt x="11735" y="1470"/>
                  <a:pt x="11683" y="1401"/>
                  <a:pt x="11633" y="1364"/>
                </a:cubicBezTo>
                <a:cubicBezTo>
                  <a:pt x="11612" y="1349"/>
                  <a:pt x="11564" y="1335"/>
                  <a:pt x="11534" y="1315"/>
                </a:cubicBezTo>
                <a:cubicBezTo>
                  <a:pt x="11452" y="1259"/>
                  <a:pt x="11355" y="1207"/>
                  <a:pt x="11286" y="1166"/>
                </a:cubicBezTo>
                <a:cubicBezTo>
                  <a:pt x="11243" y="1141"/>
                  <a:pt x="11207" y="1116"/>
                  <a:pt x="11162" y="1091"/>
                </a:cubicBezTo>
                <a:cubicBezTo>
                  <a:pt x="11087" y="1051"/>
                  <a:pt x="11015" y="1000"/>
                  <a:pt x="10939" y="967"/>
                </a:cubicBezTo>
                <a:cubicBezTo>
                  <a:pt x="10902" y="951"/>
                  <a:pt x="10853" y="933"/>
                  <a:pt x="10815" y="918"/>
                </a:cubicBezTo>
                <a:cubicBezTo>
                  <a:pt x="10768" y="899"/>
                  <a:pt x="10709" y="887"/>
                  <a:pt x="10666" y="868"/>
                </a:cubicBezTo>
                <a:cubicBezTo>
                  <a:pt x="10645" y="859"/>
                  <a:pt x="10595" y="820"/>
                  <a:pt x="10592" y="819"/>
                </a:cubicBezTo>
                <a:cubicBezTo>
                  <a:pt x="10559" y="807"/>
                  <a:pt x="10524" y="805"/>
                  <a:pt x="10492" y="794"/>
                </a:cubicBezTo>
                <a:cubicBezTo>
                  <a:pt x="10448" y="779"/>
                  <a:pt x="10390" y="755"/>
                  <a:pt x="10344" y="744"/>
                </a:cubicBezTo>
                <a:cubicBezTo>
                  <a:pt x="10305" y="735"/>
                  <a:pt x="10280" y="731"/>
                  <a:pt x="10244" y="719"/>
                </a:cubicBezTo>
                <a:cubicBezTo>
                  <a:pt x="10210" y="708"/>
                  <a:pt x="10178" y="706"/>
                  <a:pt x="10145" y="695"/>
                </a:cubicBezTo>
                <a:cubicBezTo>
                  <a:pt x="10086" y="676"/>
                  <a:pt x="10032" y="657"/>
                  <a:pt x="9971" y="645"/>
                </a:cubicBezTo>
                <a:cubicBezTo>
                  <a:pt x="9920" y="635"/>
                  <a:pt x="9868" y="627"/>
                  <a:pt x="9823" y="620"/>
                </a:cubicBezTo>
                <a:cubicBezTo>
                  <a:pt x="9741" y="607"/>
                  <a:pt x="9658" y="600"/>
                  <a:pt x="9575" y="595"/>
                </a:cubicBezTo>
                <a:cubicBezTo>
                  <a:pt x="9458" y="588"/>
                  <a:pt x="9339" y="576"/>
                  <a:pt x="9227" y="571"/>
                </a:cubicBezTo>
                <a:cubicBezTo>
                  <a:pt x="9144" y="567"/>
                  <a:pt x="8998" y="548"/>
                  <a:pt x="8954" y="546"/>
                </a:cubicBezTo>
                <a:cubicBezTo>
                  <a:pt x="8788" y="538"/>
                  <a:pt x="8658" y="569"/>
                  <a:pt x="8508" y="595"/>
                </a:cubicBezTo>
                <a:cubicBezTo>
                  <a:pt x="8456" y="604"/>
                  <a:pt x="8410" y="606"/>
                  <a:pt x="8359" y="620"/>
                </a:cubicBezTo>
                <a:cubicBezTo>
                  <a:pt x="8315" y="632"/>
                  <a:pt x="8276" y="634"/>
                  <a:pt x="8235" y="645"/>
                </a:cubicBezTo>
                <a:cubicBezTo>
                  <a:pt x="8197" y="655"/>
                  <a:pt x="8157" y="685"/>
                  <a:pt x="8111" y="695"/>
                </a:cubicBezTo>
                <a:cubicBezTo>
                  <a:pt x="8066" y="705"/>
                  <a:pt x="8028" y="710"/>
                  <a:pt x="7987" y="719"/>
                </a:cubicBezTo>
                <a:cubicBezTo>
                  <a:pt x="7941" y="729"/>
                  <a:pt x="7908" y="732"/>
                  <a:pt x="7863" y="744"/>
                </a:cubicBezTo>
                <a:cubicBezTo>
                  <a:pt x="7815" y="757"/>
                  <a:pt x="7768" y="783"/>
                  <a:pt x="7714" y="794"/>
                </a:cubicBezTo>
                <a:cubicBezTo>
                  <a:pt x="7648" y="808"/>
                  <a:pt x="7581" y="804"/>
                  <a:pt x="7516" y="819"/>
                </a:cubicBezTo>
                <a:cubicBezTo>
                  <a:pt x="7428" y="839"/>
                  <a:pt x="7355" y="843"/>
                  <a:pt x="7268" y="868"/>
                </a:cubicBezTo>
                <a:cubicBezTo>
                  <a:pt x="7214" y="884"/>
                  <a:pt x="7175" y="901"/>
                  <a:pt x="7119" y="918"/>
                </a:cubicBezTo>
                <a:cubicBezTo>
                  <a:pt x="7060" y="935"/>
                  <a:pt x="7003" y="942"/>
                  <a:pt x="6945" y="967"/>
                </a:cubicBezTo>
                <a:cubicBezTo>
                  <a:pt x="6899" y="987"/>
                  <a:pt x="6844" y="1019"/>
                  <a:pt x="6796" y="1042"/>
                </a:cubicBezTo>
                <a:cubicBezTo>
                  <a:pt x="6746" y="1066"/>
                  <a:pt x="6701" y="1082"/>
                  <a:pt x="6648" y="1116"/>
                </a:cubicBezTo>
                <a:cubicBezTo>
                  <a:pt x="6606" y="1144"/>
                  <a:pt x="6559" y="1185"/>
                  <a:pt x="6524" y="1215"/>
                </a:cubicBezTo>
                <a:cubicBezTo>
                  <a:pt x="6495" y="1240"/>
                  <a:pt x="6470" y="1271"/>
                  <a:pt x="6449" y="1290"/>
                </a:cubicBezTo>
                <a:cubicBezTo>
                  <a:pt x="6399" y="1335"/>
                  <a:pt x="6361" y="1395"/>
                  <a:pt x="6325" y="1439"/>
                </a:cubicBezTo>
                <a:cubicBezTo>
                  <a:pt x="6276" y="1499"/>
                  <a:pt x="6222" y="1535"/>
                  <a:pt x="6176" y="1588"/>
                </a:cubicBezTo>
                <a:cubicBezTo>
                  <a:pt x="6122" y="1651"/>
                  <a:pt x="6089" y="1699"/>
                  <a:pt x="6028" y="1761"/>
                </a:cubicBezTo>
                <a:cubicBezTo>
                  <a:pt x="5948" y="1842"/>
                  <a:pt x="5864" y="1889"/>
                  <a:pt x="5779" y="1960"/>
                </a:cubicBezTo>
                <a:cubicBezTo>
                  <a:pt x="5713" y="2016"/>
                  <a:pt x="5641" y="2073"/>
                  <a:pt x="5581" y="2133"/>
                </a:cubicBezTo>
                <a:cubicBezTo>
                  <a:pt x="5536" y="2178"/>
                  <a:pt x="5505" y="2207"/>
                  <a:pt x="5482" y="2257"/>
                </a:cubicBezTo>
                <a:cubicBezTo>
                  <a:pt x="5450" y="2326"/>
                  <a:pt x="5454" y="2407"/>
                  <a:pt x="5432" y="2480"/>
                </a:cubicBezTo>
                <a:cubicBezTo>
                  <a:pt x="5414" y="2537"/>
                  <a:pt x="5398" y="2575"/>
                  <a:pt x="5383" y="2629"/>
                </a:cubicBezTo>
                <a:cubicBezTo>
                  <a:pt x="5367" y="2687"/>
                  <a:pt x="5345" y="2742"/>
                  <a:pt x="5333" y="2803"/>
                </a:cubicBezTo>
                <a:cubicBezTo>
                  <a:pt x="5317" y="2880"/>
                  <a:pt x="5294" y="2971"/>
                  <a:pt x="5283" y="3051"/>
                </a:cubicBezTo>
                <a:cubicBezTo>
                  <a:pt x="5273" y="3123"/>
                  <a:pt x="5270" y="3178"/>
                  <a:pt x="5259" y="3249"/>
                </a:cubicBezTo>
                <a:cubicBezTo>
                  <a:pt x="5254" y="3280"/>
                  <a:pt x="5244" y="3359"/>
                  <a:pt x="5234" y="3398"/>
                </a:cubicBezTo>
                <a:cubicBezTo>
                  <a:pt x="5222" y="3444"/>
                  <a:pt x="5192" y="3462"/>
                  <a:pt x="5184" y="3522"/>
                </a:cubicBezTo>
                <a:cubicBezTo>
                  <a:pt x="5179" y="3562"/>
                  <a:pt x="5187" y="3605"/>
                  <a:pt x="5184" y="36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1:19:33Z</dcterms:created>
  <dc:creator>School</dc:creator>
  <dc:description/>
  <dc:language>en-US</dc:language>
  <cp:lastModifiedBy>N Holden</cp:lastModifiedBy>
  <dcterms:modified xsi:type="dcterms:W3CDTF">2009-03-20T18:53:19Z</dcterms:modified>
  <cp:revision>3</cp:revision>
  <dc:subject/>
  <dc:title>Slide 1</dc:title>
</cp:coreProperties>
</file>